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898-CD1E-42EB-AB19-2B64CEE9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3D1-8FF7-4689-B8D2-64721B86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0AE-7910-414E-9962-6E69073A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EA2-3820-4854-B0F5-411CE667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3E1-B731-4A83-9906-B4A884C4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43A-5487-4838-AB8D-FEA28529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6E3-858C-4F3D-B787-3301BDE5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929D-C0E2-40D6-8BBC-7109504A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8A3-46E6-46D4-A284-9BDBB670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BA36-0921-4AC4-B3CC-1436BCE1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EB7-25AC-4566-8B25-E0B6E7EF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FA0-1981-414C-A360-ECE2E79E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A455-073E-4C9C-8AAB-BD2AB7A41E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7772400" cy="14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089800" y="1413000"/>
            <a:ext cx="505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下面，就请大家根据本次习作要求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思考一下：你要推荐谁？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学生讨论可以获得奖章同学的名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说说你推荐的理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669320" y="1052640"/>
            <a:ext cx="582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同学们，刚才我们只是简单地说了自己推荐的理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你们的推荐如何才能让人信服呢？还是先让我们来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篇例文：出示例文《未来的舞蹈家——杨玲》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读了这篇习作，你有什么感受？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这篇例文最值得我们借鉴的是什么？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）小结：①所有的事例都与杨玲爱好舞蹈有关。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②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推荐事例多的时候突出了重点，注意有详有略。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203560" y="1052640"/>
            <a:ext cx="4720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未来的舞蹈家——杨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要说我们班谁能成为“艺术之星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那我可要推荐我的好朋友——杨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她是“未来的舞蹈家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杨玲天生就是个跳舞的料。她身材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跳舞的时候就像一只翩翩起舞的蝴蝶，可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了。二年级的时候，学校开展兴趣班，杨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和我都报了名。每次一上舞蹈课，她就兴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得两眼发亮，面颊通红，而且从不缺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641680" y="981000"/>
            <a:ext cx="4107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记得有一次在兴趣班，上课已五分钟了，也不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杨玲来。她平时总是早到，这次会不会家里有事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正在我担心之时，杨玲气喘吁吁地来了，一坐下就咳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了几声，我一问，原来她感冒了。“感冒了还来，怎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能跳舞呢！”我帮她捶了捶背。“缺一次课就缺少了一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练习，多可惜呀！”但一跳起舞来，她竟然不咳了，好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能控制一样，她还是那样专心致志，把老师的任务完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得棒极了。可表演完之后，她又咳得满脸通红。我对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真是佩服。我问过她妈妈，杨玲在家里只要一有空闲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练习舞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229480" y="1052640"/>
            <a:ext cx="463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每逢双休日，她还要到少年宫参加培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每次练习要一个多小时呢！功夫不负有心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杨玲的努力没有白费。今年的“六一节”文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会演，她参赛的节目得了大奖呢。作为她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好朋友，我也感到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我真心推荐杨玲，因为她是当之无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未来舞蹈家”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044800" y="1125360"/>
            <a:ext cx="517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那么，详写的事例如何做到吸引别人呢？</a:t>
            </a:r>
            <a:r>
              <a:rPr b="1" lang="zh-CN" sz="1800" spc="-1" strike="noStrike">
                <a:solidFill>
                  <a:srgbClr val="9933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186200" y="62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请看例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286000" y="1268280"/>
            <a:ext cx="4447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他一拿到心爱的书，便兴奋得两眼发亮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满脸通红，迫不及待地翻开书，如饥似渴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读了起来。瞧他那双渴望知识的大眼睛，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不转睛地盯着书，好似有一块磁铁把他紧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吸引住了！一会儿，他的嘴角露出一丝微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定是被什么有趣的故事感染了；一会儿，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着急地抓耳挠腮，一定是在思考故事的情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怎么如此出乎意料；一会儿，他仰头哈哈大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定是被故事里的人逗乐了，这就是看起书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如痴如醉的徐华兴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22960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4268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449e"/>
                </a:solidFill>
                <a:latin typeface="Arial"/>
              </a:rPr>
              <a:t>主要奖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14360" y="1285920"/>
            <a:ext cx="74293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bbe0e3"/>
                </a:solidFill>
                <a:latin typeface="黑体"/>
              </a:rPr>
              <a:t>1</a:t>
            </a:r>
            <a:r>
              <a:rPr b="1" lang="zh-CN" sz="8000" spc="-1" strike="noStrike">
                <a:solidFill>
                  <a:srgbClr val="bbe0e3"/>
                </a:solidFill>
                <a:latin typeface="黑体"/>
              </a:rPr>
              <a:t>、阅读章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7bbff"/>
                </a:solidFill>
                <a:latin typeface="黑体"/>
              </a:rPr>
              <a:t>2</a:t>
            </a:r>
            <a:r>
              <a:rPr b="1" lang="zh-CN" sz="8000" spc="-1" strike="noStrike">
                <a:solidFill>
                  <a:srgbClr val="87bbff"/>
                </a:solidFill>
                <a:latin typeface="黑体"/>
              </a:rPr>
              <a:t>、表演章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8000" spc="-1" strike="noStrike">
                <a:solidFill>
                  <a:srgbClr val="ff0000"/>
                </a:solidFill>
                <a:latin typeface="黑体"/>
              </a:rPr>
              <a:t>、保健章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b050"/>
                </a:solidFill>
                <a:latin typeface="黑体"/>
              </a:rPr>
              <a:t>4</a:t>
            </a:r>
            <a:r>
              <a:rPr b="1" lang="zh-CN" sz="8000" spc="-1" strike="noStrike">
                <a:solidFill>
                  <a:srgbClr val="00b050"/>
                </a:solidFill>
                <a:latin typeface="黑体"/>
              </a:rPr>
              <a:t>、礼仪章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雏鹰争章”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雏鹰争章”活动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启动的“中国少年雏鹰行动”的重要组成部分。根据江泽民同志“自学、自理、自护、自强、自律，做社会主义事业的合格建设者和接班人”的题词精神，全国少工委从少年儿童的年龄特征出发，把对少年儿童的思想道德素质、科学文化素质和健康素质等方面的要求，具体内化为若干枚 “雏鹰奖章”，鼓励少年儿童从日常生活及学习的具体环节入手，通过定章、争章、考章、颁章、护章，不断为自己确立新的目标，发现自己的潜能，看到自己的进步，证明自己的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QQ截图20140225081926"/>
          <p:cNvPicPr/>
          <p:nvPr/>
        </p:nvPicPr>
        <p:blipFill>
          <a:blip r:embed="rId2"/>
          <a:stretch/>
        </p:blipFill>
        <p:spPr>
          <a:xfrm>
            <a:off x="468360" y="1052640"/>
            <a:ext cx="8353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42680" y="0"/>
            <a:ext cx="61722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黑体"/>
              </a:rPr>
              <a:t>阅读章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57240" y="999720"/>
            <a:ext cx="70725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b0043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ab0043"/>
                </a:solidFill>
                <a:latin typeface="Arial"/>
              </a:rPr>
              <a:t>、能广泛阅读课内外书籍，逐步拓展自己的知识面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ab0043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ab0043"/>
                </a:solidFill>
                <a:latin typeface="Arial"/>
              </a:rPr>
              <a:t>、通过各种途径，如网络、图书、报纸、电视等，了解更多自己感兴趣的知识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ab0043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ab0043"/>
                </a:solidFill>
                <a:latin typeface="Arial"/>
              </a:rPr>
              <a:t>、能运用所掌握的知识，解决日常生活中遇到的问题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ab0043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ab0043"/>
                </a:solidFill>
                <a:latin typeface="Arial"/>
              </a:rPr>
              <a:t>、虚心从同学、老师、父母身上，学习更多自己未知的知识，养成虚心好学的好习惯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42720" y="4996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</a:rPr>
              <a:t>保健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357280" y="2428920"/>
            <a:ext cx="6786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5100" spc="-1" strike="noStrike">
                <a:solidFill>
                  <a:srgbClr val="ff0000"/>
                </a:solidFill>
                <a:latin typeface="黑体"/>
              </a:rPr>
              <a:t>、体育方面：跑步、踢球、跳高、游泳等；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0000"/>
                </a:solidFill>
                <a:latin typeface="黑体"/>
              </a:rPr>
              <a:t>2</a:t>
            </a:r>
            <a:r>
              <a:rPr b="1" lang="zh-CN" sz="5100" spc="-1" strike="noStrike">
                <a:solidFill>
                  <a:srgbClr val="ff0000"/>
                </a:solidFill>
                <a:latin typeface="黑体"/>
              </a:rPr>
              <a:t>、讲卫生，身体健康，懂得许多健康知识；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0000"/>
                </a:solidFill>
                <a:latin typeface="黑体"/>
              </a:rPr>
              <a:t>     </a:t>
            </a:r>
            <a:r>
              <a:rPr b="1" lang="zh-CN" sz="5100" spc="-1" strike="noStrike">
                <a:solidFill>
                  <a:srgbClr val="ff0000"/>
                </a:solidFill>
                <a:latin typeface="黑体"/>
              </a:rPr>
              <a:t>等等方面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840" y="2785680"/>
            <a:ext cx="6643440" cy="18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50"/>
                </a:solidFill>
                <a:latin typeface="Arial"/>
              </a:rPr>
              <a:t>礼仪章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、将使用礼貌用语与人交流，作为一种自觉的行为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、平等待人，主动帮助有困难的人和残疾人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、尊重他人的民族习惯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b050"/>
                </a:solidFill>
                <a:latin typeface="Arial"/>
              </a:rPr>
              <a:t>、遇见外宾要有礼貌，热情大方，主动上前用英语与外宾交谈。 </a:t>
            </a:r>
            <a:br>
              <a:rPr sz="2700"/>
            </a:br>
            <a:br>
              <a:rPr sz="27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2-16T00:34:2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