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BAB-C76E-4FCE-B582-4454FF03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7E8-B4D6-4062-A3C1-EF3CFA37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973-F141-43CC-BEF2-D3A59D89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D90-0F24-4EE2-A476-219EF639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F90-B8F0-43D8-BCE9-193492FC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D4F-4D66-43BE-B768-7D4421AA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799-EA2C-408B-B7D4-226C6BA9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FB0-0C19-4EF4-BF30-863BC3CD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DF0-D7DD-4454-A9AE-9C8CA7F8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BD3-9B3D-41C5-8110-3CF81C27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1AD-3F25-4B3E-BB00-7F0D94CC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7BD-5E4F-4915-A373-26BFDEBC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E097-1116-46A8-A630-01B9469017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85800" y="1125360"/>
            <a:ext cx="77724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事发后，日本有关部门对这一事件进行了详细的调查，发现死者生前都饮用了某商店周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口水井的水。其中饮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号水井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人全部发病。在对水井进行调查时，令人震惊的是竟然在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号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内的地方挖出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已腐烂的废电池！追根溯源，最后弄清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8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废电池是该商店在卖出新电池后，把顾客丢下的废电池集中埋在了后院，致使周围井水污染，从而导致了这场悲剧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362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过量的锰蓄积于体内可引起神经功能障碍，早期表现为综合性功能紊乱，较重的出现言语单调，表情呆板，感情冷漠，伴有精神症状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期食用受镉污染的水和食物，可导致骨痛病，镉进入人体后，引起骨质软化骨骼变形，严重时形成自然骨折，以致死亡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3026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锌的盐类能使蛋白沉淀，对皮肤和粘膜有刺激作用，当在水中的浓度超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-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毫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升进有致癌的危险，可引起化学性肺炎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许多人都听说过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5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在日本九州熊本县，发生过震惊世界的水俣病事件，这里的村民一个个神秘在死去，却一时查不出病因，后来以现罪魁祝首是汞化合物，上游的工业污染造成汞在鱼体内积累，当人们食用这种受汞污染的鱼后导致中毒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248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池再也不能供电了，成了一颗废电池，通常情况下人们就随手一丢，再买过另一颗新的。大多数人会说，这是很正常的哩。但他们没有想到，就在那举手投足之下，也是在破坏他们的家园 —— 地球。也许有人会问： “ 就这么一个小东西对于地球来说，能有什么了不起呢！还说什么破坏？ ” 电池看上去并不那么具有破坏力，但是看东西不能全看表面。废电池里含有大量重金属汞、镉、锰、铅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2400" y="260280"/>
            <a:ext cx="24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废旧电池的危害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废电池日晒雨淋表面皮层锈蚀了，其中的成分就会渗透到土壤和地下水，人们一旦食用受污染的土地生产的农作物或是喝了受污染了的水，这些有毒的重金属就会进入人的体内，慢慢的沉积下来，对人类健康造成极大的威胁！据测量一节一号电池烂在土壤里，可以使 一平方米 土地失去利用价值；一个扣钮电池可以污染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0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升水，相当于一个人一生的饮水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近全球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亿人来计每个月每人丢一颗电池，一年累积下来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亿颗电池，对地球的破坏力可说是很大的了，其对人类健康危害造成的后果更难以想象了，据统计，仅 北京市 每年因废电池而进入自然环境的汞竟然达到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9.6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吨，这数目不能不让人头痛。所以废旧电池是不可以随意丢弃的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8229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首先我们把这件事情当作真实来对待才有评价的意义。假如当时真有武松打老虎，我认为他依然是英雄，因为说是否爱护野生动物是在现代提出来的，我们对待古人就不该用现代人的观念来看待，而应该用古人的道德观去看对他。其二，在宋代老虎数量远比现在多，我们保护野生动物是因为它们快要灭绝了，试想谁会保护多得杀都杀不完的老鼠呢？第三，老虎当时的确害人不浅，死于虎口的人很多，而老虎也不是普通人能降伏的，因此武松能杀死老虎，在当时的人们来看是英雄，而我们看待他也应该用当时人们的眼光去看待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武松是不是“英雄”？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PMingLiU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浒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中“武松打虎”的故事可以说是无人不晓。武松在景阳冈赤手空拳打死恶虎，为民除了一害，成了家喻户晓的“英雄”。可是如今却有同学提出了不同的看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武松打虎是不爱护野生动物的行为，他还能称得上英雄吗？对此，我想谈谈自己的观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武松究竟是不是英雄？我的回答是肯定的。因为他并不处于我们现在这个时代，那年头也没颁布什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野生动物保护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老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很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而且还常常吃人呢。被武松打死的那只老虎，就不知吃掉了多少经过景阳冈路口的人，造成了无数家庭家破人亡妻离子散，闹得方圆百里的人们惶惶不可终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404640"/>
            <a:ext cx="822960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所以当恶虎扑向武松时，他奋力打死老虎，为人们铲除了一大祸害，怎能不算英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55640" y="404280"/>
            <a:ext cx="6912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可是，如今老虎的生存环境越来越差，数量也已大大减少，人们意识到保护生态平衡的重要性，所以国家颁布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野生动物保护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老虎也在受保护之列。在这种情况下，武松该如何对待猛虎，就值得考虑一番了。依我看，面对老虎凶猛的攻击，自卫当然是必要的，但可以不一下子置它于死地，好歹还给它留条活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332000" y="98100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或者想法子脱身，再大声向别人求救。现在制服猛兽不是常用麻醉枪吗，这也是个很好的办法。而有的人为了经济利益，为了得到老虎的皮毛而故意猎杀它们，那就是违法行为了，理当严惩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其实，现在的老虎已经很难有机会像当年在景阳冈那样逍遥自在地伤人了，“武松打虎”这一幕如今也不太可能发生了。国家还为老虎等动物建立了野生动物自然保护区呢，就是为了给它们一个好的生存环境，做到人与动物友好和谐地相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最后，我要再次申明我的观点：武松是一个英雄，是他们那个时代的大英雄。那个时代与如今颁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野生动物保护条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的时代完全不同，二者不可相提并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PMingLiU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、审清题意，确定话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自己的看法首先必须十分明确。比如本文作者在一开始就亮出了自己的观点：武松是英雄。接着再列举出若干理由，这样文章显得脉络清晰，层次分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二、查找资料，充实证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掌握翔实资料，旁征博引，方能做到说理透彻，行文有力。要说清武松到底是不是英雄，就得先熟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浒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了解当时的打虎背景，让读者弄清此虎多次吃人，已成为当地一害，然后称武松打虎是英雄壮举才有说服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218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三、精心拟题，重视结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题目可直接亮出讨论的话题或自己的观点。结尾呢，可以扣住题目再次强化自己的观点，让别人牢牢记住，既呼应了开头，又点明了中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专家：“非典”由野生动物传播这一说法，尚未得到医学上的权威定论。但有一点可以肯定：食用野生动物，确实有染病的危险。包括蛤蟆、蛇、龟在内的所有野生动物，体内都携带寄生虫、病毒及结核菌。不是食用了野生动物就会引起，而是食用得太多太过分了。 凡事要把握度，超过度就会有灾难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常见的有狂犬症病毒、鼠疫杆菌、炭疽杆菌。前几年在广东地下交易十分兴旺的旱獭曾引发了烈性传染的鼠疫。幸好有关部门及时防范，并对旱獭交易进行了严厉打击，旱獭很快绝迹于广东的餐馆酒楼。大约在上世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代，为修铁路，前苏联数万铁路工人开进了西伯利亚茂密的原始森林，到达不久，便相继被一种诡秘的疾病所困，并引发大批人员死亡，连派去救援的医疗人员也未能幸免。后来莫斯科派去的科学家发现：这种诡秘的疾病是由当地的狼、鹿携带的病毒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3026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要是食用野生动物，都有致病的可能。食用者以煎、炒、炸等手段根本无法确保杀死携带在其肌肉、血液及内脏里的病毒及寄生虫。以青蛙为例：受绦虫感染的青蛙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1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个不慎，这种寄生虫在人们食用过程中进入肠胃后寄生，然后又产幼虫顺血液钻入体内各部，如进入人脑的话，它将导致失明、瘫痪、癫痫，甚至死亡。蛇，更因以鼠为食，其体内的寄生虫种类更是举不胜举，其伤害往往带有长短不等的潜伏期。所以，我们呼吁：千万不要贪图一时口福，留下一世遗恨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1052640"/>
            <a:ext cx="86421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可推卸的责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据报道，非典是有果子狸体内携带的病毒引起的，这难道要怪野生动物吗？不，这终归要怪我们自己。有些人污染森林，使有毒的物质流入了森林，野生动物也就中毒了，所以这是我们自己的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247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在网上看见过这样的一些报道，一些国家保护动物竟然出现在一些餐馆的菜单上，这让我很震惊。如果所有的人都像他们一样的话，那国家还有没有法了？还有没有人去遵守了？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据我所知，世界上每过一个小时就会有三个物种消失，那一天就会有七十二个物种消失，一个星期就会有五百一十四个物种消失，一个月过去了，一年过去了，会有多少物种消失你算过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我们一起保护环境，让野生动物不再消失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位农民种了一大片玉米，玉米快成熟了，却被野猪吃了不少，以前野猪一来，可以开枪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现在有了《野生动物保护法》打不得了，可不打它，它就糟蹋庄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此，农民叫苦不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驱赶野猪方案  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位农民种了一大片玉米。玉米快成熟了，却被野猪吃了不少。过去，野猪一来，可以开枪打，可现在有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野生动物保护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野猪打不得了！可是你不打它，它就糟蹋庄稼。为此，农民们叫苦不迭。这可该怎么办呀？所以，我们要想一个十全十美的好办法才是呀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136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160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首先，我觉得打是打不得了，如果打了的话，那就是犯法。为了把野猪真正治服，我想出了几个办法。第一招：可将菜地周围围上结实坚固的篱笆或者搭建一个棚子。这样既可不让野猪糟蹋庄稼，而且能够不让庄稼受到风吹雨打呢！第二招：当野猪来临时，可燃放烟花爆竹来驱赶野猪。这样，野猪受到惊吓，就不会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424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招：可以放一些食物在野猪经常出没的地方，只要野猪吃得饱饱的了，就不会再吃庄稼了。第四招：如果野猪对你的庄稼造成的损失太大的话，你可以向政府索要适当的赔偿，因为私人财产不可侵犯！第五招：可以想方设法把野猪捉住，送进野生动物园。以上是我的建议，保证能把野猪治得服服贴贴的。请农民们快对野猪进行适当的措施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82296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3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，日本神奈川县某脑科医院收留了一名神智不清的男子。这名男子发病初起时只是原因不明地面部浮肿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后浮肿蔓延至脚部，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开始现力减退，自言自语，不断哭泣，后发展为神志不清，人们都认为他“疯了”。这名男子被送进医院后，终于在极度痛苦中，因心力衰竭死亡。无独有偶，此后，与死者同村居住的人中又接二连三地出现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同样症状的“疯子”。这不得不引起了医学研究人员的注意。经过神奈川县卫生研究所的调查和尸体解剖，断定这些“疯子”都死于重金属中毒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2-16T00:34:2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