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1B7E-6750-411D-A806-5C990761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4234-BFE4-4453-98A3-44E0A031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494-D9A9-4FBE-B2D1-B1C15EB8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D183-10E4-4DA6-A4ED-3EAC8E5B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BFDA-598F-4B9E-86DE-A4F38DBE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3B25-F778-43AD-95EF-ED5EB386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7EB3-B979-495C-B90D-7D8C211C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3BBD-53ED-4E8C-9309-1D8EC964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CAB2-6386-4887-A03C-B2AEA3DD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4647-99BB-4DC5-A2AA-D947D232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7CE4-96C7-4A34-8D27-86636D74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B01B-2B6A-4533-8EE2-4598CD84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356E-4F7E-4A2C-88E6-847B0DF7F7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1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6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32000" y="2565360"/>
            <a:ext cx="70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黑体"/>
                <a:ea typeface="黑体"/>
              </a:rPr>
              <a:t>生活中的新发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92360" y="907920"/>
            <a:ext cx="58388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苏教版四年级语文下册</a:t>
            </a:r>
            <a:endParaRPr b="1" lang="en-US" sz="1800" spc="-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习作</a:t>
            </a:r>
            <a:r>
              <a:rPr b="1" lang="en-US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3</a:t>
            </a:r>
            <a:endParaRPr b="1" lang="en-US" sz="1800" spc="-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47640" y="836640"/>
            <a:ext cx="6193080" cy="366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5080" y="404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校园中的发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天，我在校园里散步，不知不觉来到了花坛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惊喜地发现桃树抽出了嫩绿的枝条，长出了一个个花苞，花苞象是一个个害羞的小姑娘，把半个脸蛋藏起来。瞧，那边的山茶开得多旺，红的象火，白的象雪，我摘下一片花瓣，摸一摸，软软的，象绒布一样，闻一闻，有淡淡的清香。花坛里一丛一丛的小草似乎刚从大地妈妈的怀抱里苏醒过来，它们偷偷地探出小脑蛋，揉着惺忪的眼睛，打量着这个陌生而又美丽的世界！这些小草有的是深绿色的，有的是淡绿色的，还有的是浅绿色的，一阵微风吹来，小草便跳起了摇摆舞，还不时发出“沙沙沙”的声音，好象在伴奏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476360" y="620640"/>
            <a:ext cx="7137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习中的发现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次，叔叔送给我一只小狗，我最喜欢小狗了，它很活泼总是蹦蹦跳跳的，很可爱。叔叔看这我玩的正高兴，想为难我一下，让我称一下小狗的重量。我就把爸爸平常量体重的电子秤搬出来，把小狗放上去，可是，它太调皮了，我一放上去，它就跳下来。我非常生气，但又没有什么办法，只好垂头丧气地坐在地上。叔叔看我不开心就对我说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可以用一个洗脸盆装这小狗一起称，在减去盆的重量就可以了！”我一下子就蹦起来了。这么简单的事情我怎么就没想到哪？可是小狗在盆里也不老实总是乱动，电子秤上的数学也跟着蹦，看不清楚，但是我有办法，我把洗脸盆去掉，自己抱着小狗一起站在电子秤上，这样：我和小狗的重量－我的重量＝小狗的重量。叔叔夸我真是个机灵的小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692360" y="476280"/>
            <a:ext cx="6840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生活中的发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有一次，我坐车回家的时候，正在欣赏窗外的美景。突然，我发现小轿车的车窗是斜的，像一座小山坡似的，而公交车的车窗却是直的。众所周知，小轿车车窗倾斜的原因是为了减少风的冲击力，但是公交车的为什么是直的呢？我带着这个问题咨询了爸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619280" y="404640"/>
            <a:ext cx="6913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健康中的发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问题浮上了我的脑海：人有很多器官，每种器官都有它的用途，那我们的肚脐眼又有什么用呢？我问妈妈，妈妈让我自己去发现，我抬了抬眼镜，心中下定决心不能让妈妈小瞧我。一回到家，我就打开无声的老师——书来一查究竟。终于在《十万个为什么》中找到了答案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03280" y="476280"/>
            <a:ext cx="727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意中的发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天早上，我接了一杯水准备刷牙的时候，突然发现我的牙刷好像折了，我迷惑不解地看着牙刷，非常好奇，因为我刚才放进去的时候还好好的，怎么这会一放进水宝宝的肚子上就无缘无故地折了呢？难道是水宝宝咬断的吗？想到这里，我赶紧把“折”了的牙刷拿出来准备换新牙刷，奇怪的是牙刷离开水宝宝后竟然是完好无损的。于是我赶快跑到客厅向妈妈问个究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03280" y="40464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趣的实验中的发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咦，那是什么？只见表姐的杯子里装满了水，而且里面的蛋竟然是浮着的！我大声嚷嚷：“我也要来玩！”妈妈就答应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好不容易挨到回家了。刚进屋我就忙着做实验。我先打来一杯水，又试着放了几勺盐，还搅了一下。妈妈把鸡蛋放进去。不一会儿，鸡蛋真的浮起来了。我的嘴张大得可以吞下一个西瓜。怎么回事？我赶快去查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332000" y="693720"/>
            <a:ext cx="741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发现的地点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可以是校园里、家庭里、社会上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发现的对象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可以是关于人的发现、关于事的发现、关于景的发现、关于物的发现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发现的原因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可以是无意中的发现，也可以是长期的、追踪观察的发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发现的过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可以是个人的独立发现，也可以是多人合作的发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发现的结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可以是得出了明确的、确切的结论，也可以是暂时还未得出最终结论，但已取得阶段性成果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360" y="837720"/>
            <a:ext cx="6697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只要大家留心生活、用心观察与思考，你就会发现：我们在生活中也会有一些新的发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771640" y="692280"/>
            <a:ext cx="470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我发现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1486080"/>
            <a:ext cx="533880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习作提纲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我准备写的主题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事情的起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事情的经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事情的结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受到的启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3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3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3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3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3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476000" y="907560"/>
            <a:ext cx="705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著名的艺术家罗丹曾经说过，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于我们的眼睛不是缺少美，而是缺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发现。牛顿在苹果树下休息发现了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有吸引力；瓦特发现壶盖在跳动发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了蒸汽机。有多少发现，就会给人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来多少惊喜。可见，发现是一个特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了不起的本领，谁掌握了这个本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谁就有可能创造奇迹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9280" y="620640"/>
            <a:ext cx="5616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学习例文，迁移写法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（按课文预习的步骤“三读”例文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63640" y="2349360"/>
            <a:ext cx="61214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一读例文，读准字音，读通句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476360" y="1628280"/>
            <a:ext cx="71992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二读例文，了解大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奶奶要“我”做什么事？“我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是怎么做的？为什么开始挑了约半小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还有一大堆？为什么后来不到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分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我”就巧妙地分开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按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发现问题――探究问题―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解决问题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”把例文分成三部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619280" y="404640"/>
            <a:ext cx="5616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学习例文，迁移写法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（按课文预习的步骤学习例文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33920" y="2060640"/>
            <a:ext cx="4112280" cy="19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三读例文，学习写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小作者是怎样按事情发展的顺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具体写好“分豆”经过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404640"/>
            <a:ext cx="561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学习例文，迁移写法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（按课文预习的步骤学习例文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620360" y="1341000"/>
            <a:ext cx="70786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事情的起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红豆和黄豆混在一起了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事情的经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“我”在挑豆子着急的情况下猛推茶几后有了新发现，找到答案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事情的结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“我”巧妙地分开了红豆和黄豆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20720" y="404640"/>
            <a:ext cx="5616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事情发展的顺序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476000" y="1628280"/>
            <a:ext cx="68389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按事情发展的顺序写，一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步写清事情经过中人物，怎么做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怎么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写作过程要抓住人物的动作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语言、神态、心理活动来写。这样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真实可信，让人乐意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549360"/>
            <a:ext cx="280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学习写法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: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9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402920" y="1485720"/>
            <a:ext cx="7201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莫名其妙  疑惑不解  迎刃而解  千方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开眼界  绞尽脑汁  冥思苦想  想方设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恍然大悟  真相大白  豁然开朗  喜出望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欣喜若狂  眉飞色舞  心悦诚服  兴致勃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饶有兴趣  捉摸不透  茅塞顿开  如愿以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549360"/>
            <a:ext cx="280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成语宝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00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世上无难事，只怕有心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山重水复疑无路，柳暗花明又一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踏破铁鞋无觅处，得来全不费工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9280" y="549360"/>
            <a:ext cx="280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名句集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2-16T00:34:22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