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673E-56B2-4135-BA01-CAB517CC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819-904E-41B8-B2D0-CF4B6577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92412-C1BD-480E-9EC1-DCD75479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7F6E1-3454-48D1-90FC-4107F3FA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6332A-3BAA-480C-B0AC-B9F2AD8A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66F3D-547D-475C-8C23-F5FCC8C6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090BF-F43E-424F-B848-8E751B4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6A150-8E4F-4A22-AC75-B6E27C55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19DCE-2D3F-4F8B-B550-2F3E442B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62487-CB42-42BA-973B-4D3CC38B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02829-00D4-413C-AF62-37CCD825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7F30A-122A-4AD3-9676-EEA49FCF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A23-C5E4-4D8A-9756-44D1B516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63F26-812C-48CF-B1A2-65EE0C4C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A05EF-C871-44DF-A485-34358A18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66884-DBF9-4C09-A2CD-E4177CE0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24274-C734-4703-A592-E421AD43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8AC0C-11C0-45E6-8AAF-8A299791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99318-80A9-4A60-AE66-D9043B10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C4426-4170-46D3-ABFF-1CEBB6B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A448C-2D41-4E93-852D-6C5BF645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9E4EC-B312-46D8-B386-BB13FB3D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B56CD-DFFD-41E7-B611-671E38AD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CD3-12DC-408C-AEC7-39595563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EDDCB-37F0-467C-97A5-96BB9C11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1A397-6076-4B39-979F-8855DBC4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C0716-7AEA-4DDE-94D4-9CDC30BE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FF92E-9710-4B30-A726-7AA7F2A6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FEF2D-7194-4F5F-9CB4-9171C189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AA28C-5FD9-4A9E-AC0B-A66A42BC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365A3-E4E1-4B80-A5D4-CC969BC3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AFB4F-0036-4ADB-B9F7-643B5A8C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13ACD-3488-4725-A43F-7754C649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463F4-8FCA-45F6-9D2B-814AD55A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20BE-A642-4A99-9311-B37EADA1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4F78F-53FD-4749-821C-95BE316A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EECB8-54DD-4525-BD71-D914D3C1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851A9-17A4-4F2E-B950-D220E914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82BB3-C840-4198-9EC7-D16D448F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F4E3A-85C3-483F-AD98-E62A193C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0C324-A6DE-49D4-BB5C-673DBA98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855E2D-D858-41F5-9B55-3174065D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8C8EA-0032-451E-9F2E-8E8AC869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0CC2F-69E2-49AF-8B83-45DAFB6C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02E35-4FB3-409C-BD93-8B8DB7E7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78D1-9D19-417F-94EC-6B37FB7C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5EDF7-68A4-4798-8CCF-BEF1862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38A7F-BC5F-46D9-92D1-C82FA5C5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28141-0029-440F-B4C8-597840DA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04567-9A1C-48A6-84E0-844AC2A0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33567-D3E9-42E6-AA7D-D93AAB35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A57D-2A65-4CF0-A627-F433CCDE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5C44-3378-4D52-A39F-FF398E37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8BE1-BFB3-46D5-8D65-0FF76135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2286-D151-47CD-A2E8-B73DF93F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F786-B407-4853-955C-182E9623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635-E98D-4E42-931A-5A7C7FE4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4952-B05A-4EEC-BDD3-BB489DDD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3CC1-1141-4CE2-8D01-ECCDBD87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B04D-4408-471B-ADF9-3F715D2C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BEDF-55D8-4AD6-8694-79FAD418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37CF-977F-43B0-90DD-1D5980B3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4186-94A2-4F21-81E2-6A6A1B74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20902-D4AF-4818-9A9D-7EC1DC67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85849-115A-4FDC-8C05-783D7226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B185-6C47-4F4F-8F93-536CFBD5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B48D-ADF1-473F-955F-596ED2F1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481-2919-40DC-A08C-2467100D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2472-4941-41CD-B6F6-C6953BC1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9B41B-CE50-4610-8CB2-F9B06624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6D44-6E5F-4B2E-B3BD-61EA1542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035AF-A7E7-48C9-971C-3C79D977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CAF9F-6211-4D9B-942A-D2606F4A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7CB9-0702-4CDB-8B1B-DB0D73DD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13ED-3D65-44F9-9974-DF523752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98D5-6B6B-426E-A717-7554842B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48CB5-CD99-455E-8856-F8DEAD8F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318CB-D7D7-4CFF-83C7-E6A44ECF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88D-C7BF-4E83-B27D-81283A36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746F8-66E9-495E-9970-29244A02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08E35-F1A2-4D88-80AF-F78EC24D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9A99-4759-4646-9F17-F0C79F37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6D933-EA25-4FD7-B6D0-4A73D62C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8EF8-25A8-4C90-9462-0F23C7DE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65B9-0444-471D-A8DA-D1A2595E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D6C3F-9B8A-4CA4-AE0A-44D39C37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3E940-79AC-4527-A0E4-4E50F0B7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C01C-3FDF-4780-920A-F55248B1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239D-C94F-4757-AE9A-96435B455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533A-555E-4B67-9DEA-44A380E4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0BD58-A228-495E-AD92-C70E1AE9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E1A5F-0CE6-44E1-82E4-AEDC4C9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E9B83-64E5-410C-8714-102FBCB6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9A49B-E485-41E3-8388-60A4F1FA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05E6C-DE27-4ACA-8832-5C673C85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E6DFA-DADF-4C97-AE8B-33EF1C3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0AF4A-2C49-4101-9EF2-A2C4953F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EE18C-EF0C-4FCE-B8C6-A63F11A4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39AD-5776-4AB9-A9B0-F8FC2384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C6E2F-3AA8-499B-BC13-2CE4D18E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DA8-3E07-4D3E-9064-C4D5CA5D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9E1B3-41D9-46E5-84C5-B056AE2F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4B0F6-6C66-49EE-8557-97CE46A3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0210D-93D7-4627-BE36-21DC580A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5B14E-7F16-4196-92EE-8D548F9D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CD30B-8F4F-4F77-A034-B992753D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4C128-35C3-4E0A-B60E-39AC7206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D6DE0-EC56-4FAA-9223-10E48B51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07C39-1B4A-4B3D-8342-6133DC45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9967A-0B4E-47C8-B3EB-448C00DE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48284-0031-4CA1-9636-091B5DD5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37EF-9687-41D9-9FF5-5FBC8A77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F9351-058A-4290-BE9D-12B3BFC8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901E4-49B3-41B7-A9AD-3CB0A0A4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E8037-E4CE-451C-A3CC-DF2FFF02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2610C-334E-4C28-9A37-DA81C283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A4EEE-8EC7-4BAD-929D-636DBD6E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45E95-8F7A-4DB2-BCE7-0F37EB71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6125-6125-45DC-B3AC-3D273D39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6531F-DA43-4BD5-98B1-843C8F1A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88CD1-C68F-4865-9F08-D82E8826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7BC54-6807-4BA6-BDC0-F1FDC5DB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865-5761-4742-9E5C-F753B91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00039-8483-441D-97F8-D2C86227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83DB2-C1A8-4657-ADD4-79949662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5E245-378B-4E1B-B382-FB1A7D54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220DC-C0F6-45CB-9DAC-1FAB5EBD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80AC-27F6-4FAC-B1D5-E384743C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E93D9-276D-4914-9360-95701FA6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62DA5-92BF-48F7-ADD4-9A54D48A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D638F-3383-4CB7-AD85-8F8E1395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1CAA7-E708-44A9-B3BE-D7EF09FD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1040B-9CD1-4EFA-AC84-78D36E86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582-6009-465D-B101-AE0A8F09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01405-7249-4C1C-8693-C34E8E11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DDB40-EACF-432F-976C-6B9B8922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F6EA4-304C-4CE3-BD15-27AB171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FB88C-73FC-4B11-8D85-579C07E7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B171B-87DE-4877-8824-05B818D3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E73D5-5CA1-4324-ABD1-51932691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A76B4-B731-4BCF-B15F-B734F5B5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1F2FF-C975-492D-B77F-4320046A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99035-1D7B-49E5-B8B7-86B7EF7A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69F0A-AA80-4555-A15F-E59D7B54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B6F1-DB54-4560-8B54-F1B18B6DC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8008-F2E5-445E-BDAF-DCFE7AE58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1731-D2C7-4853-9886-2C328C6B8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D1D7-94C5-43C5-817A-38954328C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5F98-1A63-4CD8-8473-DC3395E78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86DB-340F-4C44-B4C8-BCC346292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8AEA-413B-4FCE-8A47-BE8E9E5C2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C06C-904A-4125-A7C2-13FF05361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F6ED-2B50-4D99-99AA-612114EFB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2B2E-DD8E-4AEE-89A5-8144BEA09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4F49-4363-4782-B71C-F0F6F6695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E7DA-9DF9-40CA-AE04-133D332D9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2"/>
          <p:cNvSpPr txBox="1"/>
          <p:nvPr/>
        </p:nvSpPr>
        <p:spPr>
          <a:xfrm>
            <a:off x="2050920" y="1484280"/>
            <a:ext cx="5616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记一次班级讨论会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86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陈世骐同学说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应该在每一个四人小组中选出一个组劳动委员，让他来负责周边的环境卫生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王云同学说：“接着陈世骐同学的话说，该让每个小组劳动委员为组成员们计分，捡着一个垃圾算一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有同学补充：“看看月底谁的分最高，谁就是‘环保小卫士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听了大家的发言，最后宋老师说道：“嗯，大家说得不错，我们就按陈世骐、王云两位同学的建议，保护环境，争做‘环保小卫士’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2080080" y="1197000"/>
            <a:ext cx="42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[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调查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]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校园周边是交通事故多发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468360" y="2133720"/>
            <a:ext cx="80643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国每年有超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8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岁以下儿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死于交通事故，是欧洲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、美国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。而事故多发地，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急救中心一名从业多年的医护人员说，是“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校园周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anquan"/>
          <p:cNvPicPr/>
          <p:nvPr/>
        </p:nvPicPr>
        <p:blipFill>
          <a:blip r:embed="rId1"/>
          <a:srcRect l="0" t="0" r="35006" b="0"/>
          <a:stretch/>
        </p:blipFill>
        <p:spPr>
          <a:xfrm>
            <a:off x="539640" y="333360"/>
            <a:ext cx="3961080" cy="40194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u=3918584532,3700307&amp;fm=23&amp;gp=0"/>
          <p:cNvPicPr/>
          <p:nvPr/>
        </p:nvPicPr>
        <p:blipFill>
          <a:blip r:embed="rId2"/>
          <a:srcRect l="0" t="0" r="1255" b="25868"/>
          <a:stretch/>
        </p:blipFill>
        <p:spPr>
          <a:xfrm>
            <a:off x="2916360" y="3618000"/>
            <a:ext cx="3484440" cy="24019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691b1bdd3cd675d76f7297a26c67d563"/>
          <p:cNvPicPr/>
          <p:nvPr/>
        </p:nvPicPr>
        <p:blipFill>
          <a:blip r:embed="rId3"/>
          <a:srcRect l="0" t="53186" r="2396" b="0"/>
          <a:stretch/>
        </p:blipFill>
        <p:spPr>
          <a:xfrm>
            <a:off x="5181480" y="838080"/>
            <a:ext cx="36198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常情况下，被教育的往往是孩子。但是，通过观察，我们发现了一个现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上学、放学的路上，存在不安全行为的不只是学生，还有学生家长，尤其是爷爷奶奶们。家长骑着自行车、电动车，逆向行驶，险象环生，对孩子的安全构成了不小威胁。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急救中心医务人员不完全统计，在中小学生意外事故急救中，交通事故占很大比例，而这些事故往往是由大人造成的，并因此连累了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101296123"/>
          <p:cNvPicPr/>
          <p:nvPr/>
        </p:nvPicPr>
        <p:blipFill>
          <a:blip r:embed="rId1"/>
          <a:srcRect l="0" t="10463" r="4347" b="30235"/>
          <a:stretch/>
        </p:blipFill>
        <p:spPr>
          <a:xfrm>
            <a:off x="826920" y="1981080"/>
            <a:ext cx="7021800" cy="281952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1187280" y="404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家长骑车带着孩子，在机动车道逆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684360" y="1125360"/>
            <a:ext cx="770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围绕交通安全这一话题展开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在哪里看到过哪些不遵守交通法规的现象？有没有造成什么恶果？当时你有什么想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遵守交通法规的重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增强小学生及家长的交通安全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20121221111209760"/>
          <p:cNvPicPr/>
          <p:nvPr/>
        </p:nvPicPr>
        <p:blipFill>
          <a:blip r:embed="rId1"/>
          <a:stretch/>
        </p:blipFill>
        <p:spPr>
          <a:xfrm>
            <a:off x="0" y="0"/>
            <a:ext cx="4500720" cy="3313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201101281735597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274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2012924165017414"/>
          <p:cNvPicPr/>
          <p:nvPr/>
        </p:nvPicPr>
        <p:blipFill>
          <a:blip r:embed="rId3"/>
          <a:srcRect l="7960" t="8757" r="7059" b="0"/>
          <a:stretch/>
        </p:blipFill>
        <p:spPr>
          <a:xfrm>
            <a:off x="4535640" y="3500280"/>
            <a:ext cx="4608360" cy="3357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u=783688203,3507671175&amp;fm=23&amp;gp=0"/>
          <p:cNvPicPr/>
          <p:nvPr/>
        </p:nvPicPr>
        <p:blipFill>
          <a:blip r:embed="rId4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547640" y="333360"/>
            <a:ext cx="6337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通安全宣传标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秒钟车祸   一辈子痛苦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遵守交规   储蓄安全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礼让礼让   人车无恙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遵守交规   善待生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字路口易闯祸   一慢二看三通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礼让平安行    冲撞祸根生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遵守交通法规    平安与你同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讨论交流，整理对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如果将刚刚的讨论整理成一篇文章，你想定下什么题目？ 回忆、整理刚刚组内同学的对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片9"/>
          <p:cNvPicPr/>
          <p:nvPr/>
        </p:nvPicPr>
        <p:blipFill>
          <a:blip r:embed="rId1"/>
          <a:stretch/>
        </p:blipFill>
        <p:spPr>
          <a:xfrm>
            <a:off x="3419640" y="4292640"/>
            <a:ext cx="32400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记一次班级讨论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0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有详有略 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内容具体   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标点符号使用正确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图片1"/>
          <p:cNvPicPr/>
          <p:nvPr/>
        </p:nvPicPr>
        <p:blipFill>
          <a:blip r:embed="rId1"/>
          <a:stretch/>
        </p:blipFill>
        <p:spPr>
          <a:xfrm>
            <a:off x="6300720" y="2637000"/>
            <a:ext cx="19432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16000" y="162864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同学们，生活中经常会发生一些值得我们关注的事情。请围绕最近发生的这类事情，相互间谈谈看法，再写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、自由读例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文章主要是围绕什么话题展开叙述的？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作者是怎样描述同学们讨论的？并尝试概括要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小组交流概括的要点，选派代表向全班汇报学习收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1403280" y="85572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学习例文，体会写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11280" y="1197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一场突如其来的疫情，打乱了人们的正常生活。一时间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了人人关注的大事。为了让同学们科学地认识疫情，以坦然的心态对这场没有硝烟的战争，戴老师在班上举行了一次讨论会，要大家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问题发表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5378400" y="4222800"/>
            <a:ext cx="3765600" cy="26352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"/>
          <p:cNvSpPr/>
          <p:nvPr/>
        </p:nvSpPr>
        <p:spPr>
          <a:xfrm>
            <a:off x="1763640" y="508464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（介绍事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539640" y="1557360"/>
            <a:ext cx="813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讨论会开始了。有的同学介绍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非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病毒的特点，有的同学介绍了预防的方法，有的同学介绍了无私无畏的白衣天使的感人事迹，还有的同学说到一些不法分子乘机出售不合格的口罩、消毒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"/>
          <p:cNvPicPr/>
          <p:nvPr/>
        </p:nvPicPr>
        <p:blipFill>
          <a:blip r:embed="rId1"/>
          <a:stretch/>
        </p:blipFill>
        <p:spPr>
          <a:xfrm>
            <a:off x="5378400" y="4222800"/>
            <a:ext cx="3765600" cy="26352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4"/>
          <p:cNvSpPr/>
          <p:nvPr/>
        </p:nvSpPr>
        <p:spPr>
          <a:xfrm>
            <a:off x="1258920" y="5157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（概括总体情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611280" y="333360"/>
            <a:ext cx="777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冰洁同学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和爸爸、妈妈天天看报纸，看电视，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情的最新情况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蔚同学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妈妈参加了医院的紧急救护工作。我盼望着她早日平安回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琦君同学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可以给医生、护士门写一封信，慰问他们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罗剑锋同学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要写篇稿子寄给报社，谴责不法分子昧着良心发灾难财的犯罪行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完还晃了晃拳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5796000" y="4508640"/>
            <a:ext cx="3348000" cy="234936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4"/>
          <p:cNvSpPr/>
          <p:nvPr/>
        </p:nvSpPr>
        <p:spPr>
          <a:xfrm>
            <a:off x="1476360" y="5589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（具体发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971640" y="19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戴老师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大家谈得非常好，我们可以写下来，让人们了解我们的心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5378400" y="3645000"/>
            <a:ext cx="3765600" cy="26352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4"/>
          <p:cNvSpPr/>
          <p:nvPr/>
        </p:nvSpPr>
        <p:spPr>
          <a:xfrm>
            <a:off x="1835280" y="5013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（总结全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2050920" y="600120"/>
            <a:ext cx="48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谈论话题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个性表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11280" y="1557360"/>
            <a:ext cx="85327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★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小组商量从下面提供的话题中选择一个，其他人再围绕该话题发表意见，也可另选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垃圾满地怎么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常上网打游戏好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面“霾”伏巧应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通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约在我身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68000" y="26964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PMingLiU"/>
              </a:rPr>
              <a:t>记一次班级讨论会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PMingLiU"/>
              </a:rPr>
              <a:t> 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PMingLiU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88272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学期开始了，教室原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帅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面容被纸屑、垃圾点缀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奇丑无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面对乱丢垃圾的行为，宋老师在班上举行了一次讨论会，让同学们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持环境卫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话题，发表一下自己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会开始了，有的同学提出个人环保的办法，有的同学提出了计票的方法，还有的同学提出选组干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Yujiao</cp:lastModifiedBy>
  <dcterms:modified xsi:type="dcterms:W3CDTF">2016-03-01T15:24:00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