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E3A-BEA2-4B1F-B22C-BF98BC07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5FC-1203-47FB-9CCE-FF615B60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50C-E2F3-4CF3-BC8F-F9603FBC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0B4-4E8B-4D67-8C18-12A548BE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320-D7E2-4799-9C72-3D3BBCF7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0B5-F660-43C9-B130-964CD4F4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29D-F4AA-4D46-8F77-6451205C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FE0-4FA7-465F-A6A0-8530C457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247-5FD7-4A79-98B2-BEC303E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85D-F433-4DE5-9326-2841F93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9AD-ECA2-403B-9F18-7875A5FC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FC8-C058-4FB8-9889-376EE86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313E-C6DE-40E8-B765-2B067263C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观察时，脑子里还要带着一个大大的问号，要善于发现一些问题，要选有意思的、别人不太注意到的问题。如陈楠同学写的《有趣的蚕豆耳朵》，在观察中，他发现了一只蚕豆耳朵，这是一个很有意思的发现。如果你也是一个有心人，相信在观察中也会有自己的发现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　“认真研究”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就是针对自己在观察中发现的问题，去作“打破砂锅问到底”的研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植物王国的奥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        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导中年级学生写好植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 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植物王国有无穷的奥妙，同学们，如果你置身在缤纷的植物世界里，一定会情不自禁地喜欢上它们的。看着这些五颜六色的各类植物，可能你的脑海里还会冒出一串问题来。那就让我们来走近它们，对它们作一番探究和描绘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跟踪观察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校园里有一棵高大的松树，许多同学喜欢在树下嬉戏，有的围着它搞游戏，大家都很喜欢这棵生机勃勃的松树。怎样去描绘它呢？在老师的启发下，同学们将它与花圃里的其它植物相比较，感受到它的生命力顽强，并通过长时间的跟踪观察有了新的发现。例如有的同学说，松树虽然四季常绿，但秋天到了，树叶也会变黄脱落。因为他看到这棵老松树下已堆积了一些落叶。由此，同学们进一步了解到，松树的品种很多，松树叶子的寿命比一般植物长，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左右，校园的这棵树每年都有一些老叶子脱落，并长出一些新的叶子，但是还有很多叶子留在上面 。通过跟踪观察，大家对身边的植物有了更深的了解，所写的习作内容更具体引人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二、对比考察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植物世界神奇有趣，有些植物看似相似，实质不同。例如校园的大楼下长着一排火红的植物，同学们远远就看到了。他们原以为是枫叶，后来经过请教学校员工知道了这种貌似枫树的植物，其实叫鸡爪槭。通过细细比较，大家了解了这两种植物的不同之处。有的同学还就柏树和松树加以比较，弄明白了这两种四季常绿树木的树叶不同的特点，柏树，树叶小，是鳞片状；松树，树叶尖尖，像一根针一样。通过对比考察，同学们对植物探究的兴趣更浓了，怀着盎然的兴致走进植物王国，更能够妙笔生花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、查找资料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植物王国里探索，同学们会不断产生许多问题。例如，滴水观音会滴水吗？睡莲为什么要“睡觉”？雪莲为什么不怕风雪？……对于这些问题解决的途径之一就是查找有关资料。有的同学饶有兴致地走进图书馆寻找答案，有的上网搜寻，班级图书角增添了有关植物奥秘的书籍。通过查找资料，同学们的眼前仿佛打开了一扇窗，他们的知识面拓宽了，对植物的研究兴趣更浓了，积累的习作素材更厚实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植物世界的学问很多很多，怎样描写好各种各样植物呢，以上几种方法同学们不妨试试，和植物交朋友，我们就会有数不尽的宝典，因为大家探究了植物世界的无穷奥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校里的梧桐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中午，倪老师带我们去观察校园里的植物。我们来到梧桐树下，只见，梧桐树被修剪得光秃秃的，只留下脸盆口那么粗的主干和几根碗口粗的枝干。这梧桐树真像饱经风霜的老爷爷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时，我发现梧桐树的树皮有的是黄色的，有的是褐色的。我很好奇，便上前仔细看，原来这些地方的树皮陆续掉了，再抬头看，上面有一些深褐色的树皮卷起了角，好像要掉下来了，我轻轻地摸了一下，它就掉在了我的手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咦，这是为什么呢？我很想知道梧桐树的奥秘，便上网查了资料。原来梧桐树的树干从外到内由树皮、形成层、木质部和髓组成。梧桐树之所以能不断长粗就是因为形成层在不断分裂产生新的细胞，向外不断形成新的树皮，向内不断形成木质部，树皮还分两层，靠在里面的一层是负责运输养料的管道——筛管，外面的一层主要起保护作用，像人穿的衣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随着树干不断增粗，“衣服”越来越小，就会撑破，出现裂纹，最后脱落。梧桐树脱皮后的浅色部分是新树皮，以后会逐渐变成灰褐色。    学校里的梧桐树让我又增长了许多新知识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44280"/>
            <a:ext cx="3105360" cy="2867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3024000" cy="2319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314800" cy="133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651640" y="4005360"/>
            <a:ext cx="3240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583272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7724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57150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走近仙人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得第一次看到这盆仙人球时，我对它是不屑一顾的。瞧它缩在灰色瓦盆里，圆头圆脑，浑身是刺，头上还长了个包，这也能叫盆景？所以，当我家乔迁新居时，它像弃儿一样被我留在了老家阳台的一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渐渐地也就把它淡忘了，直到半年后偶然回了一趟老家，竟发现它还旺盛地生长着，长成了阳台上一片亮丽的风景！我不由得蹲下来细细端详着它：它的主体像精致的翡翠球，又像一个可爱的小刺猬。深绿的表面均匀地分布着一簇簇刺。每一根黄绿色的刺上都有细细的纹路。最让我惊叹的是，虽然盆子里的土干得裂开了缝，它却开花了！那细长而洁白的花瓣围成喇叭形，众星捧月般地托出黄色的花蕊，多么像一位柔弱中透出坚强的公主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为自己对它的冷落而羞愧，宝贝似的将它移到新居，放在我的书房里。我总在想，这些失去主人护理的日子，它是如何挺过来的呢？爸爸为我揭开了这个谜。原来，仙人球一般生活在干旱的沙漠里，为了减少水份蒸发，就将叶子蜕变成锋利的小刺，它们的表皮有很厚角质层，气孔数也比其它植物少而且深埋在表皮的凹陷内，这就使它们的蒸腾量大大减少。此外，它们体内有白色乳汁或无色粘液，这是一种多糖物质。它们的细胞内还含有大量的五碳糖，提高了细胞液浓度，增强了抗旱抗逆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时这种粘液和乳汁在植物受伤时可使伤口迅速结膜，既防止了体内水分散失又避免了病菌感染。妈妈又在一旁补充道，仙人球的神奇之处多着呢，它可以入药，能软化血管，防止动脉硬化。外用可以止血，预防和治疗冻伤。也可以加工成罐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做出可口的菜肴……在沙漠地带，它更是旅行家们的天然水源！听到这儿，我禁不住佩服起仙人球来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位名人曾经说过：“不是因为美丽才可爱，而是因为可爱才美丽。”当我走近仙人球，发现它身上的这么多神奇可爱之处后，它在我的眼中怎能不越来越美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836640"/>
            <a:ext cx="9144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仙人掌有“沙漠英雄花”的美誉 。仙人掌是仙人掌科植物的统称。它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个种类，有掌形、球形、柱形等多种形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仙人掌为了适应干旱的环境，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叶子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退化成针状，以减少水分蒸发；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茎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却肥厚多汁，表皮还有厚而硬的蜡质保护，使它不受强光的照射而干枯；仙人掌庞大的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根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系分支，可以摄取地下更多的水分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仙人掌也会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开出娇艳的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花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朵，花色丰富多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6600ff"/>
                </a:solidFill>
                <a:latin typeface="仿宋_GB2312"/>
                <a:ea typeface="仿宋_GB2312"/>
              </a:rPr>
              <a:t>有人做过实验：</a:t>
            </a:r>
            <a:r>
              <a:rPr b="1" lang="zh-CN" sz="3200" spc="-1" strike="noStrike">
                <a:solidFill>
                  <a:srgbClr val="6600ff"/>
                </a:solidFill>
                <a:latin typeface="仿宋_GB2312"/>
                <a:ea typeface="仿宋_GB2312"/>
              </a:rPr>
              <a:t>6</a:t>
            </a:r>
            <a:r>
              <a:rPr b="1" lang="zh-CN" sz="3200" spc="-1" strike="noStrike">
                <a:solidFill>
                  <a:srgbClr val="6600ff"/>
                </a:solidFill>
                <a:latin typeface="仿宋_GB2312"/>
                <a:ea typeface="仿宋_GB2312"/>
              </a:rPr>
              <a:t>年不给仙人掌喝水，它还顽强地活着。所以它能在干旱沙漠里生长，繁衍不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61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植物王国的奥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我家屋后有一块草莓地，每年夏天都能结出红彤彤的果实，多让人嘴馋哪！奶奶总能看出我的心思，抚摸我的头说：“奶奶这就为你摘去！”我就蹦蹦跳跳地抢着动手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酸酸的草莓汁水流入我干燥的喉咙，感到一阵凉爽，真是好吃极了！“这是什么？”一次，我指着草莓上的小黑点问奶奶。奶奶说：“这是草莓的种子”“为什么不长在里面呢？”“这我就不知道了。”奶奶笑着摇摇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我只好去请教我随身携带的《十万个为什么》了。我急切地翻书查找——哈！找到答案喽！实际上，草莓的种子并没有长在果实的里面，而那些皮上的小黑点就是草莓的种子，它们长在外面，而我们吃的浆果是由草莓的花的一部分发育而来的，所以，草莓的种子就附着在浆果外面，没有包裹在浆果的中间，这使得草莓看起来和其它的浆果很不同，显得十分独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嗨，探索知识真有意思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4557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1484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528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8893080" cy="227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60804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36680"/>
            <a:ext cx="8229600" cy="200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82296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择一两种植物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仔细观察，认真研究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把你的发现、你的研究成果写下来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植物王国，绚烂多彩：四季常青的苍松翠柏、姹紫嫣红的月季牡丹……植物王国，奥妙无穷：害羞腼腆的含羞草，生命顽强的仙人球……只要你是一个有心人，就会欣赏它的绚烂多彩，发现它的无穷奥妙。同学们要解开植物王国里的奥妙，一是要学会“仔细观察”，二是要学会“认真研究”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仔细观察”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就是用自己的眼、耳、鼻、手、脑等，去和植物作亲密的接触。用眼睛去看看它的高低大小、形状姿态、颜色光泽。用耳朵去倾听它的声音，只要用心听，或许能听到它和你说的悄悄话呢。用鼻子去嗅嗅它的气味，在安全的前提下你还可以尝尝它的味道，是苦的，还是甜的？是酸的，还是涩的？……用手指去触摸它的枝、干、花、叶，是光滑还是粗糙？是柔韧还是坚硬？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2-16T00:34:2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