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FB06-D5A2-41A7-AAD0-12E48951B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39542-2551-474F-BD7B-BE8D7BA94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1982-BDA0-4F05-9E43-F508B157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DC169-92A2-4AE7-AB9B-E114A0879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2964-068F-43B3-801A-0331764EF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DC2A-0837-445D-992A-80924A95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3299-EAE1-4917-9DCF-DE5294027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13654-C067-4134-9281-306442956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1E9D-04D6-4FE4-97E0-ED56DDE332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74A1-407A-46C5-9E58-0165B305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AF877-BA80-4C2E-B33D-679DA8E61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D9F0-E187-4347-B08A-0357A7EF9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DFCBA-81E8-4F1E-AE29-188393519A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春游建议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冬爷爷迈着沉重的脚步慢慢地离开了人间，春姑娘跳着轻盈舞蹈来到我们的身旁，她轻轻一吹，唤醒了沉睡了一冬天的大地妈妈。这时万物复苏，到处一片生机勃勃，花儿争着向人们传递着春天的讯息。在这阳光明媚、百花盛开的春季，又是人们春游踏青的好时节。我建议今年的春游到溱湖景区去看看，因为一个新的溱湖将从那里开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9_100715150724_1"/>
          <p:cNvPicPr/>
          <p:nvPr/>
        </p:nvPicPr>
        <p:blipFill>
          <a:blip r:embed="rId1"/>
          <a:srcRect l="0" t="0" r="0" b="12226"/>
          <a:stretch/>
        </p:blipFill>
        <p:spPr>
          <a:xfrm>
            <a:off x="0" y="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22441256252046109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4862524_204445773000_2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2011-04-221300782491_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进桃花园，我觉得有一种芬芳扑鼻的香味迎面扑来。我向桃花园里面走去，那绿得像是被绿草染过似的麦田，仿佛一个绿色的海洋。走进一条砖头铺成的小路上，路的两边是一条清澈见底的小溪，里面有蝌蚪和各种各样的小鱼，真是让人陶醉啊！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灌木林的周围是被几棵高大的树木围成的长方形，灌木林的中央有几棵桃树，桃花洒在了周围翠绿色的青草上。微风姑娘轻轻地走过，桃花姑娘穿着粉红色的披风，在微风中翩翩起舞，真是美妙极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611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有粉红的，深红的，浅紫的，在青翠欲滴的绿叶映衬下，更显得鲜艳娇美。有的才展开两三片花瓣儿，有的花瓣全展开了。一丝丝红色的花蕊，顶着嫩黄的尖尖，调皮的探出头。有的还是花骨朵，看起来饱涨得马上要破裂似的，一阵风吹来，多多桃花就像一只只花蝴蝶拍打着翅膀，翩翩起舞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桃花的棵树数不胜数，离近看，桃花像喝醉了似的，满枝绯红。有的含苞欲放，有的还是花骨朵儿，有的全绽开了，美极了！桃花有五个瓣儿，每个瓣上都有淡淡的粉色，中间有几个细丝突出来，那就是花蕊。桃花用自己的魅力吸引着人们，人们纷纷赞美着桃花的美，几只勤劳的小蜜蜂嗡嗡地在花丛中飞来飞去，为这美丽桃花传播花粉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桃花园中的桃花很漂亮：有的两三朵桃花聚在一起，像在悠闲地聊天。有的桃花上边停着两只可爱的小蜜蜂，正在认真地采花蜜，有的还是花骨朵儿一层紧包着一层，就像母亲保护着孩子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5260319_125612002445_2"/>
          <p:cNvPicPr/>
          <p:nvPr/>
        </p:nvPicPr>
        <p:blipFill>
          <a:blip r:embed="rId1"/>
          <a:srcRect l="0" t="0" r="0" b="4444"/>
          <a:stretch/>
        </p:blipFill>
        <p:spPr>
          <a:xfrm>
            <a:off x="0" y="0"/>
            <a:ext cx="91440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到溱湖要先看看拔地而起、气魄宏伟，环境优美的居民小区正在建设之中，不久的将来这里也会像步行街那样热闹繁华。当然，那里最美的就是溱湖公园了。每天春天来临的时候，湖边的柳树姑娘长出了嫩嫩的绿叶，她会对着湖面美滋滋地照镜子梳理自己的长发。小草弟弟也会从地里探出小脑袋，看看这个生机盎然的世界。燕子妈妈带着孩子们从遥远的南方来到美丽的溱湖，小燕子好像一个个顽皮的孩子，碰碰这株草，闻闻那朵花，这景象一定会让你留连往返。在阳光的照耀下，湖面波光粼粼，像一面硕大的银镜，风一吹，一朵朵浪花会向你招手，令你心旷神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3534513_172259008915_2"/>
          <p:cNvPicPr/>
          <p:nvPr/>
        </p:nvPicPr>
        <p:blipFill>
          <a:blip r:embed="rId1"/>
          <a:srcRect l="0" t="0" r="0" b="5555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5767275_110312742153_2"/>
          <p:cNvPicPr/>
          <p:nvPr/>
        </p:nvPicPr>
        <p:blipFill>
          <a:blip r:embed="rId1"/>
          <a:srcRect l="0" t="0" r="0" b="6670"/>
          <a:stretch/>
        </p:blipFill>
        <p:spPr>
          <a:xfrm>
            <a:off x="0" y="0"/>
            <a:ext cx="914400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2977424_110159220195_2"/>
          <p:cNvPicPr/>
          <p:nvPr/>
        </p:nvPicPr>
        <p:blipFill>
          <a:blip r:embed="rId1"/>
          <a:srcRect l="0" t="0" r="0" b="5554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0603110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4" descr="20111125110630843"/>
          <p:cNvPicPr/>
          <p:nvPr/>
        </p:nvPicPr>
        <p:blipFill>
          <a:blip r:embed="rId1"/>
          <a:srcRect l="0" t="0" r="0" b="5562"/>
          <a:stretch/>
        </p:blipFill>
        <p:spPr>
          <a:xfrm>
            <a:off x="0" y="0"/>
            <a:ext cx="914400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01300001311336131989647496325"/>
          <p:cNvPicPr/>
          <p:nvPr/>
        </p:nvPicPr>
        <p:blipFill>
          <a:blip r:embed="rId1"/>
          <a:srcRect l="0" t="5554" r="0" b="4442"/>
          <a:stretch/>
        </p:blipFill>
        <p:spPr>
          <a:xfrm>
            <a:off x="0" y="3808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25092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这就是我们的溱湖景区，我相信溱湖的将来会变得更加富饶，我们的明天会更加美好！希望大家能接受我的建议，亲自到溱湖风景区看看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32400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蔚蓝的天空中，几只飞鸟在自由的飞翔，在天空中划出了美丽的弧线。湖面波光粼粼，水里的鱼儿看得一清二楚。在阳光的照耀下，湖面闪烁出五颜六色的光芒，犹如一匹鲜艳华丽的锦绸，漂亮极了，游人们无不被它陶醉，称赞它为“彩色湖”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一阵微风吹来，柳树随风舞蹈，跳起了舞蹈，向我们展现她迷人的身姿。湖里的小鱼儿也忍不住哪！偷偷地跃出湖面，贪婪地欣赏着湖边的风景。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麋鹿们在这里愉快地生活着，嬉戏着。它们神态各异，令人浮想联翩。有的昂首挺胸，大摇大摆地走着，似乎取得了什么胜利，在向自己的伙伴们“耀武扬威”。有的在左顾右盼，走来走去，好像在焦急地等自己的家人。有的沉稳老实，眼睛一直盯着前方，好像在冥思苦想着什么。还有的在津津有味地“品尝”着鲜嫩的小草，觉得这里的草不合胃口，便到其他地方去吃草。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溱湖最美的季节是夏天。盛夏，湖水清澈见底，美如翡翠，水鸟时而在芦丛中欢唱，时而在天地间盘旋，湖边荷花朵朵，亭亭玉立，太阳的照射下，这些景物，使波光粼粼的湖更添了几分美。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395280" y="18864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走进溱湖湿地公园的大门，一条笔直的大道，葱浓的树木排列两边，更有绿油油的小草，争芳的花儿：红的、黄的、蓝的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数不胜数。漫步湖边，风情万种的柳树垂低着头，苍绿的芦苇丛与我们遥遥相对，那挺拔的古木刺入青天，娇艳的荷花在碧水之中亭亭玉立，微风吹来，翩翩起舞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6c500e77d6f507e81fd1df3b9faad12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Yujiao</cp:lastModifiedBy>
  <dcterms:modified xsi:type="dcterms:W3CDTF">2016-03-07T15:07:28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