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8F4-5245-49BD-8A0E-27E42432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03A-4D14-4EDF-9DA7-AB1E7488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63B-056F-4CCB-970C-3684901C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A18-3341-4FE0-B6F8-32C43344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1B8-D8D3-407C-A9BC-88D8E75C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867-66A5-4B15-A542-6C6A56FE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5B9-7547-4E0A-924E-A1936BA0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B8C-B7CF-42A2-A231-80191A2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AEE-7F1D-4B1A-AE96-E944C63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F70-D787-49E1-BFE0-DAA4918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27A-97E4-48FA-8546-F03EDA5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7A9-3FC6-4014-93E4-933893B0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CB3-2BC8-4770-B31A-490F4AA854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.xml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dministrator\Desktop\图片1.jpg"/>
          <p:cNvPicPr/>
          <p:nvPr/>
        </p:nvPicPr>
        <p:blipFill>
          <a:blip r:embed="rId1"/>
          <a:stretch/>
        </p:blipFill>
        <p:spPr>
          <a:xfrm>
            <a:off x="-152280" y="-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6714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d5b5"/>
                </a:solidFill>
                <a:latin typeface="黑体"/>
                <a:ea typeface="黑体"/>
              </a:rPr>
              <a:t>湘教版小学语文四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矩形 6" descr=""/>
          <p:cNvPicPr/>
          <p:nvPr/>
        </p:nvPicPr>
        <p:blipFill>
          <a:blip r:embed="rId2"/>
          <a:stretch/>
        </p:blipFill>
        <p:spPr>
          <a:xfrm>
            <a:off x="1736640" y="1133640"/>
            <a:ext cx="5518080" cy="1420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533520" y="137160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我们那个小小山城，不知由于什么原因，常常令孩子们产生奔赴他乡的幻想。 我是十二三岁时背着小小包袱，顺着小河，穿过洞庭去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翻阅另一本大书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95880" y="3809880"/>
            <a:ext cx="2514600" cy="1600200"/>
          </a:xfrm>
          <a:prstGeom prst="cloudCallout">
            <a:avLst>
              <a:gd name="adj1" fmla="val -64708"/>
              <a:gd name="adj2" fmla="val 299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“翻阅另一本大书”是指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2" descr="20120503142004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685800" y="243828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近代中国历史中，从凤凰城中走出了一大批政治家 、军事家、 学者、 文化大师，如一品大臣田兴恕，民族英雄郑国鸿，民国第一任民选内阁总理熊希龄，文坛巨匠沈从文，著名画家黄永玉等，他们都是走到外面世界干出一番大事业来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http://r3.sinaimg.cn/10001/2011/0323/93/f/9836651/170x170x75x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01"/>
          <p:cNvPicPr/>
          <p:nvPr/>
        </p:nvPicPr>
        <p:blipFill>
          <a:blip r:embed="rId2"/>
          <a:stretch/>
        </p:blipFill>
        <p:spPr>
          <a:xfrm>
            <a:off x="380880" y="685800"/>
            <a:ext cx="3353040" cy="5334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0" y="990720"/>
            <a:ext cx="3657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黄永玉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著名的画家、作家，湘西凤凰县人。十二岁外出谋生，在困难的环境里，他自学了美术、文学，被称为一代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鬼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才，设计的猴票和酒鬼酒包装家喻户晓。诗书画俱佳，是诗、杂文、散文、小说、剧本的大家，出版多种画册，作品闻名中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9836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19836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198360" y="-228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319560" y="244512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你能否也像作者一样，写写自己的家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写写我们美丽的便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482760" y="22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练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057400" y="18892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896760" y="1447920"/>
            <a:ext cx="735876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初识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走进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布局        景色     风情      人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了解作者，体会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小练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112760" y="3154320"/>
            <a:ext cx="1095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小城凤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>
            <a:hlinkClick r:id="rId2" action="ppaction://hlinksldjump"/>
          </p:cNvPr>
          <p:cNvSpPr/>
          <p:nvPr/>
        </p:nvSpPr>
        <p:spPr>
          <a:xfrm>
            <a:off x="4040280" y="160020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布局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116600" y="266688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景色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192560" y="373392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风情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116600" y="4876920"/>
            <a:ext cx="866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人文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3276720" y="167652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33520" y="205740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城／在／起伏的／小山坡，在／一些／古老的／森林和草地，用／石头城墙／上上下下地／    起一个圈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731200" y="327672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>
            <a:hlinkClick r:id="rId1" action="ppaction://hlinksldjump"/>
          </p:cNvPr>
          <p:cNvSpPr/>
          <p:nvPr/>
        </p:nvSpPr>
        <p:spPr>
          <a:xfrm>
            <a:off x="8839080" y="6477120"/>
            <a:ext cx="30492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4" descr="mxcpu=371884461,511558772&amp;fm=2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对角圆角矩形 2"/>
          <p:cNvGrpSpPr/>
          <p:nvPr/>
        </p:nvGrpSpPr>
        <p:grpSpPr>
          <a:xfrm>
            <a:off x="7156440" y="6151680"/>
            <a:ext cx="1987560" cy="706320"/>
            <a:chOff x="7156440" y="6151680"/>
            <a:chExt cx="1987560" cy="706320"/>
          </a:xfrm>
        </p:grpSpPr>
        <p:pic>
          <p:nvPicPr>
            <p:cNvPr id="58" name="对角圆角矩形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6151680"/>
              <a:ext cx="1987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246800" y="6246720"/>
              <a:ext cx="18082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4" action="ppaction://hlinksldjump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838080" y="1600200"/>
            <a:ext cx="769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关起门，下雨的时候，能听到穿牛皮鞋的过路人，     地从门口走过。还能听到大庙四角的风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      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的声音。下雪的时候，尤其动人，因为经常一落即有二尺来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114880" y="2209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叮叮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3429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叮叮当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>
            <a:hlinkClick r:id="rId1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对角圆角矩形 6"/>
          <p:cNvGrpSpPr/>
          <p:nvPr/>
        </p:nvGrpSpPr>
        <p:grpSpPr>
          <a:xfrm>
            <a:off x="7156440" y="6151680"/>
            <a:ext cx="1987560" cy="706320"/>
            <a:chOff x="7156440" y="6151680"/>
            <a:chExt cx="1987560" cy="706320"/>
          </a:xfrm>
        </p:grpSpPr>
        <p:pic>
          <p:nvPicPr>
            <p:cNvPr id="65" name="对角圆角矩形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156440" y="6151680"/>
              <a:ext cx="1987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246800" y="6246720"/>
              <a:ext cx="18082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4" action="ppaction://hlinksldjump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838080" y="16002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　在家乡常听到苗族老人说，打从县城对面的半山下来，就能听到小城里传来的叫卖声，闻到油炸粑粑的香味。实际上，那距离还在六七里之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915360" y="4038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8686800" y="6477120"/>
            <a:ext cx="457200" cy="380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对角圆角矩形 5"/>
          <p:cNvGrpSpPr/>
          <p:nvPr/>
        </p:nvGrpSpPr>
        <p:grpSpPr>
          <a:xfrm>
            <a:off x="7156440" y="6151680"/>
            <a:ext cx="1987560" cy="706320"/>
            <a:chOff x="7156440" y="6151680"/>
            <a:chExt cx="1987560" cy="706320"/>
          </a:xfrm>
        </p:grpSpPr>
        <p:pic>
          <p:nvPicPr>
            <p:cNvPr id="71" name="对角圆角矩形 5" descr=""/>
            <p:cNvPicPr/>
            <p:nvPr/>
          </p:nvPicPr>
          <p:blipFill>
            <a:blip r:embed="rId1"/>
            <a:stretch/>
          </p:blipFill>
          <p:spPr>
            <a:xfrm>
              <a:off x="7156440" y="6151680"/>
              <a:ext cx="1987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46800" y="6246720"/>
              <a:ext cx="18082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楷体"/>
                  <a:ea typeface="楷体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7" descr="20120503142004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380880" y="38862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我想，好的诗应该是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这样的地方才能产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0" y="1447920"/>
            <a:ext cx="3124080" cy="2133360"/>
          </a:xfrm>
          <a:prstGeom prst="cloudCallout">
            <a:avLst>
              <a:gd name="adj1" fmla="val 46949"/>
              <a:gd name="adj2" fmla="val 4769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为什么说“好的诗应该是从这样的地方才能产生的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对角圆角矩形 8"/>
          <p:cNvGrpSpPr/>
          <p:nvPr/>
        </p:nvGrpSpPr>
        <p:grpSpPr>
          <a:xfrm>
            <a:off x="7407360" y="6218280"/>
            <a:ext cx="1985760" cy="712800"/>
            <a:chOff x="7407360" y="6218280"/>
            <a:chExt cx="1985760" cy="712800"/>
          </a:xfrm>
        </p:grpSpPr>
        <p:pic>
          <p:nvPicPr>
            <p:cNvPr id="77" name="对角圆角矩形 8" descr=""/>
            <p:cNvPicPr/>
            <p:nvPr/>
          </p:nvPicPr>
          <p:blipFill>
            <a:blip r:embed="rId2"/>
            <a:stretch/>
          </p:blipFill>
          <p:spPr>
            <a:xfrm>
              <a:off x="7407360" y="6218280"/>
              <a:ext cx="19857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499520" y="6318360"/>
              <a:ext cx="18079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楷体"/>
                  <a:ea typeface="楷体"/>
                </a:rPr>
                <a:t>返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838080" y="21337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不过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在天涯海角，我都为它而骄傲，它就应该是那么小，那么精致，那么结实。它也实在是太美了，以至以后的几十年里，我到哪里也觉得还是自己的故乡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0" y="0"/>
            <a:ext cx="3124080" cy="2133720"/>
          </a:xfrm>
          <a:prstGeom prst="cloudCallout">
            <a:avLst>
              <a:gd name="adj1" fmla="val 46949"/>
              <a:gd name="adj2" fmla="val 4769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中的“它”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4-09T15:02:35Z</dcterms:modified>
  <cp:revision>2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