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CB8-237F-4EE6-8DA0-7846D479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BD8-EE98-4AC0-A6CE-A4FB1D6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26A-70FA-4657-986E-A5A968EB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765-7576-454F-B1F5-0567409A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51F-989B-45B3-B7CD-F603234F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3CD-5EFF-4C38-B95E-D55DE41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B7F-BCAA-4B03-9C3A-DE8DA65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B3F-B764-4662-A0DB-9E791E5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EAF-E921-48BA-9E03-DB192BC7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628-85B2-4FD8-AA42-743B4D0A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39B-885B-483E-AE3A-2813A02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4E2-2CCE-46CF-8D74-A19C451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80B-7CA7-405F-A97C-9C4AAD46B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Arial"/>
              </a:rPr>
              <a:t>写风雨景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184464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习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刚回到家里，准备写作业时，发现天空中有一座弯弯的拱桥影子，影子越来越清楚，我惊叫起来：“啊！是一条美丽的彩虹！”我瞪大双眼看着那一座架在天空中的彩桥，在阳光的照耀下，闪着颜色各异的光芒：红、橙、黄、绿、青、蓝、紫七种颜色，妹妹也来跑过来看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过了一会儿，彩虹的颜色渐渐淡了，最后全部消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暴风雨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吃过午饭，此时是一天中最热的时候，天边只有几堆云。阳光毫无阻挡地直射向地面，地面一片滚烫。厅里的电风扇“呼呼”地摇着扇叶，给午睡的人传来一阵阵热风，真是热死人了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“轰隆隆……”外边传来了几声雷的呐喊：“暴风雨要来了，快把门窗关好。”一直停息不动地空气也微微动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会儿，天边的那几堆云膨胀起来了。不一会儿乌云遮住了半个天空，太阳不愿意把天空被遮住了一大半，刚才的炎热像在烤炉旁边。树叶随着树枝在空中摇晃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“哗啦啦”，雨滴滴答答地下了起来，天开始有点亮了。狂风把直直落下的雨吹斜了。“啪啦啦”，重重地砸在瓦上、窗上、墙上，铁瓦成了瀑布。那凹凸不平的路上积满了水。“噼里啪啦”雨越下越大，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声“隆”的一声，把猪吓得狂奔乱跳，跳出猪窝，使它在街上东奔西跑；把鹅吓得飞出了窝，弄的人们无法捉住它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雨大约下了一个小时了，整条街道只有一两人去买东西。街两边的树有的被风给吹断了；鸟儿全身湿漉漉的，想飞起来也飞不动，如果它晃一下翅膀，就会从树上往下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雨停了，树上的鸟儿，啾啾地叫了起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像在说：“雨停了，我可以飞了。”然后，翅膀晃了晃就飞走了。 “雨过天晴白云飘，蓝天挂起彩虹桥。”这句词我永记在心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暴风雨的夜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星期五的晚上，我正在写作业，忽然听到屋外传来“呜呜——”的风声，就像有人在吹口哨一样。我抬头往窗外一看，啊，原来是起风了。 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打开窗户，风“呼——”地一下扑面而来，只见天空黑云密布，星星和月亮已经消失得无影无踪，本来就黑暗的天空就像染上了墨汁一样显得更加漆黑。北风呼呼地刮着，一棵棵小树被吹得像一个个不倒翁似的东摇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晃，好像在说：“救命呀！我受不了啦！”树叶被风吹得摇摇欲坠，发出“哗啦啦”地响声，落叶随风狂舞，像一只只飞舞的蝴蝶。路上赶着回家的人们加快了步伐，在外面玩耍的小孩尖叫着一溜烟跑回家。空气中尘土飞扬，忽然“啪”的一声，一道闪电划破漆黑的夜空，把天空照得一片明亮，如同白昼一样。接着，一阵震耳欲聋的雷声“轰隆隆”从远处传来，像是有人在天空中敲鼓。我赶紧“砰”一声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窗户，透过玻璃往外看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不一会儿，豆大的雨点“滴嗒——滴嗒”从天空中落下来，很快就下起了倾盆大雨。密密麻麻的雨点像密集的箭一样射向地面，溅起朵朵水花，组成一个个小水潭。雨越下越大，就像有千万条瀑布从天空倒下来一样。地上的水越积越多，就像无数条小河在地上流淌。树叶被雨打得遍地都是，一棵棵小树在暴雨中显得更加无助了。雨点“噼里啪啦”地打在玻璃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出“啪啪”的声音，整个世界似乎只剩下雨声了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过了很长时间，雨渐渐地变小了，风也渐渐地平息了，慢慢地，雨停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6720" y="260280"/>
            <a:ext cx="80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回答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此次写作规定的范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写风雨，应该按什么顺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720" y="260280"/>
            <a:ext cx="80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雨前（起风前）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雨中（刮风时）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雨后（风停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260280"/>
            <a:ext cx="80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小组合作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说一说：你看到的风雨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要求：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、抓住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、有序表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、大胆想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、语言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说起风，就可以想到今天的风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今天的风刮了整整一天，如鬼哭，如狼嚎。风一吹，满世界的尘土，还有满天的垃圾。这风好像有意针对我，在路上，一股脑地向我刮来。说实在的，当时差一点就被刮倒。半路飞来些小石子，打在我的身上，跳入我的眼睛里，弄得我浑身不自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不容易到了学校，我可整个成了个“土人”。灰头土脸的样子，更让我对春天的风的讨厌。可这风似乎更加得意了，在我上课时，不禁“唔”的一声，真不愧是狼嚎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风不知疲倦地刮着，当我放学走出学校时，它又刮来了，头发不由自主地跳起舞来，无论怎么弄，总是不听话。回到家后，自己简直是一个小疯子了。头发乱糟糟的，简直可以做鸟窝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讨厌风，但是没有风是不行的，对于万物，对于炎炎的夏日，对于有流浪世界的种子都不行的。总而言之，风的却很讨厌，但是我们也离不开这讨厌的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暴风雨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在暑假里的一个中午，我和妹妹在家里写作业，觉得口渴了，就停下来准备去喝水，听见妈妈自言自语地说：“热死了，这鬼天气！看样子要下雨了。”要下雨？我赶紧跑到楼下，抬头看天，可不是，一层层灰色的浓云严严实实的遮住天空，天上黑云翻滚，似乎要压下来似的。风也在空中不停地“呼呼”的狂舞着，天空简直乱成了一团。这时，一道亮光从天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空中划过，紧接着就是“隆隆”的雷声，很快雨就下了起来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开始，雨就像有人拿苞米喂鸡那样“哗——”地洒下，地面留下了铜钱大的印，片刻，这印也无影无踪了。过了一会儿，雨就像开仓放谷“刷——”的倾泻下来，这是雨水顺着屋檐淌了下来，发出“噼里啪啦”的声响，大地上像汇集了无数条小河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16T11:00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