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jpeg" ContentType="image/jpeg"/>
  <Override PartName="/ppt/media/image10.gif" ContentType="image/gif"/>
  <Override PartName="/ppt/media/image13.png" ContentType="image/png"/>
  <Override PartName="/ppt/media/image11.png" ContentType="image/png"/>
  <Override PartName="/ppt/media/image19.jpeg" ContentType="image/jpeg"/>
  <Override PartName="/ppt/media/image9.gif" ContentType="image/gif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gif" ContentType="image/gif"/>
  <Override PartName="/ppt/media/image2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C3D9-77CF-4ECE-A32F-E0E2C1E5F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AC8A-EC77-4422-B75C-E6040A24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33797-0D66-4DE0-91AC-814D80B5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FCC01-F8B5-408F-9ECC-9198619E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5C128-1F8C-4B29-8FE5-96B5DE6C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C6BD5-9020-491D-A905-69ACEF36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93B50-BABD-4916-A29B-42620654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2D9B4-FC7E-4D4A-A082-ACB54E97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7A057-237E-4A21-9195-8122405B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2FAED-B307-4BE5-A401-5C2D9D88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E615F-8994-4A51-8D08-45745F7F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EED4D1-0635-41AB-B1B7-8AA4A32C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26B3-7FC2-49FE-92ED-959C3838D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D2702-2998-47DE-B50D-12928AF3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AF16B-F4B4-4DB4-B6B9-AD9A63B4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9053E-35FC-44EC-9E1C-66A7374C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72299-E236-43CC-BCBD-AB5A7E6B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AE59A-4BC0-4E36-B86A-D1056D41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038C1-DE5C-4222-9247-401577BE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3BE2F2-8B4F-4883-B327-13582BC6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8AE72-63F9-4B8F-B0C4-FA1154BD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A763B-1DA5-4319-8C7F-6B83F9B3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3D0A5-4A8F-4A5C-9A28-E8E7ED3D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9F5C-B63E-476C-9A9A-2B1DB7F3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9A76D-DEB5-4C3D-9233-4BA3BBE1C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60249-10F7-4104-BD56-80D52720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FD332-EDB0-461B-8A59-0E2CDF40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BC3D5-94E5-43EF-ABBB-EFBD267C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59424-7C54-4C93-B87A-9CD0B47E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4FF13-0DD7-422E-84D8-4DCF7739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36846-F6CF-4D36-81B3-3674022C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C0DAD-B7A6-4512-BF48-42CD41FC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A6B5E-5646-432B-A4E4-3C883FCD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73FF4-489F-4BBC-9AAC-63F28598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45D4-C562-484E-AD74-BEA2BE7B2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75531-CB40-47A9-AEAE-2DE4AD7C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69DB1-30D6-402A-822F-32C9D55F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0B43E-DF54-4A05-8373-EE8C2870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C70A7-CD15-4797-BFE5-CB866AF5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A60CE-318B-44C2-A6C0-172DE5F6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1B3C2D-F23A-4D6D-8085-5CE1A760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6ADDF-A1D5-4C40-BCAB-60FD92C1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F2BC0C-D642-4ACC-AF9E-6437FBDA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28C239-014E-456C-B276-EA2D4AA4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A8966-219D-4685-AD72-D0C3F57B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BFB6-4978-463F-946A-1AF2F262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C6967-8DA0-4A23-807D-C0AC2612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3229D-C623-4EE4-B921-BFB0BFCA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62D283-C8F1-4218-90FE-083F22B0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7D3C0D-D770-40AD-835A-A2E4E0A5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670CC-EED1-479C-9941-99BD5B91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2CFC71-06E3-4668-8AFC-751CEDB4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2136A3-2A0A-4AA3-AE8E-FC73A297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8F45CA-AC83-441A-B4E2-FCCD804F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774ACF-8954-4A48-BECF-C97E3052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292D6C-B222-4AD2-8E83-9311C26F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0CFC-2C7F-4F87-8E76-665E62BF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594389-1211-42B0-B67C-218865D3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EB51F1-11AB-4499-A67F-5440D837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3D4434-0D57-4C32-BCB1-55361895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F00776-F087-4245-9E14-4C37CDF1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32915D-BF0B-4765-852D-E4BFF2F2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91FC83-4C33-4B5A-8FF0-D69105BB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49CF4D-1E97-438D-B2B8-240545F8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EF5A-FE45-4951-B5F1-C423F16E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A4CF-C3B5-4840-A074-9CBAE1E0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0C24-CA63-4BC0-AC44-35E91FB8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88A4-0BE9-4A7A-99B6-A1D1294D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7F64-00C3-4086-B965-FF8F4C17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95A1-4FAB-498E-80C7-7F598B12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F4B5-43CB-4412-83B9-EECFB17A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6A8F-EF5D-465E-9A50-5338D0A2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8975-3260-4EDE-877B-EC863570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9592-8E55-4392-BE58-B2527C9B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A19C9-C7B5-4C79-867A-DFC74579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F2DDC-4801-4B4E-B84D-01212690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1A45A-8E8D-492E-88DA-BC2C016B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FEB04-4AE7-4003-8AEC-35D83C7C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A4225-64A9-46A9-ADFA-A65F8CB0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6AAB-0C02-42FE-BC48-9681A76A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44FB7-F99C-49D1-94D2-1F1EF973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D0BFB-1FA7-4999-966F-76D29C91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0F6F4-5BEA-462C-95DE-4865CE41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7DD5C-7BAF-4204-ADA2-90E811D4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E6707-021C-4648-A708-0DC9ABDA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F9124-E9C1-4D9B-81C9-49D32F47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407FE-6659-4B26-9FA5-00CEFEEDA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33737-7A30-4DA5-A7AF-1ED9DC3B5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E8978-51C6-4C8B-AD97-5D8EA976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BB3BD-E3AC-490A-8FA7-57A302A7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2179-8233-4A67-B7B3-4A338011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8A7D5-1E10-4107-9ACB-FAA49B29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9862C-AB91-4F11-BFB8-25926264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80337-708C-46A9-ABE5-F2226DDA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6CABC-00D8-4938-800F-511836C9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E74EB-E1C4-492F-A32E-2CA65C7D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999FC-00F0-4B34-BB04-7621AA16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1B5EA-553B-498A-8940-C1A575AE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8F78F-94EB-40B9-A1DE-E49E6A08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44FBF-1D7A-4D15-A76D-D781B3D1D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5218F-4904-4716-AA88-375374D9A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01D8-5C05-4B34-88E2-10477046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92040-5982-4937-8DAC-376714B6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56F3C-77C3-4F81-9819-192C1B4A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EB8CD-4592-4ABE-9EF4-07C4A1CD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CC819-B420-4B3B-8838-63A79D85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A605D-DB36-465E-B77B-CAD095AC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97A5A-D714-42E1-9481-042FB227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01E12-35DD-4C41-9231-73CB7EB0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00C95-D848-4B7F-8AC1-7C58E5D8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F03D7-C239-459D-BBB6-F8DD13D0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41A00-F185-4AA6-A630-ED7C47F7F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46BF-7B8E-4C3E-B3D3-B4A80744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0DA66-AD94-4DB0-8220-004F7DE8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F3EF1-D709-4787-8E6F-6AA29B1C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C0D0B-F289-4C5F-9652-C20F5B42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F06FB-0487-4F3D-B23F-415F0ADE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03FF2-7E93-49B9-AB44-95EFCAB3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212F9-9331-4A14-A25C-D5E338EA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4F6ED-3916-486A-9389-BA47A3D1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31FC1-ED40-4712-9D23-C91C04A6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D1545-011A-4510-803F-F1884FED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0DADF-E61B-4CD2-8902-AD5441FF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5973-ED64-495D-BA73-D1122B5E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873EA-B41C-4535-AD1F-A0A2646D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D8955-1DF6-449B-B557-A40F18459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AF2AD-D52B-4D6A-9FC9-5856EF981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0890A-C73D-45A8-A0C4-82BA6232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63E91-E30A-48D6-B47A-FB8D095A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FB18C-CA5C-4F5C-8000-77BA0CD1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953B0-2934-4E01-91F1-051B77AE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FB3C3-0397-4D43-9A47-277D53A8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023DC-4059-436C-AD89-B149882F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F15F1-452A-4502-82ED-25759DCA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0E62-8BF0-4CA8-93F6-40D522B0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7CA6B-D348-4EB7-B5FA-0DC824F6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42CBB-6BCB-4619-A96B-183A89B8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6C307-8E53-4B91-9DDB-BAE5F47C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6C3D8-6CFD-4872-88E2-30C9CB4B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6D25E-D33B-4337-93A6-B79DA4098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36032-7930-475A-A127-EA2B738E8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B22ED-3423-4BD7-AFCE-AE5FA225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203F4-B0A7-4B38-B14C-4A47DB18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CBD00-75E9-41AE-9EFA-9D0CD0E0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3826B-A905-4A7D-8A09-839E4036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1EFD-470B-456B-926D-73281525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3B612-5F7C-4C0C-B675-3E994854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3CA8F-8661-45F0-B80B-641BB14A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4557D-A8C0-4D2E-ABB0-C76DEC11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6EDB9-B40A-41C9-842E-88ECE2E8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86C2D-B471-4081-A7AD-06A3C551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534D6-504C-4A8D-800A-396E801D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8CBD3-BFD4-45AF-9806-9E70E907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689D4-D7BD-46C0-BC8D-8823AB808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0F25A-E7C8-4E9B-A261-FB6DCDF6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754DA-DAC3-4CC8-87FF-A0E33968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F12A-86D2-4BA0-9372-0CDE832893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8BBE-48E2-410E-AEA8-32BC189F94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429" name="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EBE6-13B8-41FE-A298-1BE7CAA30788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76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C476-91FE-4383-BE8A-15BBDDAE391A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A6F7-8C55-4846-8B75-14686CEE3C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5FA7-D8D9-49CC-9565-160D15689B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82BA-BD39-4AEE-A318-6BF95BE07B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4E28-6D5D-4362-99E4-9C8DBB92E5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164" name="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71F8-C404-4C19-9F75-B75D88610A7B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211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D00D-79D6-43BE-BCAD-9DEB6AD5AC3A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3C39-17F5-41B8-BA71-875B5BCAE2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740D-7AF6-4064-BB98-A7F5757155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1026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27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28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029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030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031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032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78A3-764E-442B-80DF-E99841D8F975}" type="slidenum">
              <a:rPr b="1" i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7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7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7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7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2411280" y="2781360"/>
            <a:ext cx="532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8000"/>
                </a:solidFill>
                <a:latin typeface="隶书"/>
                <a:ea typeface="隶书"/>
              </a:rPr>
              <a:t>永生的眼睛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539640" y="117360"/>
            <a:ext cx="46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卡罗纳的悲伤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79280" y="1125360"/>
            <a:ext cx="8713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卡罗纳走进教室，突然放声大哭起来。他一定是想起了往日的情景。那时侯，母亲差不多每天都来接他；要考试了，母亲总是俯下身来向他千叮咛万嘱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79280" y="2637000"/>
            <a:ext cx="8713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卡罗纳翻开书，当他看到一幅母亲拉着儿子的手的插图时，突然双手抱住脑袋，趴在桌子上号啕大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79280" y="3716280"/>
            <a:ext cx="8713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他的目光里充满着无法形容的悲哀，那神情仿佛在说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你可以拥抱妈妈，我却再也不能了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79280" y="4941720"/>
            <a:ext cx="8713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他面容灰白，眼睛哭红了，两腿站不稳，好像他自己也大病了一场似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755640" y="40464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老师的爱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5280" y="1268280"/>
            <a:ext cx="8569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卡罗纳的母亲去世了，这个可怜的孩子遭到了巨大的不幸。他明天要来上课，孩子们，你们要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庄重严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热情地对待他。任何人都不许跟他开玩笑，不许在他面前放声大笑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5280" y="3645000"/>
            <a:ext cx="849780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师把卡罗纳拉到自己胸前，对他说：“哭吧，痛痛快快地哭吧，可怜的孩子！但你要坚强！你母亲已不在这个世界上了，但她能看见你，她依然爱着你，她还生活在你身边。孩子，你要坚强哟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684360" y="26028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同学的爱</a:t>
            </a:r>
            <a:r>
              <a:rPr b="0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39640" y="1413000"/>
            <a:ext cx="784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心里不由得泛起一阵同情和怜悯，大家都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屏息凝神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望着他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11280" y="2708280"/>
            <a:ext cx="7921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学的时候，大家围在他身边，谁都没有说话，只用关切的目光默默地看着他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9640" y="4149720"/>
            <a:ext cx="8064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本想跟他说几句话，但不知说什么才好，就把一只手放在他的肩膀上，脸贴在他的耳朵上，对他说：“卡罗纳，别哭了。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1042920" y="69228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家长的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4360" y="1989000"/>
            <a:ext cx="7775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看见母亲在等我，跑过去扑进她的怀抱。母亲把我推开了，她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目不转睛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望着卡罗纳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5640" y="4221000"/>
            <a:ext cx="7704000" cy="202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吾老，以及人之老；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幼吾幼，以及人之幼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（《孟子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梁惠王上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4" descr="PM_020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71280"/>
            <a:ext cx="9283680" cy="696456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5"/>
          <p:cNvSpPr/>
          <p:nvPr/>
        </p:nvSpPr>
        <p:spPr>
          <a:xfrm>
            <a:off x="3564000" y="1628640"/>
            <a:ext cx="38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WordArt 8"/>
          <p:cNvSpPr txBox="1"/>
          <p:nvPr/>
        </p:nvSpPr>
        <p:spPr>
          <a:xfrm>
            <a:off x="3708360" y="692280"/>
            <a:ext cx="374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75000"/>
                    </a:srgbClr>
                  </a:outerShdw>
                </a:effectLst>
                <a:latin typeface="隶书"/>
              </a:rPr>
              <a:t>爱的名言</a:t>
            </a:r>
            <a:endParaRPr b="1" i="1" lang="en-US" sz="2400" spc="-1" strike="noStrike">
              <a:ln w="9360">
                <a:solidFill>
                  <a:srgbClr val="ffff99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c0c0c0">
                    <a:alpha val="75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99" name="Text Box 9"/>
          <p:cNvSpPr/>
          <p:nvPr/>
        </p:nvSpPr>
        <p:spPr>
          <a:xfrm>
            <a:off x="1908000" y="2205000"/>
            <a:ext cx="69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</a:t>
            </a:r>
            <a:r>
              <a:rPr b="0" i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心地善良，心中有爱，你就会伸出一千只手帮助他人；心地善良，心中有爱，社会就伸出一千只手帮助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08000" y="4149720"/>
            <a:ext cx="8929800" cy="237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爱人者，人恒爱之；敬人者，人恒敬之。（《孟子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离娄下》）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44360" y="475920"/>
            <a:ext cx="741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楷体"/>
                <a:ea typeface="楷体"/>
              </a:rPr>
              <a:t>2</a:t>
            </a:r>
            <a:r>
              <a:rPr b="1" lang="zh-CN" sz="4400" spc="-1" strike="noStrike">
                <a:solidFill>
                  <a:srgbClr val="3333cc"/>
                </a:solidFill>
                <a:latin typeface="楷体"/>
                <a:ea typeface="楷体"/>
              </a:rPr>
              <a:t>、我被他们的对话惊呆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8352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我”为什么被他们的对话惊呆了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"/>
              </a:rPr>
              <a:t>我不明白那些医生为什么要将母亲的角膜给予他人，更让我无法明白的是，爸爸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"/>
              </a:rPr>
              <a:t>居然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"/>
              </a:rPr>
              <a:t>不假思索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"/>
              </a:rPr>
              <a:t>地答应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哪个词语能看出父亲“不假思索”地答应了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"/>
              </a:rPr>
              <a:t>当然可以。”爸爸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"/>
              </a:rPr>
              <a:t>痛快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"/>
              </a:rPr>
              <a:t>地回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你从“居然”中体会出“我”当时什么心理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"/>
              </a:rPr>
              <a:t>无法理解父亲，很气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1908000" y="5661000"/>
            <a:ext cx="5724720" cy="83988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324000" y="1484280"/>
            <a:ext cx="849600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    …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痛苦难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您怎么能让他们这样对待妈妈！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着父亲哭喊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妈妈完整地来到世上，也应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完整地离去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69800" y="438120"/>
            <a:ext cx="842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我会读：准确、流利、有感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655308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468360" y="1052640"/>
            <a:ext cx="8424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我痛苦难忍，不顾一切地冲进了自己的房间。“你怎么能这样对待妈妈！”我冲着爸爸哭喊，“妈妈完整地来到世上，也应该完整地离去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359000" y="2871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615360" y="1268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198120" y="903960"/>
            <a:ext cx="14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hōnɡ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68320" y="2564640"/>
            <a:ext cx="14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hònɡ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爸爸的解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楷体"/>
                <a:ea typeface="楷体"/>
              </a:rPr>
              <a:t> “</a:t>
            </a:r>
            <a:r>
              <a:rPr b="1" lang="zh-CN" sz="4400" spc="-1" strike="noStrike">
                <a:solidFill>
                  <a:srgbClr val="3333cc"/>
                </a:solidFill>
                <a:latin typeface="楷体"/>
                <a:ea typeface="楷体"/>
              </a:rPr>
              <a:t>你所能给予他人的最珍贵的东西莫过于自身的一部分。很久以前，你妈妈和我认为，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如果我们的死亡之躯能有助于他人健康的恢复，我们的死就是有意义的。</a:t>
            </a:r>
            <a:r>
              <a:rPr b="1" lang="en-US" sz="4400" spc="-1" strike="noStrike">
                <a:solidFill>
                  <a:srgbClr val="3333cc"/>
                </a:solidFill>
                <a:latin typeface="楷体"/>
                <a:ea typeface="楷体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971640" y="62064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你认为文中哪些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黑体"/>
              </a:rPr>
              <a:t>语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描写，最能表现琳达一家三代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关爱他人、无私奉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高尚品质？找出文中含有“骄傲”的句子，有感情地朗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4752720" cy="306864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3203640" y="5084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隶书"/>
              </a:rPr>
              <a:t>人的眼睛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8356680" y="5300640"/>
            <a:ext cx="787320" cy="128592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7380360" y="5877000"/>
            <a:ext cx="858600" cy="7700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3032280" y="131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971640" y="549360"/>
            <a:ext cx="7704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所能给予他人的最珍贵的东西莫过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身的一部分。很久以前，你妈妈和我认为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我们的死亡之躯能有助于他人健康的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，我们的死就是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意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“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如果一个盲童能够借助我们的帮助重见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明，并像你女儿温迪一样画出栩栩如生的马儿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那多么美妙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“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当你们得知我的眼睛起了作用，你们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会多么自豪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6554880" cy="588636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268360" y="692280"/>
            <a:ext cx="676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父亲</a:t>
            </a:r>
            <a:r>
              <a:rPr b="0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与世长辞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后，我</a:t>
            </a:r>
            <a:r>
              <a:rPr b="0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遵（</a:t>
            </a:r>
            <a:r>
              <a:rPr b="0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zūn</a:t>
            </a:r>
            <a:r>
              <a:rPr b="0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r>
              <a:rPr b="0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从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他的遗愿捐赠了他的眼睛角膜。温迪告诉我：“妈妈，我真为你、为外公所做的一切感到</a:t>
            </a:r>
            <a:r>
              <a:rPr b="0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骄傲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”“这令你</a:t>
            </a:r>
            <a:r>
              <a:rPr b="0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骄傲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吗？”我问。“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当然，你想过什么也看不见会有多么痛苦吗！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我死后，也学外公将眼睛角膜捐给失明的人，让他们</a:t>
            </a:r>
            <a:r>
              <a:rPr b="0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重（</a:t>
            </a:r>
            <a:r>
              <a:rPr b="0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chóng</a:t>
            </a:r>
            <a:r>
              <a:rPr b="0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r>
              <a:rPr b="0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见天日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5105520" y="1447920"/>
            <a:ext cx="1501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0" y="2852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52360" y="1399680"/>
            <a:ext cx="8748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你想过什么也看不见会有多么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苦吗？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3132000" y="2421000"/>
            <a:ext cx="431028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4581720" y="5300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盲童只能用双耳感受节日的快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580000" cy="4162680"/>
          </a:xfrm>
          <a:prstGeom prst="rect">
            <a:avLst/>
          </a:prstGeom>
          <a:ln w="0">
            <a:noFill/>
          </a:ln>
        </p:spPr>
      </p:pic>
      <p:pic>
        <p:nvPicPr>
          <p:cNvPr id="631" name="韦唯-爱的奉献" descr=""/>
          <p:cNvPicPr/>
          <p:nvPr/>
        </p:nvPicPr>
        <p:blipFill>
          <a:blip r:embed="rId2"/>
          <a:stretch/>
        </p:blipFill>
        <p:spPr>
          <a:xfrm>
            <a:off x="25236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3490560" y="522936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谁能告诉我郁金香究竟有多美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3" name="" descr="春"/>
          <p:cNvPicPr/>
          <p:nvPr/>
        </p:nvPicPr>
        <p:blipFill>
          <a:blip r:embed="rId1"/>
          <a:stretch/>
        </p:blipFill>
        <p:spPr>
          <a:xfrm>
            <a:off x="2484360" y="981000"/>
            <a:ext cx="5112000" cy="35784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zoom dir="in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4525200" y="57340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盲童的世界里哪能看到一丝丝阳光呢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1835280" y="836640"/>
            <a:ext cx="5976720" cy="44798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zoom dir="in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3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2800080" y="551664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谁能告诉我网络世界究竟有多么精彩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5400720" cy="4599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zoom dir="in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3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3673440" cy="25830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春"/>
          <p:cNvPicPr/>
          <p:nvPr/>
        </p:nvPicPr>
        <p:blipFill>
          <a:blip r:embed="rId2"/>
          <a:stretch/>
        </p:blipFill>
        <p:spPr>
          <a:xfrm>
            <a:off x="5076720" y="333360"/>
            <a:ext cx="3159360" cy="241632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3"/>
          <a:stretch/>
        </p:blipFill>
        <p:spPr>
          <a:xfrm>
            <a:off x="468360" y="342900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4"/>
          <a:stretch/>
        </p:blipFill>
        <p:spPr>
          <a:xfrm>
            <a:off x="5003640" y="3357720"/>
            <a:ext cx="3205440" cy="2711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5105520" y="1447920"/>
            <a:ext cx="1501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2852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24000" y="1105920"/>
            <a:ext cx="8748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你想过什么也看不见会有多么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苦吗？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我死后，也学外公将眼睛送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失明的人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4140360" y="2781360"/>
            <a:ext cx="430848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1332000" y="2636640"/>
            <a:ext cx="82296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他还留下了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4572000" y="4653000"/>
            <a:ext cx="3745080" cy="189396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395280" y="981000"/>
            <a:ext cx="82296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在这一刻，我真正领悟到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父亲留下的远非一副角膜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924360" y="3429000"/>
            <a:ext cx="367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2052720" y="3933720"/>
            <a:ext cx="2376360" cy="16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爱心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1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2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3708360" y="508464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人的角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9744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8785080" cy="474192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34920" y="909720"/>
            <a:ext cx="882000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那天，我紧紧搂着温迪。没想到，仅仅是两周之后，我再一次为器官捐献组织签署了同意书。我的可爱的女儿，才华横溢的小温迪，在一次交通事故中丧生了…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失去温迪三周后，我收到奥列根勇敢者角膜中心的信。信上写道：“角膜移植非常成功。现在，两位昔日盲人已重见天日。他们成为您女儿——一位极其热爱生命的女孩的活的纪念，并有幸分享她的美丽…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10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10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10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10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1023840" y="5234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55640" y="527292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邓小平爷爷逝世之后，捐献了自己的眼角膜，将生命的最后光辉献给了爱戴他的中国人民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658" name=""/>
          <p:cNvGrpSpPr/>
          <p:nvPr/>
        </p:nvGrpSpPr>
        <p:grpSpPr>
          <a:xfrm>
            <a:off x="900000" y="0"/>
            <a:ext cx="7559280" cy="4723920"/>
            <a:chOff x="900000" y="0"/>
            <a:chExt cx="7559280" cy="4723920"/>
          </a:xfrm>
        </p:grpSpPr>
        <p:pic>
          <p:nvPicPr>
            <p:cNvPr id="659" name="" descr=""/>
            <p:cNvPicPr/>
            <p:nvPr/>
          </p:nvPicPr>
          <p:blipFill>
            <a:blip r:embed="rId2"/>
            <a:stretch/>
          </p:blipFill>
          <p:spPr>
            <a:xfrm>
              <a:off x="900000" y="0"/>
              <a:ext cx="3429000" cy="47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4303440" y="0"/>
              <a:ext cx="4155840" cy="4723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3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1"/>
          <a:stretch/>
        </p:blipFill>
        <p:spPr>
          <a:xfrm>
            <a:off x="0" y="-95400"/>
            <a:ext cx="8820000" cy="546912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179280" y="5445000"/>
            <a:ext cx="85899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200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年感动中国十大人物”之一的丛飞去世后捐献的角膜帮助两位少女恢复光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30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1"/>
          <a:srcRect l="-210" t="0" r="0" b="31189"/>
          <a:stretch/>
        </p:blipFill>
        <p:spPr>
          <a:xfrm>
            <a:off x="1187280" y="981000"/>
            <a:ext cx="7290000" cy="337032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539640" y="530064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这对普通的夫妻俩得知自己身患癌症，正在签捐赠器官协议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3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3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136000" cy="489600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50920" y="5300640"/>
            <a:ext cx="8893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两位幸运的男孩子接受了角膜移植，他们的眼睛多明亮啊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3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000"/>
                            </p:stCondLst>
                            <p:childTnLst>
                              <p:par>
                                <p:cTn id="3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1"/>
          <a:srcRect l="0" t="0" r="22330" b="1540"/>
          <a:stretch/>
        </p:blipFill>
        <p:spPr>
          <a:xfrm>
            <a:off x="1908000" y="765000"/>
            <a:ext cx="6320160" cy="476100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900000" y="602136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看到色彩斑斓的世界，她笑得多甜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1" dur="3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5" dur="3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8356680" y="5300640"/>
            <a:ext cx="787320" cy="128592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2"/>
          <a:stretch/>
        </p:blipFill>
        <p:spPr>
          <a:xfrm>
            <a:off x="7380360" y="5877000"/>
            <a:ext cx="858600" cy="77004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3032280" y="131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971640" y="549360"/>
            <a:ext cx="77040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如果我们的死亡之躯能有助于他人健康的恢复，我们的死就是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有意义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的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 “</a:t>
            </a: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如果一个盲童能够借助我们的帮助重见光明，并像你女儿温迪一样画出栩栩如生的马儿，那多么美妙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    “</a:t>
            </a: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当你们得知我的眼睛起了作用，你们将会多么自豪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1"/>
          <a:srcRect l="0" t="0" r="181" b="6486"/>
          <a:stretch/>
        </p:blipFill>
        <p:spPr>
          <a:xfrm>
            <a:off x="252360" y="262080"/>
            <a:ext cx="8804160" cy="618624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468360" y="1557360"/>
            <a:ext cx="867564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只要人人献出一点爱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世界将会变得更加美丽、光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9" dur="3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611280" y="1557360"/>
            <a:ext cx="8278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人眼的构造好比一部光学照相机，视网膜、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神经与大脑视觉中枢的功能就像胶卷，虹膜像是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圈，角膜就像是相机的镜头。角膜如果变得混浊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就好比照相机的镜头磨损了，会影响到相机影像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质量；如果替换成一个透明的好镜头，又可以照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清晰的照片，这就是我们通常所说的角膜移植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718440" y="549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隶书"/>
              </a:rPr>
              <a:t>角膜移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3348000" y="1916280"/>
            <a:ext cx="5796000" cy="445428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 txBox="1"/>
          <p:nvPr/>
        </p:nvSpPr>
        <p:spPr>
          <a:xfrm>
            <a:off x="2700360" y="2492280"/>
            <a:ext cx="403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永生的眼睛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692360" y="549000"/>
            <a:ext cx="6694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"/>
              </a:rPr>
              <a:t>     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楷体"/>
              </a:rPr>
              <a:t> 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楷体"/>
              </a:rPr>
              <a:t>1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"/>
              </a:rPr>
              <a:t>、那会儿，我的内心一直笼罩着巨大的悲哀与苦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908000" y="2205000"/>
            <a:ext cx="691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”叫什么名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05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宋体"/>
              </a:rPr>
              <a:t>琳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那会儿，“我”多大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05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宋体"/>
              </a:rPr>
              <a:t>14</a:t>
            </a:r>
            <a:r>
              <a:rPr b="1" lang="zh-CN" sz="3200" spc="-1" strike="noStrike">
                <a:solidFill>
                  <a:srgbClr val="ff5050"/>
                </a:solidFill>
                <a:latin typeface="宋体"/>
              </a:rPr>
              <a:t>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”为什么内心笼罩着巨大的悲痛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05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宋体"/>
              </a:rPr>
              <a:t>母亲因病去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4" descr="BJ_040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5"/>
          <p:cNvSpPr/>
          <p:nvPr/>
        </p:nvSpPr>
        <p:spPr>
          <a:xfrm>
            <a:off x="457200" y="304920"/>
            <a:ext cx="624852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333cc"/>
                </a:solidFill>
                <a:latin typeface="方正舒体"/>
                <a:ea typeface="方正舒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333cc"/>
                </a:solidFill>
                <a:latin typeface="方正舒体"/>
                <a:ea typeface="方正舒体"/>
              </a:rPr>
              <a:t>       </a:t>
            </a:r>
            <a:r>
              <a:rPr b="0" i="1" lang="zh-CN" sz="3200" spc="-1" strike="noStrike">
                <a:solidFill>
                  <a:srgbClr val="3333cc"/>
                </a:solidFill>
                <a:latin typeface="方正舒体"/>
                <a:ea typeface="方正舒体"/>
              </a:rPr>
              <a:t>世上只有妈妈好</a:t>
            </a:r>
            <a:r>
              <a:rPr b="0" i="1" lang="zh-CN" sz="3200" spc="-1" strike="noStrike">
                <a:solidFill>
                  <a:srgbClr val="3333cc"/>
                </a:solidFill>
                <a:latin typeface="方正舒体"/>
                <a:ea typeface="方正舒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333cc"/>
                </a:solidFill>
                <a:latin typeface="方正舒体"/>
                <a:ea typeface="方正舒体"/>
              </a:rPr>
              <a:t>       </a:t>
            </a:r>
            <a:r>
              <a:rPr b="0" i="1" lang="zh-CN" sz="3200" spc="-1" strike="noStrike">
                <a:solidFill>
                  <a:srgbClr val="3333cc"/>
                </a:solidFill>
                <a:latin typeface="方正舒体"/>
                <a:ea typeface="方正舒体"/>
              </a:rPr>
              <a:t>有妈的孩子像块宝</a:t>
            </a:r>
            <a:r>
              <a:rPr b="0" i="1" lang="zh-CN" sz="3200" spc="-1" strike="noStrike">
                <a:solidFill>
                  <a:srgbClr val="3333cc"/>
                </a:solidFill>
                <a:latin typeface="方正舒体"/>
                <a:ea typeface="方正舒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333cc"/>
                </a:solidFill>
                <a:latin typeface="方正舒体"/>
                <a:ea typeface="方正舒体"/>
              </a:rPr>
              <a:t>       </a:t>
            </a:r>
            <a:r>
              <a:rPr b="0" i="1" lang="zh-CN" sz="3200" spc="-1" strike="noStrike">
                <a:solidFill>
                  <a:srgbClr val="3333cc"/>
                </a:solidFill>
                <a:latin typeface="方正舒体"/>
                <a:ea typeface="方正舒体"/>
              </a:rPr>
              <a:t>投进妈妈的怀抱</a:t>
            </a:r>
            <a:r>
              <a:rPr b="0" i="1" lang="zh-CN" sz="3200" spc="-1" strike="noStrike">
                <a:solidFill>
                  <a:srgbClr val="3333cc"/>
                </a:solidFill>
                <a:latin typeface="方正舒体"/>
                <a:ea typeface="方正舒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333cc"/>
                </a:solidFill>
                <a:latin typeface="方正舒体"/>
                <a:ea typeface="方正舒体"/>
              </a:rPr>
              <a:t>       </a:t>
            </a:r>
            <a:r>
              <a:rPr b="0" i="1" lang="zh-CN" sz="3200" spc="-1" strike="noStrike">
                <a:solidFill>
                  <a:srgbClr val="3333cc"/>
                </a:solidFill>
                <a:latin typeface="方正舒体"/>
                <a:ea typeface="方正舒体"/>
              </a:rPr>
              <a:t>幸福享不了</a:t>
            </a:r>
            <a:r>
              <a:rPr b="0" i="1" lang="zh-CN" sz="3200" spc="-1" strike="noStrike">
                <a:solidFill>
                  <a:srgbClr val="3333cc"/>
                </a:solidFill>
                <a:latin typeface="方正舒体"/>
                <a:ea typeface="方正舒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333cc"/>
                </a:solidFill>
                <a:latin typeface="方正舒体"/>
                <a:ea typeface="方正舒体"/>
              </a:rPr>
              <a:t>       </a:t>
            </a:r>
            <a:r>
              <a:rPr b="0" i="1" lang="zh-CN" sz="3200" spc="-1" strike="noStrike">
                <a:solidFill>
                  <a:srgbClr val="3333cc"/>
                </a:solidFill>
                <a:latin typeface="方正舒体"/>
                <a:ea typeface="方正舒体"/>
              </a:rPr>
              <a:t>世上只有妈妈好</a:t>
            </a:r>
            <a:r>
              <a:rPr b="0" i="1" lang="zh-CN" sz="3200" spc="-1" strike="noStrike">
                <a:solidFill>
                  <a:srgbClr val="3333cc"/>
                </a:solidFill>
                <a:latin typeface="方正舒体"/>
                <a:ea typeface="方正舒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333cc"/>
                </a:solidFill>
                <a:latin typeface="方正舒体"/>
                <a:ea typeface="方正舒体"/>
              </a:rPr>
              <a:t>       </a:t>
            </a:r>
            <a:r>
              <a:rPr b="0" i="1" lang="zh-CN" sz="3200" spc="-1" strike="noStrike">
                <a:solidFill>
                  <a:srgbClr val="3333cc"/>
                </a:solidFill>
                <a:latin typeface="方正舒体"/>
                <a:ea typeface="方正舒体"/>
              </a:rPr>
              <a:t>没妈的孩子像根草</a:t>
            </a:r>
            <a:r>
              <a:rPr b="0" i="1" lang="zh-CN" sz="3200" spc="-1" strike="noStrike">
                <a:solidFill>
                  <a:srgbClr val="3333cc"/>
                </a:solidFill>
                <a:latin typeface="方正舒体"/>
                <a:ea typeface="方正舒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333cc"/>
                </a:solidFill>
                <a:latin typeface="方正舒体"/>
                <a:ea typeface="方正舒体"/>
              </a:rPr>
              <a:t>       </a:t>
            </a:r>
            <a:r>
              <a:rPr b="0" i="1" lang="zh-CN" sz="3200" spc="-1" strike="noStrike">
                <a:solidFill>
                  <a:srgbClr val="3333cc"/>
                </a:solidFill>
                <a:latin typeface="方正舒体"/>
                <a:ea typeface="方正舒体"/>
              </a:rPr>
              <a:t>离开妈妈的怀抱</a:t>
            </a:r>
            <a:r>
              <a:rPr b="0" i="1" lang="zh-CN" sz="3200" spc="-1" strike="noStrike">
                <a:solidFill>
                  <a:srgbClr val="3333cc"/>
                </a:solidFill>
                <a:latin typeface="方正舒体"/>
                <a:ea typeface="方正舒体"/>
              </a:rPr>
              <a:t>,</a:t>
            </a:r>
            <a:r>
              <a:rPr b="0" i="1" lang="zh-CN" sz="3200" spc="-1" strike="noStrike">
                <a:solidFill>
                  <a:srgbClr val="3333cc"/>
                </a:solidFill>
                <a:latin typeface="方正舒体"/>
                <a:ea typeface="方正舒体"/>
              </a:rPr>
              <a:t>幸福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333cc"/>
                </a:solidFill>
                <a:latin typeface="方正舒体"/>
                <a:ea typeface="方正舒体"/>
              </a:rPr>
              <a:t>       </a:t>
            </a:r>
            <a:r>
              <a:rPr b="0" i="1" lang="zh-CN" sz="3200" spc="-1" strike="noStrike">
                <a:solidFill>
                  <a:srgbClr val="3333cc"/>
                </a:solidFill>
                <a:latin typeface="方正舒体"/>
                <a:ea typeface="方正舒体"/>
              </a:rPr>
              <a:t>里找</a:t>
            </a:r>
            <a:r>
              <a:rPr b="0" i="1" lang="zh-CN" sz="3200" spc="-1" strike="noStrike">
                <a:solidFill>
                  <a:srgbClr val="3333cc"/>
                </a:solidFill>
                <a:latin typeface="Arial"/>
                <a:ea typeface="方正舒体"/>
              </a:rPr>
              <a:t>……</a:t>
            </a:r>
            <a:r>
              <a:rPr b="0" i="1" lang="zh-CN" sz="3200" spc="-1" strike="noStrike">
                <a:solidFill>
                  <a:srgbClr val="3333cc"/>
                </a:solidFill>
                <a:latin typeface="方正舒体"/>
                <a:ea typeface="方正舒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14"/>
          <p:cNvSpPr/>
          <p:nvPr/>
        </p:nvSpPr>
        <p:spPr>
          <a:xfrm>
            <a:off x="4393080" y="685800"/>
            <a:ext cx="2923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66ff"/>
                </a:solidFill>
                <a:latin typeface="方正舒体"/>
                <a:ea typeface="方正舒体"/>
              </a:rPr>
              <a:t>世上只有妈妈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上学期哪篇文章写过失去母亲的悲痛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楷体"/>
              </a:rPr>
              <a:t>一想到从此以后我再也得不到妈妈的呵护了，泪水便不由自主地流淌下来。我无法面对没有妈妈的孤零零的生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Times New Roman"/>
                <a:ea typeface="楷体"/>
              </a:rPr>
              <a:t>              </a:t>
            </a:r>
            <a:r>
              <a:rPr b="1" lang="zh-CN" sz="4000" spc="-1" strike="noStrike">
                <a:solidFill>
                  <a:srgbClr val="ff5050"/>
                </a:solidFill>
                <a:latin typeface="Times New Roman"/>
                <a:ea typeface="楷体"/>
              </a:rPr>
              <a:t>《卡罗纳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458640" y="1599840"/>
            <a:ext cx="821880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他面容灰白，眼睛哭红了，两腿站不稳，好像他自己也大病了一场似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332000" y="404640"/>
            <a:ext cx="46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卡罗纳的悲伤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03:35:33Z</dcterms:created>
  <dc:creator>Administrator</dc:creator>
  <dc:description/>
  <dc:language>en-US</dc:language>
  <cp:lastModifiedBy/>
  <dcterms:modified xsi:type="dcterms:W3CDTF">2015-08-11T03:17:09Z</dcterms:modified>
  <cp:revision>7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