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1D7-9768-4D6C-8C6F-B734EB11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7F0-FBAF-4862-85FC-6FA72DB1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A83E-5E7A-44B9-9DB2-E6758C54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FCF-AE6C-44A2-AA9A-FA525D78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D514D-F62B-46C5-88EA-172A71EB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F4970-9A9A-4F6C-A1CF-D05C932B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8AD60-05C7-44AC-9282-17757D71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C53A1-FEC7-4BCE-A678-F4C606A3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3D0B5-73C8-413A-B3DE-5FBC9484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49116-0903-4BB0-AB32-396BE694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7C14D-0B0C-4DEE-947E-77BD80C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C15-49A6-40E4-A43D-0D2BDECB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6F112-C460-44D0-8C0B-04A5E66D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7DCF1-63CB-41A1-A9BA-53F86E4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42D3A-1D17-465E-B872-1A23619F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96535-429C-4BE1-B232-93B3995F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36E99-092C-41C2-9D4D-64031B4A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8101E-5CF1-42AD-9D2C-229813AC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3A441-DFF1-40CB-9AB2-C9EA726E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8681-93D0-4AEF-8047-3602F76D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2BFF-4097-45BA-804E-28092DE5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15CB-0923-4FC9-8265-3E09F843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2B0-A267-473F-B44B-F301CB47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7CD0-7965-481A-BC69-244F42BB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6EB7-3521-49D0-8073-0B87B4A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2921-48AC-4F5D-A3B2-B741C5AC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F80AB-4268-4AE7-B09B-96199007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4BE6-3AA1-4B25-AA4F-B2906CF2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06784-D2FB-48AD-A64F-CAC8121E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59C8-BC53-49D7-8C4D-E97A3F0C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A99C0-EBD3-400D-BA0C-87165FB5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928C-9238-4D47-A852-C7957D8B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A715-2757-4D48-9976-E9B1148B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337-8962-4D88-8CF2-9A9B9B4A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E646A-5EBD-4A34-B34F-24D07C09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A68DC-2E38-4EC4-B84C-8F27DE3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B1F5-5BB8-4E27-943E-04B6C1E1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F4955-723D-4874-9C7D-905D34D4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A67C6-A2F7-48EE-8F31-8AA07121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EDD8C-08D0-4D4E-BA22-512ACD84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EC07-D784-473E-BDCC-3E8411A8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31460-66A5-449F-B6E3-9F87C2B63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26BE-61F6-4506-A5BB-B4FE43E2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E473-F14C-4F66-979B-F421B656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706-A7F6-4C23-8577-C419FC67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74A-283D-4925-8CF8-7CD9526A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86A-DA6D-4820-B7B3-A657C3C4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AFE-B7B2-41CF-88DD-4016DFC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9B23-93D5-45BE-93D2-5F9FF6469D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EDF2-F884-4B7F-A188-88B0A9112FD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32D2-4C78-4B52-B3BA-E86133656C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0FF1-EBE6-4DE5-84B0-5B5379998B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7"/>
          <p:cNvSpPr/>
          <p:nvPr/>
        </p:nvSpPr>
        <p:spPr>
          <a:xfrm>
            <a:off x="2362320" y="16765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685800" y="228600"/>
            <a:ext cx="63817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能说会写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295280" y="19810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76212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愚公移山的精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     神过时了吗？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246320" y="203040"/>
            <a:ext cx="638172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762120" y="1676520"/>
            <a:ext cx="7848360" cy="36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．围绕中心，充分阐述自己的观点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．通过课前查找资料搜集信息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．进行口语交际训练，提高口语表达能力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．把自己对问题的看法阐述清楚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．说话要有针对性，能有条理地说明自己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观点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48006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　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  <a:ea typeface="黑体"/>
              </a:rPr>
              <a:t>自学指导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3">
            <a:hlinkClick r:id="rId1" action="ppaction://hlinksldjump"/>
          </p:cNvPr>
          <p:cNvSpPr/>
          <p:nvPr/>
        </p:nvSpPr>
        <p:spPr>
          <a:xfrm>
            <a:off x="6019920" y="1981080"/>
            <a:ext cx="20574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宋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609480" y="211356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课前查找有关资料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学习题解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分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一组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愚公移山的精神已经过时了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观点，另一组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在当今社会中我们仍需要发扬愚公移山的精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观点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组内交流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全班讨论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如果在当今的社会中我们还用愚公移山的精神去做一些简单的事，是否会费时费力，达不到好效果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在当今社会中我们如果放弃了愚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持之以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的精神，人们变得越来越懒惰，科技是否还会继续进步呢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愚公移山的精神用在哪些方面合适？我们如何发扬这种精神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510552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黑体"/>
              </a:rPr>
              <a:t>当堂训练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609480" y="18579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必做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30312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于以上全班讨论的三个问题，把自己的理解写下来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WordArt 2"/>
          <p:cNvGrpSpPr/>
          <p:nvPr/>
        </p:nvGrpSpPr>
        <p:grpSpPr>
          <a:xfrm>
            <a:off x="2206800" y="2127240"/>
            <a:ext cx="4505040" cy="2146320"/>
            <a:chOff x="2206800" y="2127240"/>
            <a:chExt cx="4505040" cy="2146320"/>
          </a:xfrm>
        </p:grpSpPr>
        <p:pic>
          <p:nvPicPr>
            <p:cNvPr id="224" name="WordArt 2" descr=""/>
            <p:cNvPicPr/>
            <p:nvPr/>
          </p:nvPicPr>
          <p:blipFill>
            <a:blip r:embed="rId1"/>
            <a:stretch/>
          </p:blipFill>
          <p:spPr>
            <a:xfrm>
              <a:off x="2206800" y="2127240"/>
              <a:ext cx="4505040" cy="21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209680" y="2133720"/>
              <a:ext cx="4496040" cy="21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宋体"/>
                </a:rPr>
                <a:t>再见</a:t>
              </a:r>
              <a:endParaRPr b="0" lang="en-US" sz="6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04-29T06:44:45Z</dcterms:modified>
  <cp:revision>3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