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type.wav" ContentType="audio/x-wav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526-05C2-4E22-A1AF-C2842C0F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7BA8-44AC-454B-A830-77A0F39C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7130-F518-40BD-AA36-5825F857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43D2-91BF-4D59-96BF-0D713E3E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6718-9E15-4D4C-9E39-46E6592A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F65D-F38B-44EA-92BE-00B93686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43E7-795D-4B44-80B9-9827A30E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7FF4F-AE33-4DAD-94A1-736F00E3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A4A-1FA9-46DD-9C70-96FA0939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D6EBD-AEB5-46EE-90EC-E7D88776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11EC-3FF1-4183-AADB-BC137939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8FDB-8AC6-43E8-A514-1B746ED4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7DA-90D8-4336-8DD8-146CE2CF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DB04-4EDA-451C-89ED-DC38B0F7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BDCE-5346-470A-B8CA-BA4FB52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C100-839E-40EC-94EB-8843D25D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4697-2795-4136-B818-1EEF0C6D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3423D-F319-4CBE-8167-DC472E7B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CEB4-86AA-4CD3-9DF7-AD77D266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854B-6A34-4E66-A49F-74E06B7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CC3FA-9FE2-4323-9722-098EECAC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AEDD-AFC0-4ADA-BFC4-D12EB6AC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644-CD7B-441C-A71A-2F592D29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D23CE-5EA1-4E97-AC3C-8FA6FF73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30DA-8855-420D-9470-7D45AFC1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66AC-80C9-4233-BFAE-2A9028D4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C7281-325B-4074-ACF2-61136C10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0E9B3-4597-4436-BA5D-8E8FD1DB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359E7-29A1-410C-A6BF-65DBEC1C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56DA-1C07-42C0-B589-E5D45953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AD035-52F8-4AAD-B72E-18653C56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69107-9657-4026-90F7-8B346C5D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D1BDE-79B5-484A-8430-AE04389E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8646-7F83-4934-AB56-DD6F71DA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5B867-D011-47FB-831C-97BE05BE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5614-FB16-4FDB-8956-9F5FF183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C1775-35EC-439F-AAFC-7EB09CDD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F302C-C246-48FF-956F-B91AAB6C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93D4F-271B-4F35-B035-EDE940A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57372-C315-44C6-800E-B9C9249C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78151-FABD-4C11-9A11-E41B32B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7F4D3-AB10-4E9E-A227-627537E4E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4756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33240" y="9493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152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4756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33240" y="3661920"/>
            <a:ext cx="265284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54A16-257E-43F4-8EF7-650D1CE4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8928-CD03-4DCB-9D3E-74D49C6F0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1520" y="101160"/>
            <a:ext cx="8248680" cy="32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512-446F-465A-8199-24943D78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975-5B34-4B22-9398-73D285BF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240" y="36619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70D6-090D-4BAD-A34D-AEDEE14B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152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240" y="949320"/>
            <a:ext cx="402048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1520" y="3661920"/>
            <a:ext cx="8239320" cy="24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1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632-186F-4A91-8B33-B50A07C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rcRect l="400" t="0" r="0" b="11855"/>
          <a:stretch/>
        </p:blipFill>
        <p:spPr>
          <a:xfrm>
            <a:off x="0" y="720720"/>
            <a:ext cx="9142560" cy="614988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ECF4-C935-4C43-996D-1DB421CF495A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D084E-95B3-40DB-A554-370EA6DC8043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rcRect l="400" t="0" r="0" b="11855"/>
          <a:stretch/>
        </p:blipFill>
        <p:spPr>
          <a:xfrm>
            <a:off x="0" y="720720"/>
            <a:ext cx="9142560" cy="6149880"/>
          </a:xfrm>
          <a:prstGeom prst="rect">
            <a:avLst/>
          </a:prstGeom>
          <a:ln w="0">
            <a:noFill/>
          </a:ln>
        </p:spPr>
      </p:pic>
      <p:sp>
        <p:nvSpPr>
          <p:cNvPr id="44" name="矩形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2C4C-D771-4D51-AE90-FD645508E683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76B4-FCF0-40CA-BD93-CE3A2B48E83D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dfff7"/>
              </a:gs>
              <a:gs pos="100000">
                <a:srgbClr val="ffffff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154C-A6D8-451E-A5AB-C18D3BC1640C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F2C9-7E72-4AA6-93CD-CBEC2E866FBC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1520" y="101160"/>
            <a:ext cx="82486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5f1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61520" y="949320"/>
            <a:ext cx="823932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1" marL="444600" indent="469800" algn="just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2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3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4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5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lvl="6" algn="just">
              <a:lnSpc>
                <a:spcPct val="110000"/>
              </a:lnSpc>
              <a:spcBef>
                <a:spcPts val="1800"/>
              </a:spcBef>
              <a:buClr>
                <a:srgbClr val="3d3f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ACF2-356C-45F6-8A76-BD401155E5EB}" type="datetime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1929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913F-4FB5-4AC2-AED4-588EA8FFF1BB}" type="slidenum">
              <a:rPr b="0" lang="zh-CN" sz="1200" spc="-1" strike="noStrike">
                <a:solidFill>
                  <a:srgbClr val="91929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内容占位符 2" descr=""/>
          <p:cNvPicPr/>
          <p:nvPr/>
        </p:nvPicPr>
        <p:blipFill>
          <a:blip r:embed="rId1"/>
          <a:stretch/>
        </p:blipFill>
        <p:spPr>
          <a:xfrm>
            <a:off x="250920" y="1771560"/>
            <a:ext cx="667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9600" y="1130400"/>
            <a:ext cx="6678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09600" y="2181240"/>
            <a:ext cx="6678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3f41"/>
                </a:solidFill>
                <a:latin typeface="宋体"/>
              </a:rPr>
              <a:t>1.</a:t>
            </a:r>
            <a:r>
              <a:rPr b="1" lang="zh-CN" sz="1700" spc="-1" strike="noStrike">
                <a:solidFill>
                  <a:srgbClr val="3d3f41"/>
                </a:solidFill>
                <a:latin typeface="宋体"/>
              </a:rPr>
              <a:t>在冰心奶奶的眼里，儿童就是太阳。你从哪里可以体会到？</a:t>
            </a:r>
            <a:endParaRPr b="0" lang="en-US" sz="17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3f41"/>
                </a:solidFill>
                <a:latin typeface="宋体"/>
              </a:rPr>
              <a:t>2.</a:t>
            </a:r>
            <a:r>
              <a:rPr b="1" lang="zh-CN" sz="1700" spc="-1" strike="noStrike">
                <a:solidFill>
                  <a:srgbClr val="3d3f41"/>
                </a:solidFill>
                <a:latin typeface="宋体"/>
              </a:rPr>
              <a:t>合作交流，儿童和太阳有什么相似点。</a:t>
            </a:r>
            <a:endParaRPr b="0" lang="en-US" sz="17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d3f41"/>
                </a:solidFill>
                <a:latin typeface="宋体"/>
              </a:rPr>
              <a:t>3.</a:t>
            </a:r>
            <a:r>
              <a:rPr b="1" lang="zh-CN" sz="1700" spc="-1" strike="noStrike">
                <a:solidFill>
                  <a:srgbClr val="3d3f41"/>
                </a:solidFill>
                <a:latin typeface="宋体"/>
              </a:rPr>
              <a:t>读一读，读出朝气。</a:t>
            </a:r>
            <a:endParaRPr b="0" lang="en-US" sz="17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28360" y="837720"/>
            <a:ext cx="783108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1957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年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11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月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日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莫斯科大学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数千名中国留苏学生和实习生从四面八方来到这里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期盼毛主席的接见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下午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时许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当毛主席和邓小平、彭德怀、乌兰夫、杨尚昆、胡乔木等领导人出现在莫斯科大学的大礼堂时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全场沸腾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欢声雷动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毛主席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高兴地走到讲台的前沿和两端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频频向大家招手致意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毛主席一开头就对留学生们说：“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世界是你们的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也是我们的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但是归根结底是你们的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你们青年人朝气蓬勃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正在兴旺时期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好像早晨八九点钟的太阳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希望寄托在你们身上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他还教导同学们说：“青年人应具备两点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一是朝气蓬勃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二是谦虚谨慎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.”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在讲话中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毛主席纵论天下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旁征博引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提出了“世界上怕就怕认真二字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共产党就最讲认真”的名言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毛主席的讲话亲切和蔼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风趣幽默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台上台下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有问有答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其乐融融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大厅内充满了欢声笑语</a:t>
            </a:r>
            <a:r>
              <a:rPr b="0" lang="zh-CN" sz="2000" spc="-1" strike="noStrike">
                <a:solidFill>
                  <a:srgbClr val="3d3f41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66200" y="188640"/>
            <a:ext cx="827748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Arial"/>
                <a:ea typeface="宋体"/>
              </a:rPr>
              <a:t>我们本想在知春亭畔喝茶，哪知道知春亭畔已是座无隙地！女孩子、男孩子，戴着红领巾的，把外衣脱下搭在肩上拿在手里的，东一堆，西一簇，叽叽呱呱地，也不知说些什么，笑些什么，个个鼻尖上闪着汗珠，小小的身躯上喷发着太阳的香气息。 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宋体"/>
              </a:rPr>
              <a:t>湖面无数坐满儿童的小船，在波浪上荡漾，一面一面鲜红的队旗，在东风里哗哗地响着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Arial"/>
                <a:ea typeface="宋体"/>
              </a:rPr>
              <a:t>沿着湖边的白石栏杆向玉澜堂走，在转弯的地方，总和一群一群的孩子撞个满怀，他们匆匆地说了声“对不起”，又匆匆地往前跑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09600" y="1130400"/>
            <a:ext cx="6678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209600" y="2181240"/>
            <a:ext cx="6678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12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宋体"/>
              </a:rPr>
              <a:t>在冰心奶奶是眼里，儿童不仅是天使，而且是花儿，走近玉澜堂的院落里，是什么使冰心奶奶的眼睛突然一亮？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 algn="just">
              <a:lnSpc>
                <a:spcPct val="14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3f41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走进玉澜堂的院落里，眼睛突然一亮。那几棵大海棠树，开满了密密层层的淡红的花。这繁花从树枝开到树梢，不留一点空隙，阳光下就像几座喷花的飞泉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图片 17409" descr="a8f2e34511046399b2b7dc18"/>
          <p:cNvPicPr/>
          <p:nvPr/>
        </p:nvPicPr>
        <p:blipFill>
          <a:blip r:embed="rId1"/>
          <a:stretch/>
        </p:blipFill>
        <p:spPr>
          <a:xfrm>
            <a:off x="4643280" y="3429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98" name="矩形 17410"/>
          <p:cNvSpPr/>
          <p:nvPr/>
        </p:nvSpPr>
        <p:spPr>
          <a:xfrm>
            <a:off x="324000" y="121824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那几棵大海棠树，开满了密密层层的淡红的花，这繁花从树枝开到树梢，不留一点儿空隙，阳光下就像几座喷花的飞泉</a:t>
            </a:r>
            <a:r>
              <a:rPr b="1" lang="en-US" sz="4000" spc="-1" strike="noStrike">
                <a:solidFill>
                  <a:srgbClr val="3d3f41"/>
                </a:solidFill>
                <a:latin typeface="Arial"/>
                <a:ea typeface="宋体"/>
              </a:rPr>
              <a:t>……</a:t>
            </a:r>
            <a:endParaRPr b="0" lang="en-US" sz="40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99" name="矩形 17411"/>
          <p:cNvSpPr/>
          <p:nvPr/>
        </p:nvSpPr>
        <p:spPr>
          <a:xfrm>
            <a:off x="324000" y="9309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d3f41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那几棵大海棠树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开满了密密层层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的淡红的花，这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繁花从树枝开到树梢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不留一点儿空隙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，阳光下就像几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喷花的飞泉</a:t>
            </a:r>
            <a:r>
              <a:rPr b="1" lang="en-US" sz="4000" spc="-1" strike="noStrike">
                <a:solidFill>
                  <a:srgbClr val="3d3f41"/>
                </a:solidFill>
                <a:latin typeface="Arial"/>
                <a:ea typeface="宋体"/>
              </a:rPr>
              <a:t>……</a:t>
            </a:r>
            <a:endParaRPr b="0" lang="en-US" sz="4000" spc="-1" strike="noStrike">
              <a:solidFill>
                <a:srgbClr val="3d3f41"/>
              </a:solidFill>
              <a:latin typeface="Times New Roman"/>
            </a:endParaRPr>
          </a:p>
        </p:txBody>
      </p:sp>
      <p:pic>
        <p:nvPicPr>
          <p:cNvPr id="200" name="图片 17412" descr="c5a4d8887db24c8da5c272ec"/>
          <p:cNvPicPr/>
          <p:nvPr/>
        </p:nvPicPr>
        <p:blipFill>
          <a:blip r:embed="rId2"/>
          <a:stretch/>
        </p:blipFill>
        <p:spPr>
          <a:xfrm>
            <a:off x="108000" y="3440160"/>
            <a:ext cx="43927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278000" y="1990440"/>
            <a:ext cx="661032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宋体"/>
              </a:rPr>
              <a:t>这里海棠树和其他地方的海棠树有什么不同？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大、开满、密密层层、不留一点儿空隙、飞泉）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836280"/>
            <a:ext cx="6851520" cy="92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5d5f1f"/>
                </a:solidFill>
                <a:latin typeface="Arial"/>
                <a:ea typeface="宋体"/>
              </a:rPr>
              <a:t>默读课文的</a:t>
            </a:r>
            <a:r>
              <a:rPr b="1" lang="zh-CN" sz="2900" spc="-1" strike="noStrike">
                <a:solidFill>
                  <a:srgbClr val="5d5f1f"/>
                </a:solidFill>
                <a:latin typeface="Arial"/>
                <a:ea typeface="宋体"/>
              </a:rPr>
              <a:t>6</a:t>
            </a:r>
            <a:r>
              <a:rPr b="1" lang="zh-CN" sz="2900" spc="-1" strike="noStrike">
                <a:solidFill>
                  <a:srgbClr val="5d5f1f"/>
                </a:solidFill>
                <a:latin typeface="Arial"/>
                <a:ea typeface="宋体"/>
              </a:rPr>
              <a:t>自然段， 用“</a:t>
            </a:r>
            <a:r>
              <a:rPr b="1" lang="en-US" sz="2900" spc="-1" strike="noStrike">
                <a:solidFill>
                  <a:srgbClr val="5d5f1f"/>
                </a:solidFill>
                <a:latin typeface="Arial"/>
                <a:ea typeface="宋体"/>
              </a:rPr>
              <a:t>﹏</a:t>
            </a:r>
            <a:r>
              <a:rPr b="1" lang="zh-CN" sz="2900" spc="-1" strike="noStrike">
                <a:solidFill>
                  <a:srgbClr val="5d5f1f"/>
                </a:solidFill>
                <a:latin typeface="Arial"/>
                <a:ea typeface="宋体"/>
              </a:rPr>
              <a:t>”画出作者感叹的语句。</a:t>
            </a:r>
            <a:endParaRPr b="1" lang="en-US" sz="29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26920" y="2131920"/>
            <a:ext cx="6678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d3f41"/>
                </a:solidFill>
                <a:latin typeface="Arial"/>
                <a:ea typeface="宋体"/>
              </a:rPr>
              <a:t>    </a:t>
            </a:r>
            <a:r>
              <a:rPr b="1" lang="zh-CN" sz="2200" spc="-1" strike="noStrike">
                <a:solidFill>
                  <a:srgbClr val="3d3f41"/>
                </a:solidFill>
                <a:latin typeface="Arial"/>
                <a:ea typeface="宋体"/>
              </a:rPr>
              <a:t>春光，竟会这样地饱满，这样地灿烂！它把一冬天蕴藏的精神、力量，都尽情地释放出来了！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两个感叹句的连用，非常强烈的表达了作者对春光的赞美之情。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42920" y="1412640"/>
            <a:ext cx="7313760" cy="30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Arial"/>
                <a:ea typeface="宋体"/>
              </a:rPr>
              <a:t>对，就是开得旺！只要管理得好，给它适时地浇水施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花儿和儿童一样，在春天的感召下，就会欢畅活泼地，以旺盛的生命力，舒展出新鲜美丽的四肢，使出浑身解数。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  <a:ea typeface="宋体"/>
              </a:rPr>
              <a:t>这时候，自己感到快乐，别人看着也快乐。 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01440" y="1566720"/>
            <a:ext cx="756900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4428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在冰心奶奶的眼里，儿童就是小天使，就是花儿，就是太阳。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  <a:p>
            <a:pPr marL="444600" indent="4428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  <a:p>
            <a:pPr marL="444600" indent="442800" algn="just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3d3f41"/>
                </a:solidFill>
                <a:latin typeface="宋体"/>
                <a:ea typeface="宋体"/>
              </a:rPr>
              <a:t>同学们，春天在哪里？当你春游的时候，记住“只拣儿童多处行”，是永远不会找不到春天的！</a:t>
            </a:r>
            <a:endParaRPr b="0" lang="en-US" sz="2800" spc="-1" strike="noStrike">
              <a:solidFill>
                <a:srgbClr val="3d3f41"/>
              </a:solidFill>
              <a:latin typeface="Arial"/>
            </a:endParaRPr>
          </a:p>
          <a:p>
            <a:pPr marL="444600" indent="442800" algn="just">
              <a:lnSpc>
                <a:spcPct val="72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d3f41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442800" algn="just">
              <a:lnSpc>
                <a:spcPct val="112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2560" y="475920"/>
            <a:ext cx="6678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5f1f"/>
                </a:solidFill>
                <a:latin typeface="黑体"/>
                <a:ea typeface="黑体"/>
              </a:rPr>
              <a:t>冰心</a:t>
            </a: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55640" y="1628640"/>
            <a:ext cx="6678720" cy="29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冰心</a:t>
            </a:r>
            <a:r>
              <a:rPr b="1" lang="en-US" sz="2200" spc="-1" strike="noStrike">
                <a:solidFill>
                  <a:srgbClr val="3d3f41"/>
                </a:solidFill>
                <a:latin typeface="黑体"/>
                <a:ea typeface="黑体"/>
              </a:rPr>
              <a:t>(1900-1999),</a:t>
            </a: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原名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谢婉莹</a:t>
            </a: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。现代女作家、儿童文学作家。从</a:t>
            </a:r>
            <a:r>
              <a:rPr b="1" lang="en-US" sz="2200" spc="-1" strike="noStrike">
                <a:solidFill>
                  <a:srgbClr val="3d3f41"/>
                </a:solidFill>
                <a:latin typeface="黑体"/>
                <a:ea typeface="黑体"/>
              </a:rPr>
              <a:t>1919</a:t>
            </a: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年</a:t>
            </a:r>
            <a:r>
              <a:rPr b="1" lang="en-US" sz="2200" spc="-1" strike="noStrike">
                <a:solidFill>
                  <a:srgbClr val="3d3f41"/>
                </a:solidFill>
                <a:latin typeface="黑体"/>
                <a:ea typeface="黑体"/>
              </a:rPr>
              <a:t>9</a:t>
            </a: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月起</a:t>
            </a:r>
            <a:r>
              <a:rPr b="1" lang="en-US" sz="2200" spc="-1" strike="noStrike">
                <a:solidFill>
                  <a:srgbClr val="3d3f41"/>
                </a:solidFill>
                <a:latin typeface="黑体"/>
                <a:ea typeface="黑体"/>
              </a:rPr>
              <a:t>,</a:t>
            </a: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以冰心为笔名写了许多问题小说，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作品多围绕母爱和童心</a:t>
            </a: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，在社会上引起了较为强烈的反响。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代表作有短诗集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繁星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春水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，散文集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寄小读者</a:t>
            </a:r>
            <a:r>
              <a:rPr b="1" lang="en-US" sz="22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等</a:t>
            </a:r>
            <a:r>
              <a:rPr b="1" lang="en-US" sz="2200" spc="-1" strike="noStrike">
                <a:solidFill>
                  <a:srgbClr val="3d3f41"/>
                </a:solidFill>
                <a:latin typeface="黑体"/>
                <a:ea typeface="黑体"/>
              </a:rPr>
              <a:t>,</a:t>
            </a:r>
            <a:r>
              <a:rPr b="1" lang="zh-CN" sz="2200" spc="-1" strike="noStrike">
                <a:solidFill>
                  <a:srgbClr val="3d3f41"/>
                </a:solidFill>
                <a:latin typeface="黑体"/>
                <a:ea typeface="黑体"/>
              </a:rPr>
              <a:t>为文坛瞩目。 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09600" y="1130400"/>
            <a:ext cx="6678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09600" y="2181240"/>
            <a:ext cx="6678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你是怎么理解“游人不解春何在，只拣儿童多处行”这两句诗的意思？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907560"/>
            <a:ext cx="804384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 algn="just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我们随冰心奶奶一道去颐和园找春天，我们看到的是什么情景？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0" algn="just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209" name="左大括号 114692"/>
          <p:cNvSpPr/>
          <p:nvPr/>
        </p:nvSpPr>
        <p:spPr>
          <a:xfrm>
            <a:off x="1116000" y="2421000"/>
            <a:ext cx="152280" cy="3200400"/>
          </a:xfrm>
          <a:custGeom>
            <a:avLst/>
            <a:gdLst>
              <a:gd name="textAreaLeft" fmla="*/ 97200 w 152280"/>
              <a:gd name="textAreaRight" fmla="*/ 152640 w 1522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0000"/>
          </a:solidFill>
          <a:ln w="9360">
            <a:solidFill>
              <a:srgbClr val="3d3f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210" name="文本框 114693"/>
          <p:cNvSpPr/>
          <p:nvPr/>
        </p:nvSpPr>
        <p:spPr>
          <a:xfrm>
            <a:off x="1476360" y="2565360"/>
            <a:ext cx="5181480" cy="2775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</a:rPr>
              <a:t>颐和园门口儿童多                                                                                                           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211" name="文本框 114694"/>
          <p:cNvSpPr/>
          <p:nvPr/>
        </p:nvSpPr>
        <p:spPr>
          <a:xfrm>
            <a:off x="1547640" y="3573360"/>
            <a:ext cx="510552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</a:rPr>
              <a:t>知春亭畔儿童多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212" name="文本框 114695"/>
          <p:cNvSpPr/>
          <p:nvPr/>
        </p:nvSpPr>
        <p:spPr>
          <a:xfrm>
            <a:off x="1547640" y="4724280"/>
            <a:ext cx="5105520" cy="1434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Times New Roman"/>
              </a:rPr>
              <a:t>湖面湖边儿童多                                        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75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75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7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75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75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09600" y="1130400"/>
            <a:ext cx="6678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5f1f"/>
                </a:solidFill>
                <a:latin typeface="Arial"/>
              </a:rPr>
              <a:t>中心思想：</a:t>
            </a: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209600" y="2181240"/>
            <a:ext cx="6678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本文通过对一群像春天般充满活力的儿童的描述，表现了儿童活泼可爱的特点，表达了作者喜爱儿童的思想感情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667836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5f1f"/>
                </a:solidFill>
                <a:latin typeface="Arial"/>
              </a:rPr>
              <a:t>课后题</a:t>
            </a: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6360" y="1053720"/>
            <a:ext cx="8115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）这样改的原因是：儿童像春天般生机勃勃，他们就像快乐流动的音符，到哪就会给哪带来生机和快乐，跟着他们的足迹就能找到春天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）课文中对儿童的描写表达了作者对儿童的喜爱之情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在春天里花儿和儿童一样，生机勃勃，充满生机和活力，</a:t>
            </a: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让别人看着也快乐</a:t>
            </a:r>
            <a:r>
              <a:rPr b="0" lang="en-US" sz="2400" spc="-1" strike="noStrike">
                <a:solidFill>
                  <a:srgbClr val="3d3f41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3d3f41"/>
                </a:solidFill>
                <a:latin typeface="Arial"/>
              </a:rPr>
              <a:t>。因而可以看出，作者表面是在赞美春天的花朵，实际是赞美生机勃勃的儿童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1196640"/>
            <a:ext cx="667872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隶书"/>
              </a:rPr>
              <a:t>学习目标</a:t>
            </a:r>
            <a:br>
              <a:rPr sz="3200"/>
            </a:b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26920" y="1557000"/>
            <a:ext cx="667872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f41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3d3f41"/>
                </a:solidFill>
                <a:latin typeface="宋体"/>
              </a:rPr>
              <a:t>认识本课的生字，正确、流利、有感情地朗读课文</a:t>
            </a:r>
            <a:r>
              <a:rPr b="1" lang="en-US" sz="2000" spc="-1" strike="noStrike">
                <a:solidFill>
                  <a:srgbClr val="3d3f41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3d3f41"/>
                </a:solidFill>
                <a:latin typeface="宋体"/>
              </a:rPr>
              <a:t>感受到春天的花儿和儿童都是那么生机勃勃，令人快乐。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d3f41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3d3f41"/>
                </a:solidFill>
                <a:latin typeface="宋体"/>
              </a:rPr>
              <a:t>理解冰心奶奶为什么说“游人不解春何在，只拣儿童多处行”，体会文章表达的思想感情。</a:t>
            </a:r>
            <a:endParaRPr b="0" lang="en-US" sz="20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4098"/>
          <p:cNvSpPr/>
          <p:nvPr/>
        </p:nvSpPr>
        <p:spPr>
          <a:xfrm>
            <a:off x="2405160" y="333000"/>
            <a:ext cx="50238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3f41"/>
                </a:solidFill>
                <a:latin typeface="Arial"/>
                <a:ea typeface="宋体"/>
              </a:rPr>
              <a:t>         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李商隐的</a:t>
            </a:r>
            <a:r>
              <a:rPr b="1" lang="en-US" sz="4000" spc="-1" strike="noStrike">
                <a:solidFill>
                  <a:srgbClr val="3d3f41"/>
                </a:solidFill>
                <a:latin typeface="Arial"/>
                <a:ea typeface="宋体"/>
              </a:rPr>
              <a:t>《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暮秋独游曲江</a:t>
            </a:r>
            <a:r>
              <a:rPr b="1" lang="en-US" sz="4000" spc="-1" strike="noStrike">
                <a:solidFill>
                  <a:srgbClr val="3d3f41"/>
                </a:solidFill>
                <a:latin typeface="Arial"/>
                <a:ea typeface="宋体"/>
              </a:rPr>
              <a:t>》 </a:t>
            </a:r>
            <a:br>
              <a:rPr sz="4000"/>
            </a:b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深知身在情长在，怅望江头江水声。 </a:t>
            </a:r>
            <a:br>
              <a:rPr sz="4000"/>
            </a:b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白发未除豪气在，醉吹横笛坐榕明。 </a:t>
            </a:r>
            <a:br>
              <a:rPr sz="4000"/>
            </a:b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天荒地变吾仍在，花冷山深奈吾何。 </a:t>
            </a:r>
            <a:br>
              <a:rPr sz="4000"/>
            </a:b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洗竹放教风自在，隔溪看得月分明。 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儿童不解春何在，只向游人多处行。</a:t>
            </a: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3d3f41"/>
                </a:solidFill>
                <a:latin typeface="Arial"/>
                <a:ea typeface="宋体"/>
              </a:rPr>
              <a:t>开帘一寄平生快，万顷空江着月明。</a:t>
            </a:r>
            <a:endParaRPr b="0" lang="en-US" sz="40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76" name="矩形 4099"/>
          <p:cNvSpPr/>
          <p:nvPr/>
        </p:nvSpPr>
        <p:spPr>
          <a:xfrm>
            <a:off x="2411280" y="523404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游人不解春何在，只拣儿童多处行。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3d3f41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81200" y="4049640"/>
            <a:ext cx="7848360" cy="360"/>
            <a:chOff x="781200" y="4049640"/>
            <a:chExt cx="7848360" cy="360"/>
          </a:xfrm>
        </p:grpSpPr>
        <p:sp>
          <p:nvSpPr>
            <p:cNvPr id="178" name="直接连接符 4100"/>
            <p:cNvSpPr/>
            <p:nvPr/>
          </p:nvSpPr>
          <p:spPr>
            <a:xfrm>
              <a:off x="781200" y="4049640"/>
              <a:ext cx="78483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d3f41"/>
                </a:solidFill>
                <a:latin typeface="Times New Roman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781200" y="404964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d3f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09600" y="1130400"/>
            <a:ext cx="6678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d5f1f"/>
                </a:solidFill>
                <a:latin typeface="Arial"/>
              </a:rPr>
              <a:t>《田间》</a:t>
            </a:r>
            <a:endParaRPr b="1" lang="en-US" sz="32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763280" y="1485720"/>
            <a:ext cx="7172280" cy="34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                       </a:t>
            </a: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田间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                    </a:t>
            </a: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清</a:t>
            </a: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* </a:t>
            </a: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汪楫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小妇扶犁大妇耕，陇头一树有啼莺。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d3f41"/>
                </a:solidFill>
                <a:latin typeface="Arial"/>
              </a:rPr>
              <a:t>儿童不解春何在，只向游人多处行。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91720" y="694800"/>
            <a:ext cx="1220760" cy="531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聚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匆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梢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释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额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  <a:p>
            <a:pPr algn="just">
              <a:lnSpc>
                <a:spcPct val="14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楷体"/>
                <a:ea typeface="楷体"/>
              </a:rPr>
              <a:t>纽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3" name="文本框 3"/>
          <p:cNvSpPr/>
          <p:nvPr/>
        </p:nvSpPr>
        <p:spPr>
          <a:xfrm>
            <a:off x="1692360" y="907920"/>
            <a:ext cx="61084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"/>
                <a:ea typeface="楷体"/>
              </a:rPr>
              <a:t>（大概）（概括）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"/>
                <a:ea typeface="楷体"/>
              </a:rPr>
              <a:t>（聚集）（聚精会神）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"/>
                <a:ea typeface="楷体"/>
              </a:rPr>
              <a:t>（匆忙）（急匆匆）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"/>
                <a:ea typeface="楷体"/>
              </a:rPr>
              <a:t>（树梢）（末梢）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"/>
                <a:ea typeface="楷体"/>
              </a:rPr>
              <a:t>（解释）（爱不释手）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"/>
                <a:ea typeface="楷体"/>
              </a:rPr>
              <a:t>（额头）（名额）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d3f41"/>
                </a:solidFill>
                <a:latin typeface="楷体"/>
                <a:ea typeface="楷体"/>
              </a:rPr>
              <a:t>（纽扣）（纽带）</a:t>
            </a:r>
            <a:endParaRPr b="0" lang="en-US" sz="4400" spc="-1" strike="noStrike">
              <a:solidFill>
                <a:srgbClr val="3d3f41"/>
              </a:solidFill>
              <a:latin typeface="Times New Roman"/>
            </a:endParaRPr>
          </a:p>
        </p:txBody>
      </p:sp>
      <p:sp>
        <p:nvSpPr>
          <p:cNvPr id="184" name="文本框 4"/>
          <p:cNvSpPr/>
          <p:nvPr/>
        </p:nvSpPr>
        <p:spPr>
          <a:xfrm>
            <a:off x="466560" y="189000"/>
            <a:ext cx="182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学习生字</a:t>
            </a:r>
            <a:endParaRPr b="0" lang="en-US" sz="2400" spc="-1" strike="noStrike">
              <a:solidFill>
                <a:srgbClr val="3d3f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9640" y="765000"/>
            <a:ext cx="96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99"/>
                </a:solidFill>
                <a:latin typeface="宋体"/>
              </a:rPr>
              <a:t>旺 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99"/>
                </a:solidFill>
                <a:latin typeface="宋体"/>
              </a:rPr>
              <a:t>召 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99"/>
                </a:solidFill>
                <a:latin typeface="宋体"/>
              </a:rPr>
              <a:t>拣 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99"/>
                </a:solidFill>
                <a:latin typeface="宋体"/>
              </a:rPr>
              <a:t>隙 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99"/>
                </a:solidFill>
                <a:latin typeface="宋体"/>
              </a:rPr>
              <a:t>漾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99"/>
                </a:solidFill>
                <a:latin typeface="宋体"/>
              </a:rPr>
              <a:t>棠</a:t>
            </a: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d3f41"/>
              </a:solidFill>
              <a:latin typeface="Arial"/>
            </a:endParaRPr>
          </a:p>
        </p:txBody>
      </p:sp>
      <p:sp>
        <p:nvSpPr>
          <p:cNvPr id="186" name="文本框 3"/>
          <p:cNvSpPr/>
          <p:nvPr/>
        </p:nvSpPr>
        <p:spPr>
          <a:xfrm>
            <a:off x="1908000" y="549360"/>
            <a:ext cx="59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Arial"/>
                <a:ea typeface="微软雅黑"/>
              </a:rPr>
              <a:t>（旺盛）（旺季）</a:t>
            </a:r>
            <a:endParaRPr b="0" lang="en-US" sz="36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Arial"/>
                <a:ea typeface="微软雅黑"/>
              </a:rPr>
              <a:t>（感召）（召开）</a:t>
            </a:r>
            <a:endParaRPr b="0" lang="en-US" sz="36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Arial"/>
                <a:ea typeface="微软雅黑"/>
              </a:rPr>
              <a:t>（挑拣）（捡菜）</a:t>
            </a:r>
            <a:endParaRPr b="0" lang="en-US" sz="36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Arial"/>
                <a:ea typeface="微软雅黑"/>
              </a:rPr>
              <a:t>（缝隙）（空隙）</a:t>
            </a:r>
            <a:endParaRPr b="0" lang="en-US" sz="36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Arial"/>
                <a:ea typeface="微软雅黑"/>
              </a:rPr>
              <a:t>（荡漾）（漾舟）</a:t>
            </a:r>
            <a:endParaRPr b="0" lang="en-US" sz="36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d3f41"/>
                </a:solidFill>
                <a:latin typeface="Arial"/>
                <a:ea typeface="微软雅黑"/>
              </a:rPr>
              <a:t>（海棠）（棠梨）</a:t>
            </a:r>
            <a:r>
              <a:rPr b="0" lang="zh-CN" sz="1400" spc="-1" strike="noStrike">
                <a:solidFill>
                  <a:srgbClr val="3d3f41"/>
                </a:solidFill>
                <a:latin typeface="Arial"/>
                <a:ea typeface="微软雅黑"/>
              </a:rPr>
              <a:t>落叶乔木，果实略呈球形。</a:t>
            </a:r>
            <a:endParaRPr b="0" lang="en-US" sz="1400" spc="-1" strike="noStrike">
              <a:solidFill>
                <a:srgbClr val="3d3f41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d3f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09600" y="1130400"/>
            <a:ext cx="6678720" cy="69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ff"/>
                </a:solidFill>
                <a:latin typeface="Arial"/>
                <a:ea typeface="宋体"/>
              </a:rPr>
              <a:t>快速地读课文，找一找课文写了哪几个地方的儿童多？</a:t>
            </a:r>
            <a:endParaRPr b="1" lang="en-US" sz="2900" spc="-1" strike="noStrike">
              <a:solidFill>
                <a:srgbClr val="5d5f1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209600" y="2181240"/>
            <a:ext cx="6678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颐和园门口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知春亭畔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湖面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湖边</a:t>
            </a: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宋体"/>
              </a:rPr>
              <a:t>→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玉澜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209600" y="2181240"/>
            <a:ext cx="667872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140000"/>
              </a:lnSpc>
              <a:spcBef>
                <a:spcPts val="18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3f41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d3f41"/>
                </a:solidFill>
                <a:latin typeface="Arial"/>
              </a:rPr>
              <a:t>从香山归来，路过颐和园，看见成千盈百的孩子，闹嚷嚷地从颐和园门内挤了出来，就像从一只大魔术匣子里，飞涌出一群接着一群的小天使。</a:t>
            </a:r>
            <a:endParaRPr b="0" lang="en-US" sz="2400" spc="-1" strike="noStrike">
              <a:solidFill>
                <a:srgbClr val="3d3f4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02:43:33Z</dcterms:created>
  <dc:creator/>
  <dc:description/>
  <dc:language>en-US</dc:language>
  <cp:lastModifiedBy>hp</cp:lastModifiedBy>
  <dcterms:modified xsi:type="dcterms:W3CDTF">2016-02-28T13:16:46Z</dcterms:modified>
  <cp:revision>45</cp:revision>
  <dc:subject/>
  <dc:title>在金色的海滩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