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jpeg" ContentType="image/jpeg"/>
  <Override PartName="/ppt/media/image28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7.png" ContentType="image/png"/>
  <Override PartName="/ppt/media/image14.gif" ContentType="image/gif"/>
  <Override PartName="/ppt/media/image1.jpeg" ContentType="image/jpeg"/>
  <Override PartName="/ppt/media/image27.gif" ContentType="image/gi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0A7-8C62-4364-8AA1-50BCFEA6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1150-14F0-4EAF-9720-170AEF59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214-DBD4-4EA9-9129-3D362264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2298-E4FC-43B3-A957-1CABB053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40F-CF19-441D-AD83-53CCBC26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01A8-A9BE-499D-825D-601A6E06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649-DAF3-41AD-9BB0-5170C3FF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246E-8752-42F0-93A6-D9B961EF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127F-D0FE-4D8A-9451-7AF7BD34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4F33-F9EF-41C1-8F1E-D53F5534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66AE-D948-4142-9F01-DE8B4D3B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2528-26CA-4E08-B616-5B6E2386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C34E-2CE0-46CD-8020-CCF707986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6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6553080" cy="525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5292000" y="2923920"/>
            <a:ext cx="5328000" cy="100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朱鹮飞回来了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267080" y="990720"/>
            <a:ext cx="4587840" cy="510516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228600" y="1600200"/>
            <a:ext cx="3733920" cy="703440"/>
            <a:chOff x="228600" y="1600200"/>
            <a:chExt cx="3733920" cy="703440"/>
          </a:xfrm>
        </p:grpSpPr>
        <p:sp>
          <p:nvSpPr>
            <p:cNvPr id="118" name=""/>
            <p:cNvSpPr/>
            <p:nvPr/>
          </p:nvSpPr>
          <p:spPr>
            <a:xfrm>
              <a:off x="228600" y="1600200"/>
              <a:ext cx="373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</a:t>
              </a:r>
              <a:r>
                <a:rPr b="0" lang="zh-CN" sz="4000" spc="-1" strike="noStrike">
                  <a:solidFill>
                    <a:srgbClr val="ff6699"/>
                  </a:solidFill>
                  <a:latin typeface="Arial"/>
                  <a:ea typeface="黑体"/>
                </a:rPr>
                <a:t>小光和小胖也非常兴奋，要不是事先叮嘱过，恐怕此刻他们早就跳起来了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87800" y="1600200"/>
              <a:ext cx="45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6699"/>
                  </a:solidFill>
                  <a:latin typeface="Arial"/>
                  <a:ea typeface="楷体_GB2312"/>
                </a:rPr>
                <a:t>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380880" y="914400"/>
            <a:ext cx="8305920" cy="779760"/>
            <a:chOff x="380880" y="914400"/>
            <a:chExt cx="8305920" cy="779760"/>
          </a:xfrm>
        </p:grpSpPr>
        <p:sp>
          <p:nvSpPr>
            <p:cNvPr id="121" name=""/>
            <p:cNvSpPr/>
            <p:nvPr/>
          </p:nvSpPr>
          <p:spPr>
            <a:xfrm>
              <a:off x="380880" y="990720"/>
              <a:ext cx="8305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           </a:t>
              </a:r>
              <a:r>
                <a:rPr b="1" lang="zh-CN" sz="4000" spc="-1" strike="noStrike">
                  <a:solidFill>
                    <a:srgbClr val="996633"/>
                  </a:solidFill>
                  <a:latin typeface="Arial"/>
                  <a:ea typeface="楷体_GB2312"/>
                </a:rPr>
                <a:t>找出课文中描写朱鹮的有关句子，读一读，再摘抄下来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51880" y="914400"/>
              <a:ext cx="68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996633"/>
                  </a:solidFill>
                  <a:latin typeface="Arial"/>
                  <a:ea typeface="楷体_GB2312"/>
                </a:rPr>
                <a:t>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3476880" cy="367668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4191120" y="2666880"/>
            <a:ext cx="4572000" cy="1252080"/>
            <a:chOff x="4191120" y="2666880"/>
            <a:chExt cx="4572000" cy="1252080"/>
          </a:xfrm>
        </p:grpSpPr>
        <p:sp>
          <p:nvSpPr>
            <p:cNvPr id="125" name=""/>
            <p:cNvSpPr/>
            <p:nvPr/>
          </p:nvSpPr>
          <p:spPr>
            <a:xfrm>
              <a:off x="4191120" y="2666880"/>
              <a:ext cx="45720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</a:t>
              </a:r>
              <a:r>
                <a:rPr b="0" lang="zh-CN" sz="3600" spc="-1" strike="noStrike">
                  <a:solidFill>
                    <a:srgbClr val="ff6699"/>
                  </a:solidFill>
                  <a:latin typeface="Arial"/>
                  <a:ea typeface="黑体"/>
                </a:rPr>
                <a:t>这两只儿背上的羽毛是洁白的，两颊的羽毛则是鲜红鲜红的。它们的脑枕部呈柳叶状，长着一排突起的羽毛</a:t>
              </a:r>
              <a:r>
                <a:rPr b="0" lang="en-US" sz="3600" spc="-1" strike="noStrike">
                  <a:solidFill>
                    <a:srgbClr val="ff6699"/>
                  </a:solidFill>
                  <a:latin typeface="Arial"/>
                </a:rPr>
                <a:t>…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94720" y="274320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6699"/>
                  </a:solidFill>
                  <a:latin typeface="Arial"/>
                  <a:ea typeface="楷体_GB2312"/>
                </a:rPr>
                <a:t>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5280" y="189000"/>
            <a:ext cx="828036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默读课文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小光和小伙伴为了寻找、保护朱鹮都做了哪些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用——画出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自然段中的比喻句，读一读，并和下面这句比较一下，你能体会到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他们守在这两只鸟旁边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观察着，拍摄照片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＊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“朱鹮飞回来了 ”这句加在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自然段中的那句后边比较合适，并谈谈自己的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530064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提示：先自学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并在书上做简要的批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分钟后在组内交流，提出解决不了的问题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3366">
                  <a:alpha val="44313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133720"/>
            <a:ext cx="9829800" cy="17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Arial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6666ff"/>
                </a:solidFill>
                <a:latin typeface="Arial"/>
                <a:ea typeface="楷体_GB2312"/>
              </a:rPr>
              <a:t>科考队员们是怎样辛勤工作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2286000"/>
            <a:ext cx="6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Arial"/>
                <a:ea typeface="楷体_GB2312"/>
              </a:rPr>
              <a:t>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286000" y="3505320"/>
            <a:ext cx="6324480" cy="642600"/>
            <a:chOff x="2286000" y="3505320"/>
            <a:chExt cx="6324480" cy="642600"/>
          </a:xfrm>
        </p:grpSpPr>
        <p:sp>
          <p:nvSpPr>
            <p:cNvPr id="133" name=""/>
            <p:cNvSpPr/>
            <p:nvPr/>
          </p:nvSpPr>
          <p:spPr>
            <a:xfrm>
              <a:off x="2286000" y="3505320"/>
              <a:ext cx="632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</a:t>
              </a: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黑体"/>
                </a:rPr>
                <a:t>考察队员在朱鹮的巣边搭起了窝棚，忍受着风吹雨打、日晒虫叮，精心地观察、守护着这几只朱鹮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45200" y="3505320"/>
              <a:ext cx="45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ff"/>
                  </a:solidFill>
                  <a:latin typeface="Arial"/>
                  <a:ea typeface="楷体_GB2312"/>
                </a:rPr>
                <a:t>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400" y="1981080"/>
            <a:ext cx="1981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36480" y="189000"/>
            <a:ext cx="17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积累运用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148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907920"/>
            <a:ext cx="83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静候一旁的考察队员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住激动的心情，像守候着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  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样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  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观察着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  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拍摄照片，生怕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 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这两只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  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鸟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考察队员和村民们认真仔细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（ 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（ 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在附近一共发现了七只成年朱鹮，他们立即投入到紧张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（ 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朱鹮的工作之中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考察队员在朱鹮的巢边搭起了窝棚，忍受着风吹雨打、日晒虫叮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  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观察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  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着这几只朱鹮。在考察队员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 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照料下，一对朱鹮开始产卵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 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一代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思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篇文章写了一件什么事？用比较简练的语言概括一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叙了一支科考队来到大山里，依靠当地群众寻找到濒临灭绝的朱鹮，并想方设法保护朱鹮，使朱鹮在自然保护区内顺利繁衍、健康生长的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课文以《朱鹮飞回来了》为题，那朱鹮原来是飞走了吗？课文中“飞走”指的是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飞走，其实是指濒临灭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从哪里知道了朱鹮濒临灭绝？你能从书中找到依据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7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一份有关野生动物的紧急报告引起了亚洲国家的关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朱鹮为什么会濒临灭绝？原因可能都有哪几个方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污染、捕杀……由此可见，朱鹮是即将濒临灭绝的动物，在世界上也是极为罕见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那为什么科考队又会来到陕西洋县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认为那里森林茂密……因此，在那儿找到朱鹮的希望较大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它们找到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到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2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7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课文中为什么说是踏破铁鞋，千辛万苦的寻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国自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6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在甘肃捕获一只朱鹮以来，一直没有发现朱鹮的踪迹。为了查明朱鹮在我国的生存情况，一支科考队到全国各地寻找朱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8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保护朱鹮的仅仅是科考队员和小光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还有老师、同学、村民们。所有的人都积极的参与到保护朱鹮的活动中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52610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，小光等人为拯救朱鹮所做的努力我们有目共睹，他们的行为又给了我们一些什么启示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为小学生的我们又能为保护野生动物做些什么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章的题目饱含了作者的感情，通过我们对课文的学习，你从题目中读出了作者怎样的情感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5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82640" y="0"/>
            <a:ext cx="7707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600" bIns="576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453520" y="1898640"/>
            <a:ext cx="690120" cy="4306680"/>
            <a:chOff x="8453520" y="1898640"/>
            <a:chExt cx="690120" cy="4306680"/>
          </a:xfrm>
        </p:grpSpPr>
        <p:sp>
          <p:nvSpPr>
            <p:cNvPr id="150" name=""/>
            <p:cNvSpPr/>
            <p:nvPr/>
          </p:nvSpPr>
          <p:spPr>
            <a:xfrm>
              <a:off x="8453520" y="1898640"/>
              <a:ext cx="690120" cy="22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2360" bIns="72360" anchor="t" vert="eaVer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1149480"/>
                  <a:tab algn="l" pos="2298600"/>
                  <a:tab algn="l" pos="3448080"/>
                  <a:tab algn="l" pos="4597560"/>
                  <a:tab algn="l" pos="5746680"/>
                  <a:tab algn="l" pos="6896160"/>
                  <a:tab algn="l" pos="8045280"/>
                  <a:tab algn="l" pos="9194760"/>
                  <a:tab algn="l" pos="10344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83040" y="2878920"/>
              <a:ext cx="456840" cy="576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1149480"/>
                  <a:tab algn="l" pos="2298600"/>
                  <a:tab algn="l" pos="3448080"/>
                  <a:tab algn="l" pos="4597560"/>
                  <a:tab algn="l" pos="5746680"/>
                  <a:tab algn="l" pos="6896160"/>
                  <a:tab algn="l" pos="8045280"/>
                  <a:tab algn="l" pos="9194760"/>
                  <a:tab algn="l" pos="1034424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MS Mincho"/>
                </a:rPr>
                <a:t>走近朱鹮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51960" y="3461760"/>
              <a:ext cx="0" cy="27435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523880" y="1486080"/>
            <a:ext cx="3048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3772080"/>
            <a:ext cx="7417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1983</a:t>
            </a:r>
            <a:r>
              <a:rPr b="0" lang="zh-CN" sz="1800" spc="-1" strike="noStrike">
                <a:solidFill>
                  <a:srgbClr val="006600"/>
                </a:solidFill>
                <a:latin typeface="Times New Roman"/>
              </a:rPr>
              <a:t>年在陕西洋县建立朱 国家级自然保护区，总面积约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2000</a:t>
            </a:r>
            <a:r>
              <a:rPr b="0" lang="zh-CN" sz="1800" spc="-1" strike="noStrike">
                <a:solidFill>
                  <a:srgbClr val="006600"/>
                </a:solidFill>
                <a:latin typeface="Times New Roman"/>
              </a:rPr>
              <a:t>公顷。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1988</a:t>
            </a:r>
            <a:r>
              <a:rPr b="0" lang="zh-CN" sz="1800" spc="-1" strike="noStrike">
                <a:solidFill>
                  <a:srgbClr val="006600"/>
                </a:solidFill>
                <a:latin typeface="Times New Roman"/>
              </a:rPr>
              <a:t>年中华人民共和国政府林业部与日本政府环境厅订立了《中日共同保护研究朱鹮 及其栖息地》合作项目。保护区位于陕西洋县境内，地处秦岭南坡中段的中山带地区。 保护区为山地向低山丘陵的过渡地带，坡缓谷宽，沟底溪水纵横，河谷两岸有成片的水田。气候年均温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14.5℃</a:t>
            </a:r>
            <a:r>
              <a:rPr b="0" lang="zh-CN" sz="1800" spc="-1" strike="noStrike">
                <a:solidFill>
                  <a:srgbClr val="006600"/>
                </a:solidFill>
                <a:latin typeface="Times New Roman"/>
              </a:rPr>
              <a:t>，最冷月均温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2.1℃</a:t>
            </a:r>
            <a:r>
              <a:rPr b="0" lang="zh-CN" sz="1800" spc="-1" strike="noStrike">
                <a:solidFill>
                  <a:srgbClr val="006600"/>
                </a:solidFill>
                <a:latin typeface="Times New Roman"/>
              </a:rPr>
              <a:t>，极端低温零下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9.7℃</a:t>
            </a:r>
            <a:r>
              <a:rPr b="0" lang="zh-CN" sz="1800" spc="-1" strike="noStrike">
                <a:solidFill>
                  <a:srgbClr val="006600"/>
                </a:solidFill>
                <a:latin typeface="Times New Roman"/>
              </a:rPr>
              <a:t>，年降水量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800</a:t>
            </a:r>
            <a:r>
              <a:rPr b="0" lang="zh-CN" sz="1800" spc="-1" strike="noStrike">
                <a:solidFill>
                  <a:srgbClr val="006600"/>
                </a:solidFill>
                <a:latin typeface="Times New Roman"/>
              </a:rPr>
              <a:t>毫米，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7</a:t>
            </a:r>
            <a:r>
              <a:rPr b="0" lang="zh-CN" sz="1800" spc="-1" strike="noStrike">
                <a:solidFill>
                  <a:srgbClr val="006600"/>
                </a:solidFill>
                <a:latin typeface="Times New Roman"/>
              </a:rPr>
              <a:t>～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9</a:t>
            </a:r>
            <a:r>
              <a:rPr b="0" lang="zh-CN" sz="1800" spc="-1" strike="noStrike">
                <a:solidFill>
                  <a:srgbClr val="006600"/>
                </a:solidFill>
                <a:latin typeface="Times New Roman"/>
              </a:rPr>
              <a:t>月降水量占年降水量的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50%</a:t>
            </a:r>
            <a:r>
              <a:rPr b="0" lang="zh-CN" sz="1800" spc="-1" strike="noStrike">
                <a:solidFill>
                  <a:srgbClr val="006600"/>
                </a:solidFill>
                <a:latin typeface="Times New Roman"/>
              </a:rPr>
              <a:t>，无霜期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240</a:t>
            </a:r>
            <a:r>
              <a:rPr b="0" lang="zh-CN" sz="1800" spc="-1" strike="noStrike">
                <a:solidFill>
                  <a:srgbClr val="006600"/>
                </a:solidFill>
                <a:latin typeface="Times New Roman"/>
              </a:rPr>
              <a:t>天左右。土壤主要为黄褐土、黄棕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33720" y="685800"/>
            <a:ext cx="457200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自然保护区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625760" y="1257480"/>
            <a:ext cx="5486400" cy="23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52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82640" y="0"/>
            <a:ext cx="7707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600" bIns="576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8483040" y="1898640"/>
            <a:ext cx="660600" cy="4306680"/>
            <a:chOff x="8483040" y="1898640"/>
            <a:chExt cx="660600" cy="4306680"/>
          </a:xfrm>
        </p:grpSpPr>
        <p:sp>
          <p:nvSpPr>
            <p:cNvPr id="160" name=""/>
            <p:cNvSpPr/>
            <p:nvPr/>
          </p:nvSpPr>
          <p:spPr>
            <a:xfrm>
              <a:off x="8626320" y="1898640"/>
              <a:ext cx="517320" cy="22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2360" bIns="72360" anchor="t" vert="eaVer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1149480"/>
                  <a:tab algn="l" pos="2298600"/>
                  <a:tab algn="l" pos="3448080"/>
                  <a:tab algn="l" pos="4597560"/>
                  <a:tab algn="l" pos="5746680"/>
                  <a:tab algn="l" pos="6896160"/>
                  <a:tab algn="l" pos="8045280"/>
                  <a:tab algn="l" pos="9194760"/>
                  <a:tab algn="l" pos="10344240"/>
                </a:tabLst>
              </a:pPr>
              <a:r>
                <a:rPr b="0" lang="en-US" sz="1500" spc="-1" strike="noStrike">
                  <a:solidFill>
                    <a:srgbClr val="ff9900"/>
                  </a:solidFill>
                  <a:latin typeface="MS Mincho"/>
                  <a:ea typeface="MS Mincho"/>
                </a:rPr>
                <a:t>ZOUJINZHUHUA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83040" y="2878920"/>
              <a:ext cx="456840" cy="576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1149480"/>
                  <a:tab algn="l" pos="2298600"/>
                  <a:tab algn="l" pos="3448080"/>
                  <a:tab algn="l" pos="4597560"/>
                  <a:tab algn="l" pos="5746680"/>
                  <a:tab algn="l" pos="6896160"/>
                  <a:tab algn="l" pos="8045280"/>
                  <a:tab algn="l" pos="9194760"/>
                  <a:tab algn="l" pos="1034424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MS Mincho"/>
                </a:rPr>
                <a:t>走近朱鹮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751960" y="3461760"/>
              <a:ext cx="0" cy="27435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523880" y="1486080"/>
            <a:ext cx="3048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41148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6600"/>
                </a:solidFill>
                <a:latin typeface="Times New Roman"/>
              </a:rPr>
              <a:t>洋县城北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15</a:t>
            </a:r>
            <a:r>
              <a:rPr b="0" lang="zh-CN" sz="1800" spc="-1" strike="noStrike">
                <a:solidFill>
                  <a:srgbClr val="006600"/>
                </a:solidFill>
                <a:latin typeface="Times New Roman"/>
              </a:rPr>
              <a:t>公里，这里有茂密的松树林供朱鹮营巢，山间小溪边还保持着一些原始的一季耕作制度的冬水田供朱鹮觅食，山下有几户人家作伴，这就是朱鹮特有的生存环境。朱鹮之乡自然风景得天独厚，朱鹮倩影点缀着秦巴山间，显现出多姿多彩，生机勃勃的怡人景观。在这里你可耳闻目睹朱鹮动听的鸣叫声，朱鹮觅食、戏水、飞翔时翅下特有的粉红色，朱鹮的“一夫一妻”制被人们喻为爱情忠贞的吉祥鸟，它们共同叨柴营巢，轮换孵化和育雏，以及朱鹮羽色一年两次的神秘变化，宝贵的朱鹮卵和可爱的小雏鸟，一定会令你心旷神怡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727280" y="1704960"/>
            <a:ext cx="5392800" cy="2124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2286000" y="857160"/>
            <a:ext cx="457200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自然保护区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52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06440" y="825480"/>
            <a:ext cx="2566800" cy="1575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82640" y="0"/>
            <a:ext cx="7707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600" bIns="576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8483040" y="1898640"/>
            <a:ext cx="660600" cy="4306680"/>
            <a:chOff x="8483040" y="1898640"/>
            <a:chExt cx="660600" cy="4306680"/>
          </a:xfrm>
        </p:grpSpPr>
        <p:sp>
          <p:nvSpPr>
            <p:cNvPr id="171" name=""/>
            <p:cNvSpPr/>
            <p:nvPr/>
          </p:nvSpPr>
          <p:spPr>
            <a:xfrm>
              <a:off x="8626320" y="1898640"/>
              <a:ext cx="517320" cy="22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2360" bIns="72360" anchor="t" vert="eaVer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1149480"/>
                  <a:tab algn="l" pos="2298600"/>
                  <a:tab algn="l" pos="3448080"/>
                  <a:tab algn="l" pos="4597560"/>
                  <a:tab algn="l" pos="5746680"/>
                  <a:tab algn="l" pos="6896160"/>
                  <a:tab algn="l" pos="8045280"/>
                  <a:tab algn="l" pos="9194760"/>
                  <a:tab algn="l" pos="10344240"/>
                </a:tabLst>
              </a:pPr>
              <a:r>
                <a:rPr b="0" lang="en-US" sz="1500" spc="-1" strike="noStrike">
                  <a:solidFill>
                    <a:srgbClr val="ff9900"/>
                  </a:solidFill>
                  <a:latin typeface="MS Mincho"/>
                  <a:ea typeface="MS Mincho"/>
                </a:rPr>
                <a:t>ZOUJINZHUHUA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83040" y="2878920"/>
              <a:ext cx="456840" cy="576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1149480"/>
                  <a:tab algn="l" pos="2298600"/>
                  <a:tab algn="l" pos="3448080"/>
                  <a:tab algn="l" pos="4597560"/>
                  <a:tab algn="l" pos="5746680"/>
                  <a:tab algn="l" pos="6896160"/>
                  <a:tab algn="l" pos="8045280"/>
                  <a:tab algn="l" pos="9194760"/>
                  <a:tab algn="l" pos="1034424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MS Mincho"/>
                </a:rPr>
                <a:t>走近朱鹮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751960" y="3461760"/>
              <a:ext cx="0" cy="27435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523880" y="1486080"/>
            <a:ext cx="3048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77208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56080" y="1028880"/>
            <a:ext cx="3657600" cy="54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朱鹮数量统计</a:t>
            </a:r>
            <a:endParaRPr b="0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762120" y="1986120"/>
            <a:ext cx="7619760" cy="41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5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82640" y="0"/>
            <a:ext cx="7707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600" bIns="576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280" y="304920"/>
            <a:ext cx="7183440" cy="35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600" bIns="576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zh-CN" sz="2200" spc="-1" strike="noStrike">
                <a:solidFill>
                  <a:srgbClr val="ff9900"/>
                </a:solidFill>
                <a:latin typeface="Times New Roman"/>
              </a:rPr>
              <a:t>朱鹮的诉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我是一只小小的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鹮，有的人叫我朱鹭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其实我的学名叫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ipponia nippon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看！我长得漂亮吗？一身洁白的羽毛，红红的面颊，健壮的脚爪，长长的的黑嘴，配上颈部那柳叶似的羽毛，难道不像一位高贵的公主吗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听说，我的祖先是多么的兴旺。群起能遮日月，群落能盖江河。嬉戏能招林中同伴，吟歌能请四海宾朋。曾几何时，我喜欢吃溪边的田螺、小鱼和小虾，可惜很多小河不再那么清澈！我喜欢将家筑在高高的树上，可惜有些森林不再那么宁静！是随意开发森林，随意捕捉我们，使我们失去了生活的家园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现在可好了，陕西洋县的人民，给我们建立了自然保护区。从此我有了美丽的家园，我将在这里繁衍生息，快乐地生活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77840" y="838080"/>
            <a:ext cx="2336760" cy="10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52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82640" y="0"/>
            <a:ext cx="7707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600" bIns="576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8483040" y="1898640"/>
            <a:ext cx="660600" cy="4306680"/>
            <a:chOff x="8483040" y="1898640"/>
            <a:chExt cx="660600" cy="4306680"/>
          </a:xfrm>
        </p:grpSpPr>
        <p:sp>
          <p:nvSpPr>
            <p:cNvPr id="185" name=""/>
            <p:cNvSpPr/>
            <p:nvPr/>
          </p:nvSpPr>
          <p:spPr>
            <a:xfrm>
              <a:off x="8626320" y="1898640"/>
              <a:ext cx="517320" cy="22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2360" bIns="72360" anchor="t" vert="eaVer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1149480"/>
                  <a:tab algn="l" pos="2298600"/>
                  <a:tab algn="l" pos="3448080"/>
                  <a:tab algn="l" pos="4597560"/>
                  <a:tab algn="l" pos="5746680"/>
                  <a:tab algn="l" pos="6896160"/>
                  <a:tab algn="l" pos="8045280"/>
                  <a:tab algn="l" pos="9194760"/>
                  <a:tab algn="l" pos="10344240"/>
                </a:tabLst>
              </a:pPr>
              <a:r>
                <a:rPr b="0" lang="en-US" sz="1500" spc="-1" strike="noStrike">
                  <a:solidFill>
                    <a:srgbClr val="ff9900"/>
                  </a:solidFill>
                  <a:latin typeface="MS Mincho"/>
                  <a:ea typeface="MS Mincho"/>
                </a:rPr>
                <a:t>ZOUJINZHUHUA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483040" y="2878920"/>
              <a:ext cx="456840" cy="576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1149480"/>
                  <a:tab algn="l" pos="2298600"/>
                  <a:tab algn="l" pos="3448080"/>
                  <a:tab algn="l" pos="4597560"/>
                  <a:tab algn="l" pos="5746680"/>
                  <a:tab algn="l" pos="6896160"/>
                  <a:tab algn="l" pos="8045280"/>
                  <a:tab algn="l" pos="9194760"/>
                  <a:tab algn="l" pos="1034424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MS Mincho"/>
                </a:rPr>
                <a:t>走近朱鹮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751960" y="3461760"/>
              <a:ext cx="0" cy="27435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09480" y="377208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27280" y="2932200"/>
            <a:ext cx="660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3040" y="514440"/>
            <a:ext cx="843300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未来的朱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今天，我们学习了课文《朱鹮飞回来了》，晚上我做了一个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我飘飘然来到一个神奇的地方。到处是鸟语花香，小桥流水和参天大树，这是幽静的森林吗？不，这是我们未来的家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在绿树超市，我买了一套“人鸟通话机”，用它和朱鹮通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我用鸟语机对一只小朱鹮问好：“你好，小朱鹮！现在你的朋友多吗？”“多！多！有鸟类朋友，也有人类朋友。我们交个好朋友吧？”她也笑眯眯地用人语机回答我。他见我是初次来这里作客，便滔滔不绝地给我做起导游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我的人类朋友可真不少，像你们小学的同学兰兰、聪聪、强强，大学毕业后，来到自然保护区，用现代化的管理方式养鱼虾、田螺和泥鳅，我们顿顿有美餐啊。他们还积极向人们宣传保护我们的措施。我们经常在一起谈心，做游戏，可开心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听完小朱鹮的话，我不禁想起了以前的情景。人们任意捕杀鸟类，一只只小鸟落在人的手中，变成了华丽的衣服，变成了美味佳肴，变成了小孩子的玩具……如今，人与鸟成为了好朋友，在人们真挚的关注下，朱鹮早已家族兴旺，他们的家园遍布大江南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叮铃铃，叮铃铃，闹钟响了。未来的世界模糊了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4800600"/>
            <a:ext cx="2565360" cy="1657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95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82640" y="0"/>
            <a:ext cx="7707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600" bIns="576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8483040" y="1898640"/>
            <a:ext cx="660600" cy="4306680"/>
            <a:chOff x="8483040" y="1898640"/>
            <a:chExt cx="660600" cy="4306680"/>
          </a:xfrm>
        </p:grpSpPr>
        <p:sp>
          <p:nvSpPr>
            <p:cNvPr id="195" name=""/>
            <p:cNvSpPr/>
            <p:nvPr/>
          </p:nvSpPr>
          <p:spPr>
            <a:xfrm>
              <a:off x="8626320" y="1898640"/>
              <a:ext cx="517320" cy="22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2360" bIns="72360" anchor="t" vert="eaVer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1149480"/>
                  <a:tab algn="l" pos="2298600"/>
                  <a:tab algn="l" pos="3448080"/>
                  <a:tab algn="l" pos="4597560"/>
                  <a:tab algn="l" pos="5746680"/>
                  <a:tab algn="l" pos="6896160"/>
                  <a:tab algn="l" pos="8045280"/>
                  <a:tab algn="l" pos="9194760"/>
                  <a:tab algn="l" pos="10344240"/>
                </a:tabLst>
              </a:pPr>
              <a:r>
                <a:rPr b="0" lang="en-US" sz="1500" spc="-1" strike="noStrike">
                  <a:solidFill>
                    <a:srgbClr val="ff9900"/>
                  </a:solidFill>
                  <a:latin typeface="MS Mincho"/>
                  <a:ea typeface="MS Mincho"/>
                </a:rPr>
                <a:t>ZOUJINZHUHUA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483040" y="2878920"/>
              <a:ext cx="456840" cy="576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1149480"/>
                  <a:tab algn="l" pos="2298600"/>
                  <a:tab algn="l" pos="3448080"/>
                  <a:tab algn="l" pos="4597560"/>
                  <a:tab algn="l" pos="5746680"/>
                  <a:tab algn="l" pos="6896160"/>
                  <a:tab algn="l" pos="8045280"/>
                  <a:tab algn="l" pos="9194760"/>
                  <a:tab algn="l" pos="1034424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MS Mincho"/>
                </a:rPr>
                <a:t>走近朱鹮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751960" y="3461760"/>
              <a:ext cx="0" cy="27435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523880" y="1486080"/>
            <a:ext cx="3048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377208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387520" y="857160"/>
            <a:ext cx="4368960" cy="857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红领巾”保护朱鹮公约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01" name=""/>
          <p:cNvSpPr/>
          <p:nvPr/>
        </p:nvSpPr>
        <p:spPr>
          <a:xfrm>
            <a:off x="711360" y="1486080"/>
            <a:ext cx="77212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、保护好朱鹮的生态环境，防止河流的污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、为朱鹮创造安稳的营巢环境。多植树，不能滥砍森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、种植绿色水稻，禁止使用化肥、农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、禁止捕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、人人要献爱心，支持保护朱鹮这项光荣的事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11360" y="3886200"/>
            <a:ext cx="3149280" cy="1413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952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82640" y="0"/>
            <a:ext cx="7707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600" bIns="576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8483040" y="1898640"/>
            <a:ext cx="660600" cy="4306680"/>
            <a:chOff x="8483040" y="1898640"/>
            <a:chExt cx="660600" cy="4306680"/>
          </a:xfrm>
        </p:grpSpPr>
        <p:sp>
          <p:nvSpPr>
            <p:cNvPr id="206" name=""/>
            <p:cNvSpPr/>
            <p:nvPr/>
          </p:nvSpPr>
          <p:spPr>
            <a:xfrm>
              <a:off x="8626320" y="1898640"/>
              <a:ext cx="517320" cy="22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2360" bIns="72360" anchor="t" vert="eaVer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1149480"/>
                  <a:tab algn="l" pos="2298600"/>
                  <a:tab algn="l" pos="3448080"/>
                  <a:tab algn="l" pos="4597560"/>
                  <a:tab algn="l" pos="5746680"/>
                  <a:tab algn="l" pos="6896160"/>
                  <a:tab algn="l" pos="8045280"/>
                  <a:tab algn="l" pos="9194760"/>
                  <a:tab algn="l" pos="10344240"/>
                </a:tabLst>
              </a:pPr>
              <a:r>
                <a:rPr b="0" lang="en-US" sz="1500" spc="-1" strike="noStrike">
                  <a:solidFill>
                    <a:srgbClr val="ff9900"/>
                  </a:solidFill>
                  <a:latin typeface="MS Mincho"/>
                  <a:ea typeface="MS Mincho"/>
                </a:rPr>
                <a:t>ZOUJINZHUHUA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483040" y="2878920"/>
              <a:ext cx="456840" cy="576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1149480"/>
                  <a:tab algn="l" pos="2298600"/>
                  <a:tab algn="l" pos="3448080"/>
                  <a:tab algn="l" pos="4597560"/>
                  <a:tab algn="l" pos="5746680"/>
                  <a:tab algn="l" pos="6896160"/>
                  <a:tab algn="l" pos="8045280"/>
                  <a:tab algn="l" pos="9194760"/>
                  <a:tab algn="l" pos="1034424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MS Mincho"/>
                </a:rPr>
                <a:t>走近朱鹮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751960" y="3461760"/>
              <a:ext cx="0" cy="27435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149640" y="1405080"/>
            <a:ext cx="52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</a:rPr>
              <a:t>现在的朱鹮真幸福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0" lang="zh-CN" sz="1800" spc="-1" strike="noStrike">
                <a:solidFill>
                  <a:srgbClr val="006600"/>
                </a:solidFill>
                <a:latin typeface="Times New Roman"/>
              </a:rPr>
              <a:t>我多么希望我也是一只朱鹮啊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!        ——</a:t>
            </a:r>
            <a:r>
              <a:rPr b="0" lang="zh-CN" sz="1800" spc="-1" strike="noStrike">
                <a:solidFill>
                  <a:srgbClr val="006600"/>
                </a:solidFill>
                <a:latin typeface="Times New Roman"/>
              </a:rPr>
              <a:t>李文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49640" y="2090880"/>
            <a:ext cx="53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</a:rPr>
              <a:t>我希望朱鹮越来越多，也希望能和它交朋友！     ——张海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7440" y="2914560"/>
            <a:ext cx="78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</a:rPr>
              <a:t>朱鹮，你是人类的好朋友，祖国的小朋友永远喜欢 你！ ——范晓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7440" y="3805200"/>
            <a:ext cx="78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</a:rPr>
              <a:t>朱鹮飞回来了，你给我们带来了欢乐，带来了希望！ ——李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56080" y="47991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</a:rPr>
              <a:t>我是热爱大自然的孩子，我真心希望你能够快乐地生活在我们中间。  ——李若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20840" y="5748480"/>
            <a:ext cx="72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</a:rPr>
              <a:t>希望朱鹮不要飞到有污染的城市。——赵芳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149640" y="914400"/>
            <a:ext cx="48769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朱鹮，我想对你说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413080" y="549360"/>
            <a:ext cx="4368600" cy="2457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952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82640" y="0"/>
            <a:ext cx="7707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600" bIns="576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8483040" y="1898640"/>
            <a:ext cx="660600" cy="4306680"/>
            <a:chOff x="8483040" y="1898640"/>
            <a:chExt cx="660600" cy="4306680"/>
          </a:xfrm>
        </p:grpSpPr>
        <p:sp>
          <p:nvSpPr>
            <p:cNvPr id="220" name=""/>
            <p:cNvSpPr/>
            <p:nvPr/>
          </p:nvSpPr>
          <p:spPr>
            <a:xfrm>
              <a:off x="8626320" y="1898640"/>
              <a:ext cx="517320" cy="22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2360" bIns="72360" anchor="t" vert="eaVer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1149480"/>
                  <a:tab algn="l" pos="2298600"/>
                  <a:tab algn="l" pos="3448080"/>
                  <a:tab algn="l" pos="4597560"/>
                  <a:tab algn="l" pos="5746680"/>
                  <a:tab algn="l" pos="6896160"/>
                  <a:tab algn="l" pos="8045280"/>
                  <a:tab algn="l" pos="9194760"/>
                  <a:tab algn="l" pos="10344240"/>
                </a:tabLst>
              </a:pPr>
              <a:r>
                <a:rPr b="0" lang="en-US" sz="1500" spc="-1" strike="noStrike">
                  <a:solidFill>
                    <a:srgbClr val="ff9900"/>
                  </a:solidFill>
                  <a:latin typeface="MS Mincho"/>
                  <a:ea typeface="MS Mincho"/>
                </a:rPr>
                <a:t>ZOUJINZHUHUA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483040" y="2878920"/>
              <a:ext cx="456840" cy="576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1149480"/>
                  <a:tab algn="l" pos="2298600"/>
                  <a:tab algn="l" pos="3448080"/>
                  <a:tab algn="l" pos="4597560"/>
                  <a:tab algn="l" pos="5746680"/>
                  <a:tab algn="l" pos="6896160"/>
                  <a:tab algn="l" pos="8045280"/>
                  <a:tab algn="l" pos="9194760"/>
                  <a:tab algn="l" pos="1034424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MS Mincho"/>
                </a:rPr>
                <a:t>走近朱鹮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751960" y="3461760"/>
              <a:ext cx="0" cy="27435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523880" y="1486080"/>
            <a:ext cx="3048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77208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27280" y="2932200"/>
            <a:ext cx="6603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为唤起人们保护珍稀野生动物的意识与爱心，共同维护生态平衡，中国人民银行决定，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9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日发行了“中国珍稀野生动物”系列中的第六个品种——《朱鹮》特种流通纪念币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该币全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枚，面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元，重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克，直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毫米，厚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毫米，材质为紫色铜合金，质量普制，由沈阳造币厂铸造，发行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6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万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该币的正面图案为中华人民共和国“国徽”，中华人民共和国“国名”和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97”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字样的年号。它的背面图案为一只朱鹮鸟站在树枝上，“中国珍稀野生动物——朱鹮”的主题文字和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元”字样的面值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 rot="5400000">
            <a:off x="-911520" y="2251080"/>
            <a:ext cx="4057920" cy="812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《朱鹮》特种流通纪念币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3747600"/>
            <a:ext cx="8229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ff9900"/>
                </a:solidFill>
                <a:latin typeface="仿宋_GB2312"/>
                <a:ea typeface="仿宋_GB2312"/>
              </a:rPr>
              <a:t>同学们，动物是我们人类的朋友，保护动物是我们每一个公民应尽的义务。让我们向小光他们学习，从现在开始，保护身边的动物，爱护我们身边的一草一木，让我们的地球永远生机勃勃，永远多姿多彩！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400800" y="914400"/>
            <a:ext cx="1752480" cy="1463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514600" y="1295280"/>
            <a:ext cx="36576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404784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692360" y="3357720"/>
            <a:ext cx="4343400" cy="2971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4788000" y="981000"/>
            <a:ext cx="405756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朱鹮飞回来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飞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?)    →→→→→   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飞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环境                               宣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捕杀                               寻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用                               保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濒临灭绝                        快乐生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58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5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82640" y="0"/>
            <a:ext cx="7707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600" bIns="576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453520" y="1898640"/>
            <a:ext cx="690120" cy="4306680"/>
            <a:chOff x="8453520" y="1898640"/>
            <a:chExt cx="690120" cy="4306680"/>
          </a:xfrm>
        </p:grpSpPr>
        <p:sp>
          <p:nvSpPr>
            <p:cNvPr id="50" name=""/>
            <p:cNvSpPr/>
            <p:nvPr/>
          </p:nvSpPr>
          <p:spPr>
            <a:xfrm>
              <a:off x="8453520" y="1898640"/>
              <a:ext cx="690120" cy="22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2360" bIns="72360" anchor="t" vert="eaVer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1149480"/>
                  <a:tab algn="l" pos="2298600"/>
                  <a:tab algn="l" pos="3448080"/>
                  <a:tab algn="l" pos="4597560"/>
                  <a:tab algn="l" pos="5746680"/>
                  <a:tab algn="l" pos="6896160"/>
                  <a:tab algn="l" pos="8045280"/>
                  <a:tab algn="l" pos="9194760"/>
                  <a:tab algn="l" pos="10344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483040" y="2878920"/>
              <a:ext cx="456840" cy="576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1149480"/>
                  <a:tab algn="l" pos="2298600"/>
                  <a:tab algn="l" pos="3448080"/>
                  <a:tab algn="l" pos="4597560"/>
                  <a:tab algn="l" pos="5746680"/>
                  <a:tab algn="l" pos="6896160"/>
                  <a:tab algn="l" pos="8045280"/>
                  <a:tab algn="l" pos="9194760"/>
                  <a:tab algn="l" pos="1034424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MS Mincho"/>
                </a:rPr>
                <a:t>走近朱鹮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751960" y="3461760"/>
              <a:ext cx="0" cy="27435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06440" y="2114640"/>
            <a:ext cx="416556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775040" y="628560"/>
            <a:ext cx="2392560" cy="2000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470480" y="3379680"/>
            <a:ext cx="4064040" cy="1592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07960" y="4743360"/>
            <a:ext cx="3759120" cy="1440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812880" y="857160"/>
            <a:ext cx="36576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朱鹮的风采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8" name=""/>
          <p:cNvSpPr/>
          <p:nvPr/>
        </p:nvSpPr>
        <p:spPr>
          <a:xfrm>
            <a:off x="7642440" y="857160"/>
            <a:ext cx="790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6600"/>
                </a:solidFill>
                <a:latin typeface="Times New Roman"/>
              </a:rPr>
              <a:t>看！我多威武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83360" y="5315040"/>
            <a:ext cx="26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00"/>
                </a:solidFill>
                <a:latin typeface="Times New Roman"/>
              </a:rPr>
              <a:t>我喜欢飞翔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82896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00"/>
                </a:solidFill>
                <a:latin typeface="Times New Roman"/>
              </a:rPr>
              <a:t>溪边散步，多快乐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6245280"/>
            <a:ext cx="34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00"/>
                </a:solidFill>
                <a:latin typeface="Times New Roman"/>
              </a:rPr>
              <a:t>我的本领棒不棒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4800600"/>
            <a:ext cx="2565360" cy="1657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95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82640" y="0"/>
            <a:ext cx="7707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600" bIns="576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453520" y="1898640"/>
            <a:ext cx="690120" cy="4306680"/>
            <a:chOff x="8453520" y="1898640"/>
            <a:chExt cx="690120" cy="4306680"/>
          </a:xfrm>
        </p:grpSpPr>
        <p:sp>
          <p:nvSpPr>
            <p:cNvPr id="66" name=""/>
            <p:cNvSpPr/>
            <p:nvPr/>
          </p:nvSpPr>
          <p:spPr>
            <a:xfrm>
              <a:off x="8453520" y="1898640"/>
              <a:ext cx="690120" cy="22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2360" bIns="72360" anchor="t" vert="eaVer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1149480"/>
                  <a:tab algn="l" pos="2298600"/>
                  <a:tab algn="l" pos="3448080"/>
                  <a:tab algn="l" pos="4597560"/>
                  <a:tab algn="l" pos="5746680"/>
                  <a:tab algn="l" pos="6896160"/>
                  <a:tab algn="l" pos="8045280"/>
                  <a:tab algn="l" pos="9194760"/>
                  <a:tab algn="l" pos="10344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83040" y="2878920"/>
              <a:ext cx="456840" cy="576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1149480"/>
                  <a:tab algn="l" pos="2298600"/>
                  <a:tab algn="l" pos="3448080"/>
                  <a:tab algn="l" pos="4597560"/>
                  <a:tab algn="l" pos="5746680"/>
                  <a:tab algn="l" pos="6896160"/>
                  <a:tab algn="l" pos="8045280"/>
                  <a:tab algn="l" pos="9194760"/>
                  <a:tab algn="l" pos="1034424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MS Mincho"/>
                </a:rPr>
                <a:t>走近朱鹮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751960" y="3461760"/>
              <a:ext cx="0" cy="27435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523880" y="1486080"/>
            <a:ext cx="3048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77208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1428840"/>
            <a:ext cx="7010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bbe0e3"/>
                </a:solidFill>
                <a:latin typeface="宋体"/>
              </a:rPr>
              <a:t>珍禽朱鹮历史上曾广泛分布于中国、日本、朝鲜、独联体东部。由于栖息地环境逐渐恶化，朱鹮数量急剧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bbe0e3"/>
                </a:solidFill>
                <a:latin typeface="宋体"/>
              </a:rPr>
              <a:t>朝鲜：</a:t>
            </a:r>
            <a:r>
              <a:rPr b="1" lang="en-US" sz="2400" spc="-1" strike="noStrike">
                <a:solidFill>
                  <a:srgbClr val="bbe0e3"/>
                </a:solidFill>
                <a:latin typeface="宋体"/>
              </a:rPr>
              <a:t>1978</a:t>
            </a:r>
            <a:r>
              <a:rPr b="1" lang="zh-CN" sz="2400" spc="-1" strike="noStrike">
                <a:solidFill>
                  <a:srgbClr val="bbe0e3"/>
                </a:solidFill>
                <a:latin typeface="宋体"/>
              </a:rPr>
              <a:t>板门店最后一次见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bbe0e3"/>
                </a:solidFill>
                <a:latin typeface="宋体"/>
              </a:rPr>
              <a:t>独联体境内：</a:t>
            </a:r>
            <a:r>
              <a:rPr b="1" lang="en-US" sz="2400" spc="-1" strike="noStrike">
                <a:solidFill>
                  <a:srgbClr val="bbe0e3"/>
                </a:solidFill>
                <a:latin typeface="宋体"/>
              </a:rPr>
              <a:t>1963</a:t>
            </a:r>
            <a:r>
              <a:rPr b="1" lang="zh-CN" sz="2400" spc="-1" strike="noStrike">
                <a:solidFill>
                  <a:srgbClr val="bbe0e3"/>
                </a:solidFill>
                <a:latin typeface="宋体"/>
              </a:rPr>
              <a:t>年哈桑最后一次见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bbe0e3"/>
                </a:solidFill>
                <a:latin typeface="宋体"/>
              </a:rPr>
              <a:t>日本：</a:t>
            </a:r>
            <a:r>
              <a:rPr b="1" lang="en-US" sz="2400" spc="-1" strike="noStrike">
                <a:solidFill>
                  <a:srgbClr val="bbe0e3"/>
                </a:solidFill>
                <a:latin typeface="宋体"/>
              </a:rPr>
              <a:t>1996</a:t>
            </a:r>
            <a:r>
              <a:rPr b="1" lang="zh-CN" sz="2400" spc="-1" strike="noStrike">
                <a:solidFill>
                  <a:srgbClr val="bbe0e3"/>
                </a:solidFill>
                <a:latin typeface="宋体"/>
              </a:rPr>
              <a:t>年底随着最后一只老龄朱鹮死去，朱鹮在日本绝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bbe0e3"/>
                </a:solidFill>
                <a:latin typeface="宋体"/>
              </a:rPr>
              <a:t>中国：</a:t>
            </a:r>
            <a:r>
              <a:rPr b="1" lang="en-US" sz="2400" spc="-1" strike="noStrike">
                <a:solidFill>
                  <a:srgbClr val="bbe0e3"/>
                </a:solidFill>
                <a:latin typeface="宋体"/>
              </a:rPr>
              <a:t>1981</a:t>
            </a:r>
            <a:r>
              <a:rPr b="1" lang="zh-CN" sz="2400" spc="-1" strike="noStrike">
                <a:solidFill>
                  <a:srgbClr val="bbe0e3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bbe0e3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bbe0e3"/>
                </a:solidFill>
                <a:latin typeface="宋体"/>
              </a:rPr>
              <a:t>月仅发现了</a:t>
            </a:r>
            <a:r>
              <a:rPr b="1" lang="en-US" sz="2400" spc="-1" strike="noStrike">
                <a:solidFill>
                  <a:srgbClr val="bbe0e3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bbe0e3"/>
                </a:solidFill>
                <a:latin typeface="宋体"/>
              </a:rPr>
              <a:t>只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352680" y="743040"/>
            <a:ext cx="2438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濒临灭绝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319480" y="2641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5152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生字新词我掌握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981000"/>
            <a:ext cx="6315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给下列字注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ín    miǎn tiǎn    dīng zh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频     腼腆      叮嘱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ū        xí      sh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孵    袭    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75640" y="3500280"/>
            <a:ext cx="88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词语我能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4076640"/>
            <a:ext cx="7248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捺    小心翼翼   腼腆   频繁   隐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踏破铁鞋  千辛万苦   按捺   叮嘱    搜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25800" y="342900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  <a:ea typeface="楷体_GB2312"/>
              </a:rPr>
              <a:t>亚</a:t>
            </a: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06880" y="342900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饲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  <a:ea typeface="楷体_GB2312"/>
              </a:rPr>
              <a:t>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59360" y="342900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捕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  <a:ea typeface="楷体_GB2312"/>
              </a:rPr>
              <a:t>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72960" y="464832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频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  <a:ea typeface="楷体_GB2312"/>
              </a:rPr>
              <a:t>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25800" y="464832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  <a:ea typeface="楷体_GB2312"/>
              </a:rPr>
              <a:t>红</a:t>
            </a: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6880" y="464832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骚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  <a:ea typeface="楷体_GB2312"/>
              </a:rPr>
              <a:t>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35680" y="464832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  <a:ea typeface="楷体_GB2312"/>
              </a:rPr>
              <a:t>按</a:t>
            </a: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81160" y="33926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  <a:ea typeface="楷体_GB2312"/>
              </a:rPr>
              <a:t>朱</a:t>
            </a: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楷体_GB2312"/>
              </a:rPr>
              <a:t>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5640" y="2819520"/>
            <a:ext cx="140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宋体"/>
              </a:rPr>
              <a:t>hu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7040" y="2819520"/>
            <a:ext cx="135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宋体"/>
              </a:rPr>
              <a:t>zhō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69000" y="281952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宋体"/>
              </a:rPr>
              <a:t>s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95840" y="2819520"/>
            <a:ext cx="80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宋体"/>
              </a:rPr>
              <a:t>b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8360" y="4038480"/>
            <a:ext cx="93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宋体"/>
              </a:rPr>
              <a:t>p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32080" y="4114800"/>
            <a:ext cx="7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宋体"/>
              </a:rPr>
              <a:t>h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9720" y="4038480"/>
            <a:ext cx="101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宋体"/>
              </a:rPr>
              <a:t>sā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19000" y="4038480"/>
            <a:ext cx="77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宋体"/>
              </a:rPr>
              <a:t>n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81280" y="1600200"/>
            <a:ext cx="33912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生字过关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914400"/>
            <a:ext cx="8534160" cy="5334120"/>
          </a:xfrm>
          <a:prstGeom prst="rect">
            <a:avLst/>
          </a:prstGeom>
          <a:gradFill rotWithShape="0">
            <a:gsLst>
              <a:gs pos="0">
                <a:srgbClr val="3366ff">
                  <a:alpha val="5411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81080" y="1523880"/>
            <a:ext cx="339120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课文感知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rot="19597200">
            <a:off x="409680" y="5071680"/>
            <a:ext cx="1523880" cy="81108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1981080" y="2971800"/>
            <a:ext cx="5257800" cy="1922400"/>
            <a:chOff x="1981080" y="2971800"/>
            <a:chExt cx="5257800" cy="1922400"/>
          </a:xfrm>
        </p:grpSpPr>
        <p:sp>
          <p:nvSpPr>
            <p:cNvPr id="99" name=""/>
            <p:cNvSpPr/>
            <p:nvPr/>
          </p:nvSpPr>
          <p:spPr>
            <a:xfrm>
              <a:off x="1981080" y="2971800"/>
              <a:ext cx="52578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</a:t>
              </a:r>
              <a:r>
                <a:rPr b="1" lang="zh-CN" sz="4000" spc="-1" strike="noStrike">
                  <a:solidFill>
                    <a:srgbClr val="cc00cc"/>
                  </a:solidFill>
                  <a:latin typeface="Arial"/>
                  <a:ea typeface="楷体_GB2312"/>
                </a:rPr>
                <a:t>自由读课文，了解课文先讲了什么？又讲了什么？最后讲了什么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9800" y="2971800"/>
              <a:ext cx="68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c00cc"/>
                  </a:solidFill>
                  <a:latin typeface="Arial"/>
                  <a:ea typeface="楷体_GB2312"/>
                </a:rPr>
                <a:t>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867280" y="1066680"/>
            <a:ext cx="283392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971800" y="838080"/>
            <a:ext cx="339084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课文理解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57200" y="1981080"/>
            <a:ext cx="8153280" cy="1342440"/>
            <a:chOff x="457200" y="1981080"/>
            <a:chExt cx="8153280" cy="1342440"/>
          </a:xfrm>
        </p:grpSpPr>
        <p:sp>
          <p:nvSpPr>
            <p:cNvPr id="104" name=""/>
            <p:cNvSpPr/>
            <p:nvPr/>
          </p:nvSpPr>
          <p:spPr>
            <a:xfrm>
              <a:off x="457200" y="2620080"/>
              <a:ext cx="815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</a:t>
              </a:r>
              <a:r>
                <a:rPr b="1" lang="zh-CN" sz="4000" spc="-1" strike="noStrike">
                  <a:solidFill>
                    <a:srgbClr val="996633"/>
                  </a:solidFill>
                  <a:latin typeface="Arial"/>
                  <a:ea typeface="楷体_GB2312"/>
                </a:rPr>
                <a:t>小光和小伙伴为了寻找、保护朱鹩都做了哪些事？用简要的词句概括。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8200" y="1981080"/>
              <a:ext cx="68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996633"/>
                  </a:solidFill>
                  <a:latin typeface="Arial"/>
                  <a:ea typeface="楷体_GB2312"/>
                </a:rPr>
                <a:t>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758240" y="4250880"/>
            <a:ext cx="2020320" cy="1191240"/>
            <a:chOff x="1758240" y="4250880"/>
            <a:chExt cx="2020320" cy="1191240"/>
          </a:xfrm>
        </p:grpSpPr>
        <p:sp>
          <p:nvSpPr>
            <p:cNvPr id="107" name=""/>
            <p:cNvSpPr/>
            <p:nvPr/>
          </p:nvSpPr>
          <p:spPr>
            <a:xfrm>
              <a:off x="2500560" y="4250880"/>
              <a:ext cx="127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66ff"/>
                  </a:solidFill>
                  <a:latin typeface="Arial"/>
                  <a:ea typeface="黑体"/>
                </a:rPr>
                <a:t>积极发动</a:t>
              </a: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58240" y="426708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66ff"/>
                  </a:solidFill>
                  <a:latin typeface="Arial"/>
                  <a:ea typeface="楷体_GB2312"/>
                </a:rPr>
                <a:t>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758240" y="4876560"/>
            <a:ext cx="2020320" cy="1191240"/>
            <a:chOff x="1758240" y="4876560"/>
            <a:chExt cx="2020320" cy="1191240"/>
          </a:xfrm>
        </p:grpSpPr>
        <p:sp>
          <p:nvSpPr>
            <p:cNvPr id="110" name=""/>
            <p:cNvSpPr/>
            <p:nvPr/>
          </p:nvSpPr>
          <p:spPr>
            <a:xfrm>
              <a:off x="2500560" y="4876560"/>
              <a:ext cx="127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66ff"/>
                  </a:solidFill>
                  <a:latin typeface="Arial"/>
                  <a:ea typeface="黑体"/>
                </a:rPr>
                <a:t>耐心寻找</a:t>
              </a: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58240" y="487692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66ff"/>
                  </a:solidFill>
                  <a:latin typeface="Arial"/>
                  <a:ea typeface="楷体_GB2312"/>
                </a:rPr>
                <a:t>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758240" y="5486040"/>
            <a:ext cx="2020320" cy="1191240"/>
            <a:chOff x="1758240" y="5486040"/>
            <a:chExt cx="2020320" cy="1191240"/>
          </a:xfrm>
        </p:grpSpPr>
        <p:sp>
          <p:nvSpPr>
            <p:cNvPr id="113" name=""/>
            <p:cNvSpPr/>
            <p:nvPr/>
          </p:nvSpPr>
          <p:spPr>
            <a:xfrm>
              <a:off x="2500560" y="5486040"/>
              <a:ext cx="127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66ff"/>
                  </a:solidFill>
                  <a:latin typeface="Arial"/>
                  <a:ea typeface="黑体"/>
                </a:rPr>
                <a:t>全力保护</a:t>
              </a: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240" y="548640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66ff"/>
                  </a:solidFill>
                  <a:latin typeface="Arial"/>
                  <a:ea typeface="楷体_GB2312"/>
                </a:rPr>
                <a:t>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15000" y="4116240"/>
            <a:ext cx="24382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13:45:53Z</dcterms:created>
  <dc:creator>Administrator</dc:creator>
  <dc:description/>
  <dc:language>en-US</dc:language>
  <cp:lastModifiedBy/>
  <dcterms:modified xsi:type="dcterms:W3CDTF">2015-08-11T05:46:13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