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8D5E-4DDA-4AB4-813D-7156713C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5DE-A929-4C90-BF72-F8CE49D5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4580-31EA-468C-8902-1A123E6B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A33-9999-4212-9278-7BFE0182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925E-EBAB-43A7-A8FD-6B272EA7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A43-1EE1-4458-8E04-489B3670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728-0668-4876-8374-B5129442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443D-61CA-48A5-A192-56C2EB12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FE8-6F89-45C1-9676-33F37737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60C5-A1AB-40E8-99E5-89323D81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B05C-4219-419F-A5E9-833B477D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9124-0BE7-4F51-8D7F-CF98256B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5BF7-0DE4-4600-AB10-363E48AF80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68360" y="2060640"/>
            <a:ext cx="828036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11430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052640"/>
            <a:ext cx="8964720" cy="49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棵树就是一座绿色工厂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片片枝叶都是快乐的音符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给我们送来清新的空气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让每个人都健康、幸福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11430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052640"/>
            <a:ext cx="896472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栽一棵树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多增添一片新绿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亿万棵树连起来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染绿了祖国美丽的版图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11430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1052640"/>
            <a:ext cx="817236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今天栽下绿色的希望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明天长成参天的大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叫风沙乖乖低头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让百鸟翩翩起舞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11430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052640"/>
            <a:ext cx="8029440" cy="55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森林是人类的朋友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建设“四化”离不开绿色宝库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亲爱的少先队员们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，我们一起去植树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5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34920" y="189000"/>
            <a:ext cx="48229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5229360"/>
            <a:ext cx="9144000" cy="1439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9280" y="189000"/>
            <a:ext cx="8137800" cy="41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再读读课文，填入恰当的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的春风 （  ）的脚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的小树 （  ）的音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的空气 （  ）的版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的希望 （  ）大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34920" y="189000"/>
            <a:ext cx="48229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189000"/>
            <a:ext cx="8137440" cy="41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再读读课文，填入恰当的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煦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春风 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快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脚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青翠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树 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快乐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音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清新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空气 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美丽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版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绿色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希望 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参天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大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34920" y="189000"/>
            <a:ext cx="48229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89000"/>
            <a:ext cx="3600720" cy="63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比一比，再组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栽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载 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版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板 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 颗 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幸  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34920" y="189000"/>
            <a:ext cx="48229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5229360"/>
            <a:ext cx="9144000" cy="1439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9280" y="404640"/>
            <a:ext cx="3600720" cy="58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栽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载 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版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板 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 颗 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幸  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35280" y="476280"/>
            <a:ext cx="5508720" cy="40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宋体"/>
              </a:rPr>
              <a:t>栽树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 装载 裁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宋体"/>
              </a:rPr>
              <a:t>版图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 木板 一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一棵树 一颗星  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幸福    辛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9907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0"/>
            <a:ext cx="7772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抄写词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从文中找出意思相近的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温暖（          ）   轻盈（         ）  增加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、填入合适的字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载  栽                     棵   颗           清脆   青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满（  ）而归       一（   ）草      （       ）的树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）种            一（    ）糖       （       ）的鸣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000000"/>
                </a:solidFill>
                <a:latin typeface="Arial"/>
              </a:rPr>
              <a:t>学习生字词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229600" cy="2953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8360" y="3357720"/>
            <a:ext cx="82072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植树的好处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绿色的工厂——  健康、幸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增添新绿——染绿版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绿色希望  ——沙退、鸟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看提示，用完整的语言说一下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《走，我们去植树》这首诗中把树、森林比作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绿色工厂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绿色宝库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把枝叶比作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快乐的音符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。其中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小节着重讲了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植树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的作用和意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1989000"/>
            <a:ext cx="24498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7640" y="2708280"/>
            <a:ext cx="2592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3500280"/>
            <a:ext cx="324036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292640"/>
            <a:ext cx="1440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60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、《走，我们去植树》这首诗中把树、森林比作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，把枝叶比作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其中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小节着重讲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的作用和意义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2276640"/>
            <a:ext cx="2519640" cy="76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绿色工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227664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绿色宝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3213000"/>
            <a:ext cx="30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快乐的音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4941720"/>
            <a:ext cx="1865160" cy="91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3300"/>
                </a:solidFill>
                <a:uFillTx/>
                <a:latin typeface="Arial"/>
              </a:rPr>
              <a:t>植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亿万棵树连起来，就染绿了祖国的版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染：本来指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用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染料着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含义：植树会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增添绿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1873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5280" y="3933720"/>
            <a:ext cx="18734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绿色宝库”指的是什么 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答：是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森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为什么被称为绿色宝库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宝库本意是储藏珍品的地方。这里用比喻法。因为森里一派绿色，所以称为“绿色宝库”。这个词语连上面描写——森林是“绿色工厂”带给人类“绿色希望”，它可以退沙，可以栖鸟，甚至可以盖房，架桥， 造船、铺路……所以，森林被称为绿色宝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40720" y="0"/>
            <a:ext cx="936720" cy="62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989000"/>
            <a:ext cx="8064720" cy="388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说说“伴随着金色童年的是一棵棵清翠的小树。” 的含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树青翠，充满活力，正是这些少先队员们的生动写照。作者用金色的童年加以暗示了——生活在蓬勃向上的新中国，沐浴党的阳光雨露，这样的童年岂不是“金色的”？ 他们植树，随着小树苗一起健康成长，祖国的未来和希望不就是他们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说说“叫风沙乖乖低头，让百鸟翩翩起舞”这句话的含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天坚持植树，棵棵小树将会长成参天大树，威武林立，形成一道不可逾越的屏障，“风沙”在它面前怎么能不“乖乖低头”？参天大树难道不也是小鸟们快乐的家园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叫”和“让”饱蕴着人的力量，是人造林才带来的这种景象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棵树就是一座绿色的工厂……让每个人都健康、幸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树木的叶片和太阳进行光和作用，吸收二氧化碳，释放氧气，从而净化了空气，减少了环境污染，送来了清新的空气，叶片再锋利的作用下又会发出“哗哗哗”的响声，所以说它是绿色工厂，奏出“快乐的音符”了。 这一切岂不也让 “让每个人都健康、幸福”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1628640"/>
            <a:ext cx="7920000" cy="381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本课 字词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和煦  轻快的脚步  荒滩 沟渠  回荡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青翠 清脆   片片枝叶  一座工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棵树  清新的空气 健康   栽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增添  新绿  染绿  版图  绿色的希望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参天大树 乖乖低头  翩翩起舞  绿色宝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写作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首尾呼应  开头 ：召唤少先队员去植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尾：号召  植树造林  人人 有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运用比喻    通俗易懂 植树造林的好处更加便于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句式变化，丰富多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诗歌句式 长短结合，散整协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对偶）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选一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．那……我们还是……等在这儿吧。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老师说：“同学们，让我们开始上课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荒滩，沟渠，山坡，公路…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、表示话未说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C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、表示说话断断续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、表示列举的省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20800" spc="-1" strike="noStrike">
                <a:solidFill>
                  <a:srgbClr val="ff3300"/>
                </a:solidFill>
                <a:latin typeface="Arial"/>
              </a:rPr>
              <a:t>88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植树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沟渠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回荡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栽种       音符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版图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乖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绿色工厂    欢声笑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011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荒滩     沟</a:t>
            </a:r>
            <a:r>
              <a:rPr b="0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渠</a:t>
            </a:r>
            <a:r>
              <a:rPr b="0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山坡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欢声笑语  健康幸福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乖乖低头  翩翩起舞</a:t>
            </a:r>
            <a:br>
              <a:rPr sz="6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000000"/>
                </a:solidFill>
                <a:latin typeface="Arial"/>
              </a:rPr>
              <a:t>阅读训练  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280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仔细看图说几句话，说出季节、地点、人物、他们去干什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0" t="42264" r="0" b="0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17524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404640"/>
            <a:ext cx="8388360" cy="40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迎着和煦的春风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迈开轻快的脚步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亲爱的少先队员们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走，我们一起去植树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17524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-603360"/>
            <a:ext cx="835344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荒滩，沟渠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坡，公路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处回荡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领巾的欢声笑语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伴随金色童年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棵棵青翠的小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7:39:58Z</dcterms:created>
  <dc:creator/>
  <dc:description> </dc:description>
  <dc:language>en-US</dc:language>
  <cp:lastModifiedBy>微软用户</cp:lastModifiedBy>
  <dcterms:modified xsi:type="dcterms:W3CDTF">2014-01-21T05:57:42Z</dcterms:modified>
  <cp:revision>0</cp:revision>
  <dc:subject/>
  <dc:title/>
</cp:coreProperties>
</file>