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4.gif" ContentType="image/gif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1D3-5426-49D7-938E-DA52DFF0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954-3CDB-4B6A-9687-0BDF649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B69-A6FB-445E-9B1D-4F3BBD06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4522-3DFB-498E-AB71-0F33DFDB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119F-7B89-4591-98F8-82B45F7F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E998-B52F-4515-8F80-3A229143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5FA7-C2AB-41DC-A8A7-9AB0A6DD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2869-A624-489E-8A6A-4CB7E47C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5B10-427B-430C-9115-265925C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4AE0-D131-4EEA-92F2-9EAFACA1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D54-02CF-4EC5-A96B-259632B7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282-0584-4461-A3BE-57721B8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98B-E7CD-4CAF-9545-1219F89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BE29-3D97-45FA-95D6-2307232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54CD-5FF2-4F50-9BFA-303BFDE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3E64-0FA3-4E38-9C60-A21C5F6E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1904-9E18-4B22-8737-93E84608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A98BF-D759-43CE-A83F-9D63CC01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03F0A-1E6A-4F84-B006-AD8089A4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67FE-8141-4445-A36C-8B08FFF3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5401D-2D0A-45EE-95C8-5295861D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9970F-7858-4C49-8694-6830E87E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782-A82E-47B8-9492-E4AADA1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A6FB-A950-4C1B-A531-2C6BD97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B253B-688F-4D63-AEC5-AA176F5F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CF1E-CB83-4F0A-AA9C-F266E28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91C6-056C-4A71-973F-66A39A3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2F36-6528-48CA-9F6A-1730D5B6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0AA2-F053-4879-A5E5-8F95A32F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8557-527D-4B2B-A98A-CF9194DD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182-E3D4-42E4-B855-F532B161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70A-EC9F-486F-BCDD-79EDFF26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790-413A-4628-9030-4F2FF66F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646-1F52-4197-8757-54F55C32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EDF-7743-474B-9C39-511B958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8E6-8CFF-465D-9F81-C76F4E6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CDE5-3D6E-4B4F-9A9B-0834C614F7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F07D-C13D-434C-A945-329D101FD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FA5-1F64-4463-9488-9AE4C3EA8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76360" y="1052640"/>
            <a:ext cx="65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春版四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19280" y="2637000"/>
            <a:ext cx="59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蓝裙的故事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禁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0720" y="981000"/>
            <a:ext cx="2787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不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禁得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情不自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弱不禁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2692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隶书"/>
                <a:ea typeface="隶书"/>
              </a:rPr>
              <a:t>初读课文，了解大意</a:t>
            </a:r>
            <a:r>
              <a:rPr b="0" lang="zh-CN" sz="3600" spc="-1" strike="noStrike">
                <a:solidFill>
                  <a:srgbClr val="009999"/>
                </a:solidFill>
                <a:latin typeface="隶书"/>
                <a:ea typeface="隶书"/>
              </a:rPr>
              <a:t> </a:t>
            </a:r>
            <a:r>
              <a:rPr b="1" lang="en-US" sz="3600" spc="-1" strike="noStrike">
                <a:solidFill>
                  <a:srgbClr val="009999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90792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蓝裙的故事是怎样开始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780000" y="2924280"/>
            <a:ext cx="1657080" cy="3311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>
            <a:off x="-720" y="1628640"/>
            <a:ext cx="3708360" cy="2448000"/>
          </a:xfrm>
          <a:prstGeom prst="cloudCallout">
            <a:avLst>
              <a:gd name="adj1" fmla="val -48546"/>
              <a:gd name="adj2" fmla="val 56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女孩最努力、贡献最大，老师奖给她一件小蓝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59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  <a:ea typeface="隶书"/>
              </a:rPr>
              <a:t>学习课文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  <a:ea typeface="隶书"/>
              </a:rPr>
              <a:t>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77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段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女孩得到了小蓝裙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能理解什么是“贡献”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084720" y="350028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贡献”就是为集体做的事情，为班级着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同学们你们想想平常自己为我们班级做了什么贡献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讨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213336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72723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老师在学期结束时，做了一条小蓝裙给了最努力的小女孩。后面又发生了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03720" y="25210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小蓝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2637000"/>
            <a:ext cx="1441440" cy="485640"/>
          </a:xfrm>
          <a:prstGeom prst="rightArrow">
            <a:avLst>
              <a:gd name="adj1" fmla="val 50000"/>
              <a:gd name="adj2" fmla="val 74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33520" y="242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变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62240" y="3645000"/>
            <a:ext cx="59817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2331720"/>
            <a:ext cx="8410320" cy="28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小蓝裙带来了哪些变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知道为什么会发生这些变化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7639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讨论交流</a:t>
            </a:r>
            <a:r>
              <a:rPr b="0" lang="zh-CN" sz="40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：</a:t>
            </a:r>
            <a:r>
              <a:rPr b="0" lang="zh-CN" sz="36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35053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蓝裙给周围带来了许多变化，小姑娘更漂亮了、家里焕然一新、房屋整洁亮丽了、街道整齐清洁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有感情地朗读自己喜欢的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59338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后，一条整齐清洁的街道就出现在这个城镇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一条小蓝裙会改变一条街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一个大的进步往往是从微小的改变开始；我们要善于从生活中去发现美、感受美，进而创造美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24200" y="3933720"/>
            <a:ext cx="7219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14040" y="162864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些变化都是经过人们努力，用双手改变了自己和周围的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同学们自由发言谈谈你的感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的双手可以让世界改变，只要努力工作，一切都会变得更加美好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2599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总 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33717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8028000" cy="2317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82320" y="1484280"/>
            <a:ext cx="46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镇 贡 兮 协 梳 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76360" y="0"/>
            <a:ext cx="2433600" cy="839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一猜，这个小镇还会有哪些变化？（可从人们的言谈举止、行为习惯等方面思考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2050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572000" y="2581200"/>
            <a:ext cx="4572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340000" y="2205000"/>
            <a:ext cx="2860560" cy="157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镇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981000"/>
            <a:ext cx="2787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镇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镇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城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乡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镇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贡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981000"/>
            <a:ext cx="2787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贡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贡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进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贡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脏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981000"/>
            <a:ext cx="2787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脏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脏兮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脏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脏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脏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协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981000"/>
            <a:ext cx="2787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协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协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协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齐心协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梳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00720" y="981000"/>
            <a:ext cx="2787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梳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木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梳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调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981000"/>
            <a:ext cx="27878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调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调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调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339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372360" y="44280"/>
            <a:ext cx="2433600" cy="841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43000" cy="1238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>
            <a:lum contrast="6000"/>
          </a:blip>
          <a:srcRect l="16310" t="20935" r="10863" b="8146"/>
          <a:stretch/>
        </p:blipFill>
        <p:spPr>
          <a:xfrm>
            <a:off x="1116000" y="1068480"/>
            <a:ext cx="4968720" cy="479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361240" y="836640"/>
            <a:ext cx="2619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0" spc="-1" strike="noStrike">
                <a:solidFill>
                  <a:srgbClr val="ff3300"/>
                </a:solidFill>
                <a:latin typeface="Times New Roman"/>
                <a:ea typeface="楷体"/>
              </a:rPr>
              <a:t>栋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981000"/>
            <a:ext cx="27878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栋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一栋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9:31:59Z</dcterms:created>
  <dc:creator/>
  <dc:description/>
  <cp:keywords/>
  <dc:language>en-US</dc:language>
  <cp:lastModifiedBy>MC SYSTEM</cp:lastModifiedBy>
  <cp:lastPrinted>1899-12-30T00:00:00Z</cp:lastPrinted>
  <dcterms:modified xsi:type="dcterms:W3CDTF">2013-05-12T05:02:12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XTAG2">
    <vt:lpwstr>000800d406000000000001024120</vt:lpwstr>
  </property>
</Properties>
</file>