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73C4-8D13-45FE-9ACA-AD3F6B5EF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52A0-6BCE-4E24-9DF5-44A619A9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2D8A-BC4A-4300-A8AB-57B1373E0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7CBB-D02C-422A-A6B7-049ED58FA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8B1B-6E94-457E-92CB-86C5DC3A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FCE9-B61F-4049-AA71-2D01B673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38C9-8D79-4B8A-996D-BFDE2BB7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E6ED-D586-4E98-A940-839B6EC9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D1DB-59CC-42F3-8969-3B62895A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EA77-AC77-4245-A6C6-F4802339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EE91-0349-4AC7-A191-E0FC75CE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DBA9-B3AC-4EA1-9F55-65DAAD63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5BC7-4C29-45CF-80A5-60556AF47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5a116decb8a0477379f0558f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12952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9966"/>
                </a:solidFill>
                <a:latin typeface="Arial"/>
              </a:rPr>
              <a:t>一千根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2507400" y="198360"/>
            <a:ext cx="44478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996633"/>
                </a:solidFill>
                <a:latin typeface="Arial"/>
              </a:rPr>
              <a:t>同学们，看到这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996633"/>
                </a:solidFill>
                <a:latin typeface="Arial"/>
              </a:rPr>
              <a:t>无字的药方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996633"/>
                </a:solidFill>
                <a:latin typeface="Arial"/>
              </a:rPr>
              <a:t>你想到了什么？</a:t>
            </a:r>
            <a:br>
              <a:rPr sz="8000"/>
            </a:b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61a9e18ee3b45eeb0e2444cd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Arial"/>
              </a:rPr>
              <a:t>我会认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9933ff"/>
                </a:solidFill>
                <a:latin typeface="Arial"/>
              </a:rPr>
              <a:t>    </a:t>
            </a:r>
            <a:r>
              <a:rPr b="1" lang="zh-CN" sz="9600" spc="-1" strike="noStrike">
                <a:solidFill>
                  <a:srgbClr val="9933ff"/>
                </a:solidFill>
                <a:latin typeface="Arial"/>
              </a:rPr>
              <a:t>徒        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14093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14400" y="1828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9600" spc="-1" strike="noStrike">
                <a:solidFill>
                  <a:srgbClr val="ff6699"/>
                </a:solidFill>
                <a:latin typeface="Arial"/>
              </a:rPr>
              <a:t>证    纸   效   徒    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d61ebc1ebf8bd56b203f2ec7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就为了这一个“希望”，他坚持弹奏，匆匆五十三年就如此过去了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508e30f5f166bcb00b46e0ca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22960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我给你一个保证治好眼睛的药方，不过，你得弹断一千根弦，才可以打开这纸单。在这之前，是不能生效的。</a:t>
            </a:r>
            <a:br>
              <a:rPr sz="6000"/>
            </a:br>
            <a:br>
              <a:rPr sz="6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14102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6600" spc="-1" strike="noStrike">
                <a:solidFill>
                  <a:srgbClr val="339933"/>
                </a:solidFill>
                <a:latin typeface="Arial"/>
              </a:rPr>
              <a:t>一位会弹三弦琴的盲人，渴望能够在他的有生之年看看这个世界。但是遍访名医，都说没有办法。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340180717110553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33ff"/>
                </a:solidFill>
                <a:latin typeface="Arial"/>
              </a:rPr>
              <a:t>         </a:t>
            </a:r>
            <a:r>
              <a:rPr b="1" lang="zh-CN" sz="8000" spc="-1" strike="noStrike">
                <a:solidFill>
                  <a:srgbClr val="9933ff"/>
                </a:solidFill>
                <a:latin typeface="Arial"/>
              </a:rPr>
              <a:t>于是，这位琴师带了一位也是双目失明了小徒弟游走四方，尽心尽意地以弹唱为生。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21714900938ce9d0d53f7cd5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    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、想象，此时他会弹奏什么样的曲子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、此时他又过着怎样的生活呢？</a:t>
            </a:r>
            <a:br>
              <a:rPr sz="4800"/>
            </a:b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、想象，当他弹断第一根琴弦的时候，他是什么心情？</a:t>
            </a:r>
            <a:br>
              <a:rPr sz="4800"/>
            </a:b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当他弹断第十根他是什么心情？</a:t>
            </a:r>
            <a:br>
              <a:rPr sz="4800"/>
            </a:b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4</a:t>
            </a: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、就在这第一千弦断了的时候，这位艺人又做了什么？</a:t>
            </a:r>
            <a:br>
              <a:rPr sz="40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4518382_133227257565_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-686160" y="3045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他双手捧着那张白纸，郑重地交给了同样渴望看到光明的弟子，对他说：“我这里有一张保证治好你眼睛的药方，不过，你得弹断一千根弦才可以打开这张纸单。现在，你可以去收徒弟了，去吧，去游走四方，尽情地弹唱，直到一千根弦断光的时候，你就有了答案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6-12-22T06:03:59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809000000000001024120</vt:lpwstr>
  </property>
  <property fmtid="{D5CDD505-2E9C-101B-9397-08002B2CF9AE}" pid="3" name="Version">
    <vt:r8>1</vt:r8>
  </property>
</Properties>
</file>