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19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2FAE-7067-4D0A-809D-D812AE15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9C3C-F7BA-4028-BE60-D64307E9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8799-3A58-471C-AD15-775AC6D4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E276-76B7-4EC7-84D0-D0057CE1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F16-4F05-4B0C-9F97-0B4A3D99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CFD1-6D31-4E8F-8A42-25A353E7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87B2-BB10-4563-9B01-35110B3A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4019-2540-48C3-9C29-D42D5A7A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6A07-0602-4F14-A7AF-3F1C0597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5BFC-5B5D-46EB-8A8F-5C5FEBC8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CA8-6ABE-45BE-B0B0-94F7268E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0A25-47D1-4CF3-A182-6A2FBDFE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C57F-6BF8-4AB1-A8E7-1749507A6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8e4b4101094a11957eea4bf69c538f59f052b0b83397782e974a08ae7626f3e601360e4d21fdb0900eeab490a54a4ac46b89ceecdab047a3be4c908ed361d227806f74f4&amp;a=29&amp;b=29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24.photo.store.qq.com/http_imgload.cgi?/rurl4_b=f52733238bc189dd92eac1a168c98ddfc38ac09ff3068ade03e5065e700c1f956c394e719f97afb05c62b9bc57740064b4a4aa4e43f27334049f878e29903605ae4429407b9e63ec165ee23440633883227df7f4&amp;a=29&amp;b=24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48e61b03778a9543c05953bed78d37799f013b0cf49d6b73e805fac7e696ff7e63d04222d4ff987568dbd768a565a94eb7b8cbd4eaf6f89be8ec827e5c08f80993261d77&amp;a=29&amp;b=29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13fb39b0c49ce8ae3ccf2d6ead9d9a75aabce280e1b0edcffe5879465c4802a39e6a8a9707bd195268008459542f7484c77226aabde1b11918b78cb550abed0b603bb052&amp;a=10&amp;b=29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8e4b4101094a11957eea4bf69c538f59f052b0b83397782e974a08ae7626f3e601360e4d21fdb0900eeab490a54a4ac46b89ceecdab047a3be4c908ed361d227806f74f4&amp;a=29&amp;b=29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06200" y="-169920"/>
            <a:ext cx="9142200" cy="6869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2484360" y="2060640"/>
            <a:ext cx="59040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latin typeface="MS Gothic"/>
              </a:rPr>
              <a:t>特殊需要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latin typeface="MS Gothic"/>
              <a:ea typeface="MS Gothic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60280"/>
            <a:ext cx="4751280" cy="5205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3366ff"/>
              </a:gs>
              <a:gs pos="100000">
                <a:srgbClr val="ff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春版小学语文八册六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1628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幽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19280" y="2421000"/>
            <a:ext cx="86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258920" y="3333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258920" y="15573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258920" y="27813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1258920" y="40053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1258920" y="5229360"/>
            <a:ext cx="1211400" cy="122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573960" y="260280"/>
            <a:ext cx="23749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认识并组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33336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宋体"/>
              </a:rPr>
              <a:t>需求  需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162864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铅笔    铅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78136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废物    废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56000" y="4005360"/>
            <a:ext cx="52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竹篓    背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5157720"/>
            <a:ext cx="56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误事   错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2268360" y="29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16720" y="29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2997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1280" y="364500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4221000"/>
            <a:ext cx="208764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5157720"/>
            <a:ext cx="2592360" cy="0"/>
          </a:xfrm>
          <a:prstGeom prst="line">
            <a:avLst/>
          </a:prstGeom>
          <a:ln w="381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6165720"/>
            <a:ext cx="3168720" cy="0"/>
          </a:xfrm>
          <a:prstGeom prst="line">
            <a:avLst/>
          </a:prstGeom>
          <a:ln w="381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6669000"/>
            <a:ext cx="1150920" cy="0"/>
          </a:xfrm>
          <a:prstGeom prst="line">
            <a:avLst/>
          </a:prstGeom>
          <a:ln w="381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95280" y="333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的开头简单交代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4941720"/>
            <a:ext cx="54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阅读思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18000" y="907920"/>
            <a:ext cx="50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哪几个词看出爱因斯坦不讲排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33680" y="1484280"/>
            <a:ext cx="45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一句体现了爱因斯坦的幽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65080" y="2060640"/>
            <a:ext cx="35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要大大的？”秘书问。“好让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所有的错误都扔进去。”这两句话表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爱因斯坦什么品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>
            <a:lum contrast="42000"/>
          </a:blip>
          <a:stretch/>
        </p:blipFill>
        <p:spPr>
          <a:xfrm>
            <a:off x="611280" y="765000"/>
            <a:ext cx="7921440" cy="511200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8642160" cy="4176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322200" y="0"/>
            <a:ext cx="9056520" cy="6794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00000" y="1484280"/>
            <a:ext cx="27352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篓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谣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讣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2565360"/>
            <a:ext cx="38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妞  扭  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83000" y="148428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楼   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364500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摇  遥  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4724280"/>
            <a:ext cx="43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扑  朴  仆  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9640" y="17002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幽默《特殊需要》一文，主要写（           ）和（       ）的一次（       ），表现了科学家的（      ）和（     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260280"/>
            <a:ext cx="244944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3366ff"/>
                  </a:solidFill>
                  <a:prstDash val="lgDash"/>
                  <a:miter/>
                </a:ln>
                <a:solidFill>
                  <a:srgbClr val="ff0000"/>
                </a:solidFill>
                <a:latin typeface="宋体"/>
              </a:rPr>
              <a:t>小结：</a:t>
            </a:r>
            <a:endParaRPr b="1" lang="en-US" sz="1800" spc="-1" strike="noStrike">
              <a:ln w="9360">
                <a:solidFill>
                  <a:srgbClr val="3366ff"/>
                </a:solidFill>
                <a:prstDash val="lgDash"/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64000" cy="33177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311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4500720" cy="3500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572000" y="3357720"/>
            <a:ext cx="4572000" cy="3500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46720" cy="685800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500720" y="0"/>
            <a:ext cx="4644720" cy="685800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979640" y="220500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6913440" cy="33112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692360" y="4149720"/>
            <a:ext cx="144360" cy="1443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4149720"/>
            <a:ext cx="144720" cy="1443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6093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414972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4149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17080" y="3068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2565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692360" y="2060640"/>
            <a:ext cx="4680000" cy="3233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050920" y="2349360"/>
            <a:ext cx="4608720" cy="2735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547640" y="476280"/>
            <a:ext cx="4392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prstDash val="lgDash"/>
                  <a:miter/>
                </a:ln>
                <a:solidFill>
                  <a:srgbClr val="ff0000"/>
                </a:solidFill>
                <a:latin typeface="宋体"/>
              </a:rPr>
              <a:t>会认的字</a:t>
            </a:r>
            <a:endParaRPr b="1" lang="en-US" sz="1800" spc="-1" strike="noStrike">
              <a:ln w="9360">
                <a:solidFill>
                  <a:srgbClr val="000000"/>
                </a:solidFill>
                <a:prstDash val="lgDash"/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332000" y="3284640"/>
            <a:ext cx="7200720" cy="1535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771640" y="1125360"/>
            <a:ext cx="410400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会写的字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1:20:11Z</dcterms:created>
  <dc:creator>微软用户</dc:creator>
  <dc:description/>
  <dc:language>en-US</dc:language>
  <cp:lastModifiedBy>微软用户</cp:lastModifiedBy>
  <dcterms:modified xsi:type="dcterms:W3CDTF">2013-06-22T11:22:0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  <property fmtid="{D5CDD505-2E9C-101B-9397-08002B2CF9AE}" pid="3" name="NXTAG2">
    <vt:lpwstr>000800de09000000000001024120</vt:lpwstr>
  </property>
</Properties>
</file>