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96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96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96080" y="51814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828800" y="1143000"/>
            <a:ext cx="6858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172200"/>
            <a:ext cx="72388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228240" y="61722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971800" y="6248160"/>
            <a:ext cx="40384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380880" y="228600"/>
            <a:ext cx="914400" cy="1370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1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10800000"/>
                </a:gradFill>
                <a:effectLst>
                  <a:outerShdw dist="45929" dir="7428877" blurRad="0" rotWithShape="0">
                    <a:srgbClr val="985b00"/>
                  </a:outerShdw>
                </a:effectLst>
                <a:latin typeface="Arial Black"/>
              </a:rPr>
              <a:t>$</a:t>
            </a:r>
            <a:endParaRPr b="1" lang="en-US" sz="4400" spc="-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0800000"/>
              </a:gradFill>
              <a:effectLst>
                <a:outerShdw dist="45929" dir="7428877" blurRad="0" rotWithShape="0">
                  <a:srgbClr val="985b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4695600">
            <a:off x="2626920" y="3315960"/>
            <a:ext cx="612720" cy="533520"/>
          </a:xfrm>
          <a:prstGeom prst="ellipse">
            <a:avLst/>
          </a:prstGeom>
          <a:blipFill rotWithShape="0">
            <a:blip r:embed="rId2">
              <a:alphaModFix amt="9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385800">
            <a:off x="2584440" y="2677680"/>
            <a:ext cx="614520" cy="453960"/>
          </a:xfrm>
          <a:prstGeom prst="ellipse">
            <a:avLst/>
          </a:prstGeom>
          <a:blipFill rotWithShape="0">
            <a:blip r:embed="rId3">
              <a:alphaModFix amt="9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648400">
            <a:off x="2971800" y="2133360"/>
            <a:ext cx="455760" cy="685800"/>
          </a:xfrm>
          <a:prstGeom prst="ellipse">
            <a:avLst/>
          </a:prstGeom>
          <a:blipFill rotWithShape="0">
            <a:blip r:embed="rId4">
              <a:alphaModFix amt="9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117200">
            <a:off x="1980720" y="1294920"/>
            <a:ext cx="444600" cy="376200"/>
          </a:xfrm>
          <a:prstGeom prst="ellipse">
            <a:avLst/>
          </a:prstGeom>
          <a:blipFill rotWithShape="0">
            <a:blip r:embed="rId5">
              <a:alphaModFix amt="9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329200">
            <a:off x="1982520" y="1993680"/>
            <a:ext cx="371520" cy="533160"/>
          </a:xfrm>
          <a:prstGeom prst="ellipse">
            <a:avLst/>
          </a:prstGeom>
          <a:blipFill rotWithShape="0">
            <a:blip r:embed="rId6">
              <a:alphaModFix amt="9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 rot="6580200">
            <a:off x="318240" y="367200"/>
            <a:ext cx="1905120" cy="1627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117200">
            <a:off x="2438280" y="1752480"/>
            <a:ext cx="457200" cy="609840"/>
          </a:xfrm>
          <a:prstGeom prst="ellipse">
            <a:avLst/>
          </a:prstGeom>
          <a:blipFill rotWithShape="0">
            <a:blip r:embed="rId8">
              <a:alphaModFix amt="9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117200">
            <a:off x="1676520" y="1676160"/>
            <a:ext cx="304560" cy="457200"/>
          </a:xfrm>
          <a:prstGeom prst="ellipse">
            <a:avLst/>
          </a:prstGeom>
          <a:blipFill rotWithShape="0">
            <a:blip r:embed="rId9">
              <a:alphaModFix amt="9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2362320"/>
            <a:ext cx="457200" cy="838080"/>
          </a:xfrm>
          <a:prstGeom prst="ellipse">
            <a:avLst/>
          </a:prstGeom>
          <a:blipFill rotWithShape="0">
            <a:blip r:embed="rId10">
              <a:alphaModFix amt="9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385800">
            <a:off x="3200400" y="2971440"/>
            <a:ext cx="762120" cy="533520"/>
          </a:xfrm>
          <a:prstGeom prst="ellipse">
            <a:avLst/>
          </a:prstGeom>
          <a:blipFill rotWithShape="0">
            <a:blip r:embed="rId11">
              <a:alphaModFix amt="9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385800">
            <a:off x="1668240" y="3266640"/>
            <a:ext cx="685800" cy="457200"/>
          </a:xfrm>
          <a:prstGeom prst="ellipse">
            <a:avLst/>
          </a:prstGeom>
          <a:blipFill rotWithShape="0">
            <a:blip r:embed="rId12">
              <a:alphaModFix amt="9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403812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38480" y="1052640"/>
            <a:ext cx="5105520" cy="5040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79280" y="1216080"/>
            <a:ext cx="3888000" cy="17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"/>
              </a:rPr>
              <a:t>圣诞老人的礼物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"/>
              <a:ea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42920" y="2133720"/>
            <a:ext cx="51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她找到大胡子老板说：“叔叔，我妈妈真的需要这顶假发，她病得头发都掉光了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2060640"/>
            <a:ext cx="51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大胡子老板看着她手臂上的伤痕和手上的一把零钱，沉吟了一会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58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这女孩一下呆住了，风暴般的愤怒和忧伤充塞了她的心。她没有哭，一言不发地回到了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4797360"/>
            <a:ext cx="73080" cy="730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3573360"/>
            <a:ext cx="71280" cy="71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924280"/>
            <a:ext cx="71280" cy="712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2924280"/>
            <a:ext cx="71280" cy="712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56360" y="4149720"/>
            <a:ext cx="71280" cy="730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3573360"/>
            <a:ext cx="71640" cy="71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573360"/>
            <a:ext cx="71280" cy="71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3573360"/>
            <a:ext cx="71280" cy="71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4149720"/>
            <a:ext cx="71640" cy="730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4149720"/>
            <a:ext cx="71280" cy="730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4149720"/>
            <a:ext cx="71640" cy="730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4076640"/>
            <a:ext cx="71280" cy="730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4797360"/>
            <a:ext cx="73080" cy="730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47640" y="187812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们说圣诞老人就是大胡子老板，你有什么根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24000" y="3860640"/>
            <a:ext cx="1584360" cy="612720"/>
            <a:chOff x="2124000" y="3860640"/>
            <a:chExt cx="1584360" cy="612720"/>
          </a:xfrm>
        </p:grpSpPr>
        <p:sp>
          <p:nvSpPr>
            <p:cNvPr id="150" name=""/>
            <p:cNvSpPr/>
            <p:nvPr/>
          </p:nvSpPr>
          <p:spPr>
            <a:xfrm>
              <a:off x="2124000" y="3860640"/>
              <a:ext cx="1584360" cy="61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13080" y="400356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根据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572000" y="3860640"/>
            <a:ext cx="1584360" cy="612720"/>
            <a:chOff x="4572000" y="3860640"/>
            <a:chExt cx="1584360" cy="612720"/>
          </a:xfrm>
        </p:grpSpPr>
        <p:sp>
          <p:nvSpPr>
            <p:cNvPr id="153" name=""/>
            <p:cNvSpPr/>
            <p:nvPr/>
          </p:nvSpPr>
          <p:spPr>
            <a:xfrm>
              <a:off x="4572000" y="3860640"/>
              <a:ext cx="1584360" cy="61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61080" y="400356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根据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093080" y="5229360"/>
            <a:ext cx="431640" cy="431640"/>
          </a:xfrm>
          <a:custGeom>
            <a:avLst/>
            <a:gdLst>
              <a:gd name="textAreaLeft" fmla="*/ 27000 w 431640"/>
              <a:gd name="textAreaRight" fmla="*/ 405000 w 43164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00000" y="17874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大胡子老板看着她手臂上的伤痕和手上的一把零钱，沉吟了一会儿，遗憾地说：“真抱歉，假发已经卖出去了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979640" y="190656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2841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大胡子老板看着她手臂上的伤痕和手上的一把零钱，沉吟了一会儿，遗憾地说：“真抱歉，假发已经卖出去了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37051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沉吟” 的解释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低声吟咏（文辞，诗句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（遇到复杂或难事）迟疑不决，低声自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2421000"/>
            <a:ext cx="73080" cy="730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32720" y="2421000"/>
            <a:ext cx="72720" cy="730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411280" y="2565360"/>
            <a:ext cx="5256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你有一颗纯洁的心，孩子，这是给你妈妈的礼物，也是给你的一份礼物。祝你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落款署名是：圣诞老人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87280" y="1413000"/>
            <a:ext cx="720108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第二天早晨，小女孩一睁眼，妈妈就对她说：“孩子，刚才有个人送给你一个包裹。”小女孩打开包裹一看，天哪，正是那顶假发！里面还夹着一张纸条。纸条上写着：“你有一颗纯洁的心，孩子，这是给你妈妈的礼物，也是给你的一份礼物。祝你快乐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　　落款署名是：圣诞老人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45164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8965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00000" y="236520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　美丽的妈妈病倒了，病得头发都掉光了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90760" y="3706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6696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3280" y="1263600"/>
            <a:ext cx="388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她想：假发多像妈妈的头发呀，如果我把它作为圣诞礼物送给妈妈，那该有多好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1120" y="836640"/>
            <a:ext cx="40705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00000" y="194472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“叔叔，我用这条项链换这顶假发可以吗”大胡子老板看了看她的项链说：“孩子，你这项链最多值两块钱，而这假发要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元哪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08000" y="907920"/>
            <a:ext cx="511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女孩红着脸窘住了，他恳求老板千万别卖掉假发，她一定会再找些东西来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79640" y="98100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小女孩红着脸窘住了，他恳求老板千万别卖掉假发，她一定会再找些东西来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3573360"/>
            <a:ext cx="424980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窘”在字典里有三种解释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穷困　２、为难：　３、使为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1989000"/>
            <a:ext cx="72720" cy="71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1989000"/>
            <a:ext cx="73080" cy="71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2492280"/>
            <a:ext cx="73080" cy="71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2492280"/>
            <a:ext cx="73080" cy="71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1989000"/>
            <a:ext cx="73080" cy="71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84280"/>
            <a:ext cx="73080" cy="71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1989000"/>
            <a:ext cx="73080" cy="71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372360" y="4653000"/>
            <a:ext cx="1584360" cy="61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3428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同学们自读课文的第四自然段，要求边读边想象故事中的情节，用笔画出文章中令你感动或心酸的语句，反复地读一读，在书边简单的写下你的感受理解或想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4616280"/>
            <a:ext cx="1584360" cy="612720"/>
            <a:chOff x="971640" y="4616280"/>
            <a:chExt cx="1584360" cy="612720"/>
          </a:xfrm>
        </p:grpSpPr>
        <p:sp>
          <p:nvSpPr>
            <p:cNvPr id="117" name=""/>
            <p:cNvSpPr/>
            <p:nvPr/>
          </p:nvSpPr>
          <p:spPr>
            <a:xfrm>
              <a:off x="971640" y="4616280"/>
              <a:ext cx="1584360" cy="61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60720" y="475920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第一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843280" y="4614840"/>
            <a:ext cx="1584360" cy="614520"/>
            <a:chOff x="2843280" y="4614840"/>
            <a:chExt cx="1584360" cy="614520"/>
          </a:xfrm>
        </p:grpSpPr>
        <p:sp>
          <p:nvSpPr>
            <p:cNvPr id="120" name=""/>
            <p:cNvSpPr/>
            <p:nvPr/>
          </p:nvSpPr>
          <p:spPr>
            <a:xfrm>
              <a:off x="2843280" y="4614840"/>
              <a:ext cx="1584360" cy="614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2600" y="47512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第二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43280" y="4653000"/>
            <a:ext cx="1584360" cy="614160"/>
            <a:chOff x="4643280" y="4653000"/>
            <a:chExt cx="1584360" cy="614160"/>
          </a:xfrm>
        </p:grpSpPr>
        <p:sp>
          <p:nvSpPr>
            <p:cNvPr id="123" name=""/>
            <p:cNvSpPr/>
            <p:nvPr/>
          </p:nvSpPr>
          <p:spPr>
            <a:xfrm>
              <a:off x="4643280" y="4653000"/>
              <a:ext cx="1584360" cy="61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09200" y="4717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第三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020000" y="5589720"/>
            <a:ext cx="576360" cy="431640"/>
          </a:xfrm>
          <a:custGeom>
            <a:avLst/>
            <a:gdLst>
              <a:gd name="textAreaLeft" fmla="*/ 27000 w 576360"/>
              <a:gd name="textAreaRight" fmla="*/ 549720 w 57636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86" y="1350"/>
                </a:lnTo>
                <a:lnTo>
                  <a:pt x="1350" y="135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86" y="20250"/>
                </a:lnTo>
                <a:lnTo>
                  <a:pt x="27486" y="135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86" y="2025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36" h="21600">
                <a:moveTo>
                  <a:pt x="7374" y="3756"/>
                </a:moveTo>
                <a:lnTo>
                  <a:pt x="21462" y="10800"/>
                </a:lnTo>
                <a:lnTo>
                  <a:pt x="737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98240" y="479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四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98240" y="479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四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653000"/>
            <a:ext cx="1584360" cy="61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98240" y="479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四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32000" y="2565360"/>
            <a:ext cx="37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1700280"/>
            <a:ext cx="54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小女孩想尽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切办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去赚钱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直到圣诞节的一天晚上，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赚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元钱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2:33:50Z</dcterms:created>
  <dc:creator>lenovo</dc:creator>
  <dc:description/>
  <dc:language>en-US</dc:language>
  <cp:lastModifiedBy>lenovo</cp:lastModifiedBy>
  <dcterms:modified xsi:type="dcterms:W3CDTF">2013-06-22T12:15:00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NXTAG2">
    <vt:lpwstr>0008009c05000000000001024120</vt:lpwstr>
  </property>
</Properties>
</file>