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A52-0C00-43D4-8B4E-E7637F0D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E1F-73D6-43DB-86C9-42CD138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990-2945-46F5-852D-D5F954E3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7D1-E45C-4F34-B702-1A5A5CB5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733F0-53C9-4724-B7EF-E62F3C96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119BF-5BCB-4914-8EEA-3C605272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F934D-0D54-4614-AA44-81B3C29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63F8-94BF-4374-84AE-E1591112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766F-622D-4AB6-9A18-B0AF2D6D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0DADF-46A2-475E-96C3-D2A77321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BF43B-5C5D-46EA-91D8-62DCC9F5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AC3-E9F3-4A7A-81D9-AA1AB4D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85029-A6A3-42B8-BF56-D8918ED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A8D17-8703-4742-88B4-DF64FC52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B208E-2984-48BC-88B7-ACA60BF9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0B4C7-A5E2-4E0B-BC70-4C26343E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B4F25-CEED-42FA-B1F8-38375D44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955-1331-4129-A8DE-67FE1E5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D05-750D-4409-B332-5EF61EE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D75-4905-45BD-9123-0C6143D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13D-D3BE-44D3-A8B9-E0E2CDA5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993-E0CC-45A1-8657-62891ED7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100-63BF-4E09-9B59-CF7202A4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DA9-1E21-4B43-9556-FBBC471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9BCC-53DB-4701-A51D-55BA633A588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5E4-4D4C-4C02-89F1-79477C1D14A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9.xml"/><Relationship Id="rId6" Type="http://schemas.openxmlformats.org/officeDocument/2006/relationships/slide" Target="slide18.xml"/><Relationship Id="rId7" Type="http://schemas.openxmlformats.org/officeDocument/2006/relationships/slide" Target="slide6.xml"/><Relationship Id="rId8" Type="http://schemas.openxmlformats.org/officeDocument/2006/relationships/slide" Target="slide11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9.xml"/><Relationship Id="rId6" Type="http://schemas.openxmlformats.org/officeDocument/2006/relationships/slide" Target="slide18.xml"/><Relationship Id="rId7" Type="http://schemas.openxmlformats.org/officeDocument/2006/relationships/slide" Target="slide6.xml"/><Relationship Id="rId8" Type="http://schemas.openxmlformats.org/officeDocument/2006/relationships/slide" Target="slide10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7.xml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15.xml"/><Relationship Id="rId6" Type="http://schemas.openxmlformats.org/officeDocument/2006/relationships/slide" Target="slide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5.xml"/><Relationship Id="rId4" Type="http://schemas.openxmlformats.org/officeDocument/2006/relationships/slide" Target="slide15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2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" Target="slide8.xml"/><Relationship Id="rId7" Type="http://schemas.openxmlformats.org/officeDocument/2006/relationships/slide" Target="slide6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8.xml"/><Relationship Id="rId6" Type="http://schemas.openxmlformats.org/officeDocument/2006/relationships/slide" Target="slide18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0.xml"/><Relationship Id="rId6" Type="http://schemas.openxmlformats.org/officeDocument/2006/relationships/slide" Target="slide18.xml"/><Relationship Id="rId7" Type="http://schemas.openxmlformats.org/officeDocument/2006/relationships/slide" Target="slide6.xml"/><Relationship Id="rId8" Type="http://schemas.openxmlformats.org/officeDocument/2006/relationships/slide" Target="slide11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5.xml"/><Relationship Id="rId5" Type="http://schemas.openxmlformats.org/officeDocument/2006/relationships/slide" Target="slide10.xml"/><Relationship Id="rId6" Type="http://schemas.openxmlformats.org/officeDocument/2006/relationships/slide" Target="slide18.xml"/><Relationship Id="rId7" Type="http://schemas.openxmlformats.org/officeDocument/2006/relationships/slide" Target="slide6.xml"/><Relationship Id="rId8" Type="http://schemas.openxmlformats.org/officeDocument/2006/relationships/slide" Target="slide11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2500200"/>
            <a:ext cx="61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步 行 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里  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1001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0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体验真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080" y="189000"/>
            <a:ext cx="860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我很生气，不是气你，而是气我自己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知道吗？我终于了解到，如果经过这么多年，你还觉得有必要对我说谎，那我这个做父亲的真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彻底失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了！我失败的原因是，我养大了一个儿子，而这个儿子对自己的父亲却无法说实话！我得好好静一静，你先回去，我要走路回家，反省我这些年来到底是哪里做错了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529272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>
            <a:hlinkClick r:id="rId5" action="ppaction://hlinksldjump"/>
          </p:cNvPr>
          <p:cNvSpPr/>
          <p:nvPr/>
        </p:nvSpPr>
        <p:spPr>
          <a:xfrm>
            <a:off x="2268360" y="6308640"/>
            <a:ext cx="360720" cy="28908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80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6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956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划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rId7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2908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rId8" action="ppaction://hlinksldjump"/>
          </p:cNvPr>
          <p:cNvSpPr/>
          <p:nvPr/>
        </p:nvSpPr>
        <p:spPr>
          <a:xfrm>
            <a:off x="284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1640" y="6583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9" action="ppaction://hlinksldjump"/>
          </p:cNvPr>
          <p:cNvSpPr/>
          <p:nvPr/>
        </p:nvSpPr>
        <p:spPr>
          <a:xfrm>
            <a:off x="1620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6583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89080" y="189000"/>
            <a:ext cx="860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我很生气，不是气你，而是气我自己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知道吗？我终于了解到，如果经过这么多年，你还觉得有必要对我说谎，那我这个做父亲的真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彻底失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了！我失败的原因是，我养大了一个儿子，而这个儿子对自己的父亲却无法说实话！我得好好静一静，你先回去，我要走路回家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反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这些年来到底是哪里做错了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4572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8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3" action="ppaction://hlinksldjump"/>
          </p:cNvPr>
          <p:cNvSpPr/>
          <p:nvPr/>
        </p:nvSpPr>
        <p:spPr>
          <a:xfrm>
            <a:off x="17622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6370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rId5" action="ppaction://hlinksldjump"/>
          </p:cNvPr>
          <p:cNvSpPr/>
          <p:nvPr/>
        </p:nvSpPr>
        <p:spPr>
          <a:xfrm>
            <a:off x="2340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>
            <a:hlinkClick r:id="rId6" action="ppaction://hlinksldjump"/>
          </p:cNvPr>
          <p:cNvSpPr/>
          <p:nvPr/>
        </p:nvSpPr>
        <p:spPr>
          <a:xfrm>
            <a:off x="70182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1784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6692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划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2620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4692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>
            <a:hlinkClick r:id="rId7" action="ppaction://hlinksldjump"/>
          </p:cNvPr>
          <p:cNvSpPr/>
          <p:nvPr/>
        </p:nvSpPr>
        <p:spPr>
          <a:xfrm>
            <a:off x="521964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980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8" action="ppaction://hlinksldjump"/>
          </p:cNvPr>
          <p:cNvSpPr/>
          <p:nvPr/>
        </p:nvSpPr>
        <p:spPr>
          <a:xfrm>
            <a:off x="2916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失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rId9" action="ppaction://hlinksldjump"/>
          </p:cNvPr>
          <p:cNvSpPr/>
          <p:nvPr/>
        </p:nvSpPr>
        <p:spPr>
          <a:xfrm>
            <a:off x="5796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2292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4360" y="16365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阵罪恶感涌上我的心头，我支支吾吾承认自己去了电影院，告诉他我迟到的真正原因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3" action="ppaction://hlinksldjump"/>
          </p:cNvPr>
          <p:cNvSpPr/>
          <p:nvPr/>
        </p:nvSpPr>
        <p:spPr>
          <a:xfrm>
            <a:off x="154764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5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>
            <a:hlinkClick r:id="rId6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908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>
            <a:hlinkClick r:id="rId7" action="ppaction://hlinksldjump"/>
          </p:cNvPr>
          <p:cNvSpPr/>
          <p:nvPr/>
        </p:nvSpPr>
        <p:spPr>
          <a:xfrm>
            <a:off x="529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>
            <a:hlinkClick r:id="rId8" action="ppaction://hlinksldjump"/>
          </p:cNvPr>
          <p:cNvSpPr/>
          <p:nvPr/>
        </p:nvSpPr>
        <p:spPr>
          <a:xfrm>
            <a:off x="2268360" y="6308640"/>
            <a:ext cx="360720" cy="28908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80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6610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支支吾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4360" y="16365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罪恶感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涌上我的心头，我支支吾吾承认自己去了电影院，告诉他我迟到的真正原因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51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327672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rId6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908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7" action="ppaction://hlinksldjump"/>
          </p:cNvPr>
          <p:cNvSpPr/>
          <p:nvPr/>
        </p:nvSpPr>
        <p:spPr>
          <a:xfrm>
            <a:off x="529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196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8" action="ppaction://hlinksldjump"/>
          </p:cNvPr>
          <p:cNvSpPr/>
          <p:nvPr/>
        </p:nvSpPr>
        <p:spPr>
          <a:xfrm>
            <a:off x="176364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6200" y="65833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支支吾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4360" y="16365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一阵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罪恶感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涌上我的心头，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支支吾吾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承认自己去了电影院，告诉他我迟到的真正原因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392256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498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234000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692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rId6" action="ppaction://hlinksldjump"/>
          </p:cNvPr>
          <p:cNvSpPr/>
          <p:nvPr/>
        </p:nvSpPr>
        <p:spPr>
          <a:xfrm>
            <a:off x="5364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rId7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4360" y="1484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可是，爸，回家要走整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里路啊！天已经黑了，你怎么可以走着回家？”不管我怎么抗议、怎么道歉、怎样费尽唇舌，还是得不到父亲的谅解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392256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498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>
            <a:hlinkClick r:id="rId5" action="ppaction://hlinksldjump"/>
          </p:cNvPr>
          <p:cNvSpPr/>
          <p:nvPr/>
        </p:nvSpPr>
        <p:spPr>
          <a:xfrm>
            <a:off x="5364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2144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>
            <a:hlinkClick r:id="rId6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2771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27280" y="6597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抗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>
            <a:hlinkClick r:id="rId8" action="ppaction://hlinksldjump"/>
          </p:cNvPr>
          <p:cNvSpPr/>
          <p:nvPr/>
        </p:nvSpPr>
        <p:spPr>
          <a:xfrm>
            <a:off x="197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65833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不管…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4360" y="148428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可是，爸，回家要走整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里路啊！天已经黑了，你怎么可以走着回家？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管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怎么抗议、怎么道歉、怎样费尽唇舌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还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是得不到父亲的谅解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169236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1928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392256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rId3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rId4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5364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2144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>
            <a:hlinkClick r:id="rId6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1200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>
            <a:hlinkClick r:id="rId7" action="ppaction://hlinksldjump"/>
          </p:cNvPr>
          <p:cNvSpPr/>
          <p:nvPr/>
        </p:nvSpPr>
        <p:spPr>
          <a:xfrm>
            <a:off x="24130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6597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抗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4360" y="148428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可是，爸，回家要走整整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里路啊！天已经黑了，你怎么可以走着回家？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管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怎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抗议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怎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道歉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、怎样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费尽唇舌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还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是得不到父亲的谅解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6516720" y="6321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>
            <a:hlinkClick r:id="rId2" action="ppaction://hlinksldjump"/>
          </p:cNvPr>
          <p:cNvSpPr/>
          <p:nvPr/>
        </p:nvSpPr>
        <p:spPr>
          <a:xfrm>
            <a:off x="39974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2436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3" action="ppaction://hlinksldjump"/>
          </p:cNvPr>
          <p:cNvSpPr/>
          <p:nvPr/>
        </p:nvSpPr>
        <p:spPr>
          <a:xfrm>
            <a:off x="46465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4" action="ppaction://hlinksldjump"/>
          </p:cNvPr>
          <p:cNvSpPr/>
          <p:nvPr/>
        </p:nvSpPr>
        <p:spPr>
          <a:xfrm>
            <a:off x="2193840" y="6321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0216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2256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5" action="ppaction://hlinksldjump"/>
          </p:cNvPr>
          <p:cNvSpPr/>
          <p:nvPr/>
        </p:nvSpPr>
        <p:spPr>
          <a:xfrm>
            <a:off x="54388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959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6" action="ppaction://hlinksldjump"/>
          </p:cNvPr>
          <p:cNvSpPr/>
          <p:nvPr/>
        </p:nvSpPr>
        <p:spPr>
          <a:xfrm>
            <a:off x="59450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7232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4360" y="16365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父亲身心遭受这种折磨，这是我有生以来碰到的最为沮丧与痛苦的事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6516720" y="6321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4364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39974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2436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3" action="ppaction://hlinksldjump"/>
          </p:cNvPr>
          <p:cNvSpPr/>
          <p:nvPr/>
        </p:nvSpPr>
        <p:spPr>
          <a:xfrm>
            <a:off x="46465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4" action="ppaction://hlinksldjump"/>
          </p:cNvPr>
          <p:cNvSpPr/>
          <p:nvPr/>
        </p:nvSpPr>
        <p:spPr>
          <a:xfrm>
            <a:off x="2193840" y="6321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0216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2256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54388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959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6" action="ppaction://hlinksldjump"/>
          </p:cNvPr>
          <p:cNvSpPr/>
          <p:nvPr/>
        </p:nvSpPr>
        <p:spPr>
          <a:xfrm>
            <a:off x="59450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87232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4360" y="16365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父亲身心遭受这种折磨，这是我有生以来碰到的最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沮丧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痛苦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的事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5435640" y="6321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6256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16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843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654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2108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4036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43578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148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>
            <a:hlinkClick r:id="rId3" action="ppaction://hlinksldjump"/>
          </p:cNvPr>
          <p:cNvSpPr/>
          <p:nvPr/>
        </p:nvSpPr>
        <p:spPr>
          <a:xfrm>
            <a:off x="48639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7912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9280" y="5605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父亲开始沿着布满尘土的道路前进，我很快跳上车，开着车跟在后面，希望他会心软，改变主意。我一路不停地说好话，告诉他我有多抱歉，但他就是不理我，只是满怀痛苦地深思着，闷声不语，头也不抬地往前走，那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里路我就一直开着车跟在他身后，平均时速只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里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24829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3203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536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46432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6610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12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7" action="ppaction://hlinksldjump"/>
          </p:cNvPr>
          <p:cNvSpPr/>
          <p:nvPr/>
        </p:nvSpPr>
        <p:spPr>
          <a:xfrm>
            <a:off x="680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0400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9280" y="5605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父亲开始沿着布满尘土的道路前进，我很快跳上车，开着车跟在后面，希望他会心软，改变主意。我一路不停地说好话，告诉他我有多抱歉，但他就是不理我，只是满怀痛苦地深思着，闷声不语，头也不抬地往前走，那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里路我就一直开着车跟在他身后，平均时速只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里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5435640" y="6321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256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16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43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654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2108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4036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578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148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639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912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16365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杰森，你觉得自己有必要向我说谎吗？这让我很失望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19810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25574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5" action="ppaction://hlinksldjump"/>
          </p:cNvPr>
          <p:cNvSpPr/>
          <p:nvPr/>
        </p:nvSpPr>
        <p:spPr>
          <a:xfrm>
            <a:off x="536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46432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7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6610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6597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划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8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12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1636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杰森，你觉得自己有必要向我说谎吗？这让我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望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20509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6272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7964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661032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划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536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46432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144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6365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杰森，你觉得自己有必要向我说谎吗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？这让我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失望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。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64328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5" action="ppaction://hlinksldjump"/>
          </p:cNvPr>
          <p:cNvSpPr/>
          <p:nvPr/>
        </p:nvSpPr>
        <p:spPr>
          <a:xfrm>
            <a:off x="536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6" action="ppaction://hlinksldjump"/>
          </p:cNvPr>
          <p:cNvSpPr/>
          <p:nvPr/>
        </p:nvSpPr>
        <p:spPr>
          <a:xfrm>
            <a:off x="233856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7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2144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16365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父亲很专注地听我解释，却压抑不住内心的伤悲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3922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46432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5" action="ppaction://hlinksldjump"/>
          </p:cNvPr>
          <p:cNvSpPr/>
          <p:nvPr/>
        </p:nvSpPr>
        <p:spPr>
          <a:xfrm>
            <a:off x="536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24098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892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3856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144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4360" y="163656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父亲很专注地听我解释，却压抑不住内心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伤悲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39942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2560" y="6610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464328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5" action="ppaction://hlinksldjump"/>
          </p:cNvPr>
          <p:cNvSpPr/>
          <p:nvPr/>
        </p:nvSpPr>
        <p:spPr>
          <a:xfrm>
            <a:off x="2268360" y="6294600"/>
            <a:ext cx="360720" cy="28872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3794"/>
                </a:moveTo>
                <a:lnTo>
                  <a:pt x="20496" y="10800"/>
                </a:lnTo>
                <a:lnTo>
                  <a:pt x="648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6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98920" y="6610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580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rId7" action="ppaction://hlinksldjump"/>
          </p:cNvPr>
          <p:cNvSpPr/>
          <p:nvPr/>
        </p:nvSpPr>
        <p:spPr>
          <a:xfrm>
            <a:off x="5435640" y="62946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080" y="18900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很生气，不是气你，而是气我自己。你知道吗？我终于了解到，如果经过这么多年，你还觉得有必要对我说谎，那我这个做父亲的真是彻底失败了！我失败的原因是，我养大了一个儿子，而这个儿子对自己的父亲却无法说实话！我得好好静一静，你先回去，我要走路回家，反省我这些年来到底是哪里做错了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529272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2268360" y="6308640"/>
            <a:ext cx="360720" cy="28908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80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836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失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7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908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8" action="ppaction://hlinksldjump"/>
          </p:cNvPr>
          <p:cNvSpPr/>
          <p:nvPr/>
        </p:nvSpPr>
        <p:spPr>
          <a:xfrm>
            <a:off x="284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6583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9" action="ppaction://hlinksldjump"/>
          </p:cNvPr>
          <p:cNvSpPr/>
          <p:nvPr/>
        </p:nvSpPr>
        <p:spPr>
          <a:xfrm>
            <a:off x="1620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6583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划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080" y="18900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我很生气，不是气你，而是气我自己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知道吗？我终于了解到，如果经过这么多年，你还觉得有必要对我说谎，那我这个做父亲的真是彻底失败了！我失败的原因是，我养大了一个儿子，而这个儿子对自己的父亲却无法说实话！我得好好静一静，你先回去，我要走路回家，反省我这些年来到底是哪里做错了！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10800"/>
                </a:moveTo>
                <a:lnTo>
                  <a:pt x="20466" y="3794"/>
                </a:lnTo>
                <a:lnTo>
                  <a:pt x="2046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17092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392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6610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失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529272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608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2268360" y="6308640"/>
            <a:ext cx="360720" cy="28908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80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67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65833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罪恶感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95640" y="6583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失败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不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61080" y="6597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沮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7" action="ppaction://hlinksldjump"/>
          </p:cNvPr>
          <p:cNvSpPr/>
          <p:nvPr/>
        </p:nvSpPr>
        <p:spPr>
          <a:xfrm>
            <a:off x="4572000" y="6281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29080" y="6570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伤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rId8" action="ppaction://hlinksldjump"/>
          </p:cNvPr>
          <p:cNvSpPr/>
          <p:nvPr/>
        </p:nvSpPr>
        <p:spPr>
          <a:xfrm>
            <a:off x="284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71640" y="6583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9" action="ppaction://hlinksldjump"/>
          </p:cNvPr>
          <p:cNvSpPr/>
          <p:nvPr/>
        </p:nvSpPr>
        <p:spPr>
          <a:xfrm>
            <a:off x="1620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5833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反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3:03Z</dcterms:created>
  <dc:creator>微软用户</dc:creator>
  <dc:description/>
  <dc:language>en-US</dc:language>
  <cp:lastModifiedBy>微软用户</cp:lastModifiedBy>
  <dcterms:modified xsi:type="dcterms:W3CDTF">2011-10-17T08:41:38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2000000000001024120</vt:lpwstr>
  </property>
</Properties>
</file>