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7D8-6A25-4D15-A378-85D9A32F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F82-2194-48E6-BC49-BC4179AB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960-280C-4E8F-AAF5-62CAF21B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746-B84A-4410-AF65-3CB0FF4D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604-5586-4C41-8BBD-15655A6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0C7-77ED-46A3-9038-5258B571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1F9-9A9F-4426-A817-E71ADD5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0F2-06B2-43BE-850C-27B7E2E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665-9626-4892-88CD-414BAEE5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108-5563-4CBD-90B8-B071B87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C45-3068-4395-BEB9-0197C64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64C-7E66-4619-A74C-E49EF56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0A5-DA7F-4577-B0FB-5D874E9CF3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jxsj.cn/article/22575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jxsj.cn/article/22575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jxsj.cn/article/3716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09480" y="0"/>
            <a:ext cx="10404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义务教育课程标准实验教科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16002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春版四年语文下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1240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我的“自白”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9000" y="136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5228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读一读，理解加点词语在句子中的含义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1965240" y="3222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6477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9058320" cy="6794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9000" y="1143000"/>
            <a:ext cx="504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33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自白”书；自白加上引号，表示意思相反，不是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自白，想敌人投降，而是革命者对坚定的革命信念的自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我不需要什么自白”中的自白，才是指向敌人投降，所以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加引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      “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魔鬼的宫殿”比喻国民党反动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      “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蒋家王朝”指蒋介石领导下的国民党反动政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436920" cy="501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-211" b="-87"/>
          <a:stretch/>
        </p:blipFill>
        <p:spPr>
          <a:xfrm>
            <a:off x="348768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37880" y="304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叶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676520"/>
            <a:ext cx="44197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梅岭三章</a:t>
            </a:r>
            <a:br>
              <a:rPr sz="44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陈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一九三六年冬，梅山被围。余伤病伏丛莽间二十余日，虑不得脱，得诗三首留衣底。旋围解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〔一〕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断头今日意如何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创业艰难百战多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此去泉台招旧部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旌旗十万斩阎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286000"/>
            <a:ext cx="3200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〔二〕 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国烽烟正十年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头须向国门悬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死诸君多努力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捷报飞来当纸钱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〔 三〕 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投身革命即为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血雨腥风应有涯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义成仁今日事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间遍种自由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79640" y="260280"/>
            <a:ext cx="3657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阅读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67652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的“自白”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陈然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2800" cy="443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52680" y="2673360"/>
            <a:ext cx="5791320" cy="418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609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陈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5800" y="0"/>
            <a:ext cx="10404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52280"/>
            <a:ext cx="26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作者资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5238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陈然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23-194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原名陈崇德，河北香河人。抗战初期，积极参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生就亡运动，不久就加入中国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产党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被捕，曾任挺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报特支书记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，在重庆大坪被国民党反动派杀害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首诗就是他在监狱中所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828800" y="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文思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大声读诗，圈画生字，标上小节的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一边读一边思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）“自白”是什么意思？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）《我的“自白”书》中“自白”为何加上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）“魔鬼的宫殿”指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）“蒋家王朝”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78080" y="152280"/>
            <a:ext cx="39906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的“自白” 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任脚下响着沉重的鉄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任你把皮鞭举得高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不需要什么自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哪怕胸口对着带血的刺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，不能低下高贵的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怕死鬼才乞求“自由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毒性拷打算得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死亡也无法叫我开口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着死亡我放声大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魔鬼的宫殿在笑声中动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就是我——一个共产党员的自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唱凯歌埋葬蒋家王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4572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认</a:t>
            </a:r>
            <a:endParaRPr b="0" lang="en-US" sz="1800" spc="1" strike="noStrike">
              <a:ln w="1584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404280" y="2209680"/>
            <a:ext cx="87771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o 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g 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o 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g 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 z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拷  毒 刑   拷   党  凯  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143000" y="144792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认一认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47920" y="32004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镣毒刑拷党凯葬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9058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362320" y="167652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会写的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367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238880" cy="1752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609480" y="5638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8T10:57:0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6000000000001024120</vt:lpwstr>
  </property>
  <property fmtid="{D5CDD505-2E9C-101B-9397-08002B2CF9AE}" pid="3" name="Version">
    <vt:r8>1</vt:r8>
  </property>
</Properties>
</file>