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FCE1-BC0D-4034-8291-E8B47B0A7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8269-1416-4C8B-A91B-D99473C41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3DED-552D-4624-B77A-263A1F7A5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A5EE-8523-4BF1-A9A5-BCF08D5C3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D2E4-4E47-4102-BE78-5E6B55233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2895-A217-4A8A-BBE6-D5169F1C1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71AF-2BDA-4AC1-BDFD-E7C5B9D72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3F25-43E6-4EDE-817B-44AFECC9A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F100-0848-4079-96BC-C854849B0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D92C-5CCE-435D-A2F7-EF06631C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06DC-5FD8-4E82-B65B-5F6E0D94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B812-BA28-4BFC-AD7D-1FCFF6B1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FEFBE-F180-4948-AD67-8104020A1F2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468360" y="765000"/>
          <a:ext cx="820908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765000"/>
                    <a:ext cx="820908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"/>
          <p:cNvSpPr/>
          <p:nvPr/>
        </p:nvSpPr>
        <p:spPr>
          <a:xfrm>
            <a:off x="2413080" y="15573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b0f0"/>
                </a:solidFill>
                <a:latin typeface="MingLiU-ExtB"/>
                <a:ea typeface="MingLiU-ExtB"/>
              </a:rPr>
              <a:t>25 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鸟的天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直线连接符 21"/>
          <p:cNvSpPr/>
          <p:nvPr/>
        </p:nvSpPr>
        <p:spPr>
          <a:xfrm>
            <a:off x="2700360" y="2492280"/>
            <a:ext cx="3816360" cy="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6123960" y="3502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巴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Object 2"/>
          <p:cNvGraphicFramePr/>
          <p:nvPr/>
        </p:nvGraphicFramePr>
        <p:xfrm>
          <a:off x="468360" y="765000"/>
          <a:ext cx="8209080" cy="554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765000"/>
                    <a:ext cx="8209080" cy="554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39640" y="83664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我</a:t>
            </a:r>
            <a:r>
              <a:rPr b="1" lang="zh-CN" sz="3600" spc="-1" strike="noStrike">
                <a:solidFill>
                  <a:srgbClr val="0070c0"/>
                </a:solidFill>
                <a:latin typeface="Arial"/>
              </a:rPr>
              <a:t>仿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听见几只鸟扑翅的声音，等我注意去看，却不见一只鸟的影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这一句中，作者为什么用“仿佛”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612720" y="249228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楷体"/>
                <a:ea typeface="楷体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仿佛”有两种可能。一种可能是当时真的有鸟在扑翅膀，但作者注意去看时，却没看到鸟，不敢确定是否有鸟；另一种可能是当时鸟儿都在巢里栖息，作者听朋友介绍后，渴望见到鸟，以致于耳旁传来了鸟儿扑翅膀的声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Object 2"/>
          <p:cNvGraphicFramePr/>
          <p:nvPr/>
        </p:nvGraphicFramePr>
        <p:xfrm>
          <a:off x="468360" y="765000"/>
          <a:ext cx="8209080" cy="554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765000"/>
                    <a:ext cx="8209080" cy="554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12720" y="836640"/>
            <a:ext cx="79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注意地看着，眼睛应接不暇，看清楚了这只，又错过了那只，看见了那只，另一只又飞起来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这句话写的是“鸟的天堂”热闹的景象。“应接不暇”说明鸟多得看不过来。与作者前一次看到的景象形成鲜明对比，这是一个名副其实的、真正的鸟的天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5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0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Object 2"/>
          <p:cNvGraphicFramePr/>
          <p:nvPr/>
        </p:nvGraphicFramePr>
        <p:xfrm>
          <a:off x="468360" y="765000"/>
          <a:ext cx="8209080" cy="554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765000"/>
                    <a:ext cx="8209080" cy="554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539640" y="907920"/>
            <a:ext cx="806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当小船向着高塔下面的乡村划去的时候，我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Arial"/>
              </a:rPr>
              <a:t>回头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那被抛在后面的茂盛的榕树。我感到有点儿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Arial"/>
              </a:rPr>
              <a:t>留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楷体"/>
                <a:ea typeface="楷体"/>
              </a:rPr>
              <a:t>回头看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”，是没有看够，舍不得离开大榕树和那些鸟儿。因为这里的榕树之大、鸟儿之多是作者第一次见到的；榕树之富有生机和鸟儿之活泼是作者十分喜爱的。他深深被这美丽、奇妙的景色所吸引。“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楷体"/>
                <a:ea typeface="楷体"/>
              </a:rPr>
              <a:t>留恋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”，写出了作者当时不忍离开的真实心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Object 2"/>
          <p:cNvGraphicFramePr/>
          <p:nvPr/>
        </p:nvGraphicFramePr>
        <p:xfrm>
          <a:off x="396720" y="765000"/>
          <a:ext cx="820764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765000"/>
                    <a:ext cx="820764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612720" y="9079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那“鸟的天堂”的确是鸟的天堂啊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是对“鸟的天堂”的赞美。“的确”是确实、实实在在的意思，强调了“鸟的天堂”是名副其实的。这句话，还是对第二段中“‘鸟的天堂’里没有一只鸟”的一个照应。（第一个“鸟的天堂”加引号，因为这是引用朋友的说法。第二个“鸟的天堂”不加引号，因为是作者亲眼看到的确确实实的景象。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9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Object 2"/>
          <p:cNvGraphicFramePr/>
          <p:nvPr/>
        </p:nvGraphicFramePr>
        <p:xfrm>
          <a:off x="468360" y="765000"/>
          <a:ext cx="8209080" cy="554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765000"/>
                    <a:ext cx="8209080" cy="554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直线连接符 21"/>
          <p:cNvSpPr/>
          <p:nvPr/>
        </p:nvSpPr>
        <p:spPr>
          <a:xfrm flipV="1">
            <a:off x="539640" y="1341360"/>
            <a:ext cx="207324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539640" y="1413000"/>
            <a:ext cx="8137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课文按作者游览顺序，可分为四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第一段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第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1—4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自然段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：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讲傍晚作者和朋友们划船出去游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第二段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第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5—9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自然段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：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讲作者和朋友们第一次经过“鸟的天堂”时所看到的景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第三段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第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10—13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自然段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：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讲第二天早晨，作者和朋友们又一次经过“鸟的天堂”时看到的景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第四段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最后一自然段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：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写作者自己对“鸟的天堂”的留恋和赞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Object 2"/>
          <p:cNvGraphicFramePr/>
          <p:nvPr/>
        </p:nvGraphicFramePr>
        <p:xfrm>
          <a:off x="468360" y="765000"/>
          <a:ext cx="820908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765000"/>
                    <a:ext cx="820908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直线连接符 21"/>
          <p:cNvSpPr/>
          <p:nvPr/>
        </p:nvSpPr>
        <p:spPr>
          <a:xfrm flipV="1">
            <a:off x="466560" y="1844640"/>
            <a:ext cx="20736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684360" y="206064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课文记述了作者和他的朋友两次经过“鸟的天堂”时所看的不同景象，说明大榕树的美丽奇特，以及“鸟的天堂”名不虚传。赞美了美丽而有生机的南国风光，表达了作者热爱大自然、赞美祖国大好河山的思想感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Object 2"/>
          <p:cNvGraphicFramePr/>
          <p:nvPr/>
        </p:nvGraphicFramePr>
        <p:xfrm>
          <a:off x="468360" y="765000"/>
          <a:ext cx="820908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765000"/>
                    <a:ext cx="820908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直线连接符 21"/>
          <p:cNvSpPr/>
          <p:nvPr/>
        </p:nvSpPr>
        <p:spPr>
          <a:xfrm flipV="1">
            <a:off x="539640" y="1412640"/>
            <a:ext cx="2073240" cy="612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612720" y="155736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、作者采用以动态描写为主的方法，从鸟形、鸟声、鸟色、鸟类和鸟的动作等方面，运用多组排比短句进行描绘，和动静相结合的对比方式，展示了一种百鸟喧闹的景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、本文语言生动，有些句子感情洋溢，含义深刻，更加突出了“鸟的天堂”这一主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5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Object 2"/>
          <p:cNvGraphicFramePr/>
          <p:nvPr/>
        </p:nvGraphicFramePr>
        <p:xfrm>
          <a:off x="468360" y="765000"/>
          <a:ext cx="820908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765000"/>
                    <a:ext cx="820908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线连接符 21"/>
          <p:cNvSpPr/>
          <p:nvPr/>
        </p:nvSpPr>
        <p:spPr>
          <a:xfrm flipV="1">
            <a:off x="539640" y="1341360"/>
            <a:ext cx="207324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684360" y="162864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榕树：常绿乔木，树干分枝多，树冠大。叶子椭圆形或卵形，花黄色或淡红色。生长在热带和亚热带。多年生的榕树可长出黑色的根须直垂地下，当它扎入土中时，又成为树干。课文中作者把一株榕树看成许多株，指的就是这种情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Object 2"/>
          <p:cNvGraphicFramePr/>
          <p:nvPr/>
        </p:nvGraphicFramePr>
        <p:xfrm>
          <a:off x="468360" y="765000"/>
          <a:ext cx="820908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765000"/>
                    <a:ext cx="820908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直线连接符 21"/>
          <p:cNvSpPr/>
          <p:nvPr/>
        </p:nvSpPr>
        <p:spPr>
          <a:xfrm flipV="1">
            <a:off x="612720" y="1268280"/>
            <a:ext cx="207324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612720" y="1341360"/>
            <a:ext cx="813744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读拼音，写词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fèngxì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ànlàn  chàndòng  mào shè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)  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　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zuòcháo     shùshā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yìngjiē bù xiá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　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 　　　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jìng jì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   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755640" y="2421000"/>
            <a:ext cx="7129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缝隙      灿烂        颤动          茂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做巢           树梢         应接不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竞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Object 2"/>
          <p:cNvGraphicFramePr/>
          <p:nvPr/>
        </p:nvGraphicFramePr>
        <p:xfrm>
          <a:off x="468360" y="765000"/>
          <a:ext cx="8209080" cy="554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765000"/>
                    <a:ext cx="8209080" cy="554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Text Box 3"/>
          <p:cNvSpPr/>
          <p:nvPr/>
        </p:nvSpPr>
        <p:spPr>
          <a:xfrm>
            <a:off x="795600" y="981000"/>
            <a:ext cx="7335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、在括号里填上恰当的词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红霞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颜色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地看着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榕树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照耀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地移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428480" y="2060640"/>
            <a:ext cx="3893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美丽                      火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仔细                      茂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强烈                      缓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Object 2"/>
          <p:cNvGraphicFramePr/>
          <p:nvPr/>
        </p:nvGraphicFramePr>
        <p:xfrm>
          <a:off x="468360" y="765000"/>
          <a:ext cx="8209080" cy="554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765000"/>
                    <a:ext cx="8209080" cy="554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组合 10"/>
          <p:cNvGrpSpPr/>
          <p:nvPr/>
        </p:nvGrpSpPr>
        <p:grpSpPr>
          <a:xfrm>
            <a:off x="468360" y="765000"/>
            <a:ext cx="2255760" cy="571680"/>
            <a:chOff x="468360" y="765000"/>
            <a:chExt cx="2255760" cy="571680"/>
          </a:xfrm>
        </p:grpSpPr>
        <p:sp>
          <p:nvSpPr>
            <p:cNvPr id="51" name="直线连接符 21"/>
            <p:cNvSpPr/>
            <p:nvPr/>
          </p:nvSpPr>
          <p:spPr>
            <a:xfrm flipV="1">
              <a:off x="468360" y="765000"/>
              <a:ext cx="2255760" cy="5716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TextBox 5"/>
          <p:cNvSpPr/>
          <p:nvPr/>
        </p:nvSpPr>
        <p:spPr>
          <a:xfrm>
            <a:off x="1052640" y="2357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539640" y="1341360"/>
            <a:ext cx="813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巴金（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1904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2005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，原名李尧棠，字芾甘，中国四川成都人，祖籍浙江嘉兴，中国杰出现代文学家、出版家、翻译家，同时也被誉为是“五四”新文化运动以来最有影响力的作家之一，是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世纪中国杰出的文学大师、中国当代文坛的巨匠。妻子萧珊。主要作品有《死去的太阳》《新生》《砂丁》《索桥的故事》《萌芽》和著名的“激流三部曲”（《家》《春》《秋》），其中《家》是巴金的代表作，也是我国现代文学史上最卓越的作品之一。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2005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日，巴金在上海华东医院逝世，享年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101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岁，被人们誉为“世纪老人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Object 2"/>
          <p:cNvGraphicFramePr/>
          <p:nvPr/>
        </p:nvGraphicFramePr>
        <p:xfrm>
          <a:off x="468360" y="765000"/>
          <a:ext cx="820908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765000"/>
                    <a:ext cx="820908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612720" y="836640"/>
            <a:ext cx="799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读课文，填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作者第一次去看“鸟的天堂”的时间是在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他没看见一只鸟，是因为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；作者第二次去看“鸟的天堂”的时候是在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所以他看见了许多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1116000" y="1917720"/>
            <a:ext cx="496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吃过晚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鸟已经在树上栖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第二天早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Object 2"/>
          <p:cNvGraphicFramePr/>
          <p:nvPr/>
        </p:nvGraphicFramePr>
        <p:xfrm>
          <a:off x="468360" y="907920"/>
          <a:ext cx="8209080" cy="554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907920"/>
                    <a:ext cx="8209080" cy="554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612720" y="1125360"/>
            <a:ext cx="792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【句式仿写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【原句】我们陆续跳上一只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"/>
              </a:rPr>
              <a:t>（仿句）代表们陆续进入会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【原句】榕树正在茂盛的时期，好像把它的全部生命力展示给我们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"/>
              </a:rPr>
              <a:t>（仿句）美丽的丹顶鹤抬头站在水边，好像一位骄傲的公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Object 2"/>
          <p:cNvGraphicFramePr/>
          <p:nvPr/>
        </p:nvGraphicFramePr>
        <p:xfrm>
          <a:off x="468360" y="836640"/>
          <a:ext cx="8209080" cy="55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836640"/>
                    <a:ext cx="820908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684360" y="981000"/>
            <a:ext cx="7993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备选的量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些词大都是从名词或动词借来作量词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中，挑选最恰当的一个，不要重复，将序号填在横线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备选词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抹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E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汪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F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泓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G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缕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H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轮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J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瓣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K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明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新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情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痴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5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温情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6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心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7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清溪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8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清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1908720" y="3645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5077800" y="36450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1909080" y="422100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5005080" y="4221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1908720" y="479736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5005080" y="4797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J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1980720" y="537372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5077440" y="5445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468360" y="765000"/>
          <a:ext cx="820908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765000"/>
                    <a:ext cx="820908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线连接符 21"/>
          <p:cNvSpPr/>
          <p:nvPr/>
        </p:nvSpPr>
        <p:spPr>
          <a:xfrm flipV="1">
            <a:off x="612720" y="1341360"/>
            <a:ext cx="207324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684360" y="2276640"/>
            <a:ext cx="792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天堂　　   南国              不可计数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展示　       留恋              繁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应接不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1013040" y="1989000"/>
            <a:ext cx="6171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ｔｉ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ā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ｎｔ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á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ｎｇ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)(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ｎ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á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ｎｇｕ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ó)(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ｂ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ù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ｋ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ě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ｊ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ì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ｓｈ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ｚｈ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ǎ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ｎｓｈ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ì)(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ｌｉ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ú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ｌｉ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à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ｎ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)(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ｆ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á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ｎｍ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à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ｏ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ｙ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ì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ｎｇ　ｊｉ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ē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　ｂ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ù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　ｘｉ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3564000" y="1052640"/>
            <a:ext cx="216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读准字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2"/>
          <p:cNvGraphicFramePr/>
          <p:nvPr/>
        </p:nvGraphicFramePr>
        <p:xfrm>
          <a:off x="468360" y="765000"/>
          <a:ext cx="820908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765000"/>
                    <a:ext cx="820908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组合 5"/>
          <p:cNvGrpSpPr/>
          <p:nvPr/>
        </p:nvGrpSpPr>
        <p:grpSpPr>
          <a:xfrm>
            <a:off x="612720" y="764640"/>
            <a:ext cx="2073240" cy="662040"/>
            <a:chOff x="612720" y="764640"/>
            <a:chExt cx="2073240" cy="662040"/>
          </a:xfrm>
        </p:grpSpPr>
        <p:sp>
          <p:nvSpPr>
            <p:cNvPr id="65" name="直线连接符 21"/>
            <p:cNvSpPr/>
            <p:nvPr/>
          </p:nvSpPr>
          <p:spPr>
            <a:xfrm flipV="1">
              <a:off x="612720" y="764640"/>
              <a:ext cx="2073240" cy="66204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Text Box 8"/>
          <p:cNvSpPr/>
          <p:nvPr/>
        </p:nvSpPr>
        <p:spPr>
          <a:xfrm>
            <a:off x="539640" y="162864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一、词语积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．陆续：</a:t>
            </a: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先先后后、时断时续的意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．展示：</a:t>
            </a: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清楚地摆出来，明显地表现出来。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．不禁：</a:t>
            </a: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抑制不住，禁不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．南国：</a:t>
            </a: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指我国的南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．留恋：</a:t>
            </a: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不忍舍弃或离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2"/>
          <p:cNvGraphicFramePr/>
          <p:nvPr/>
        </p:nvGraphicFramePr>
        <p:xfrm>
          <a:off x="468360" y="765000"/>
          <a:ext cx="820908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765000"/>
                    <a:ext cx="820908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539640" y="1052640"/>
            <a:ext cx="813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．应接不暇：</a:t>
            </a: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形容人或事物太多，来不及接待和应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．灿烂：</a:t>
            </a: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光彩鲜明耀眼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．茂盛：</a:t>
            </a: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（植物）生长得多而茁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．缝隙：</a:t>
            </a: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裂开或自然露出的狭长的空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．颤动：</a:t>
            </a: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短促而频繁地振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．逼近：</a:t>
            </a: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靠近、接近的意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Object 2"/>
          <p:cNvGraphicFramePr/>
          <p:nvPr/>
        </p:nvGraphicFramePr>
        <p:xfrm>
          <a:off x="468360" y="765000"/>
          <a:ext cx="8209080" cy="554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765000"/>
                    <a:ext cx="8209080" cy="554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468360" y="765000"/>
            <a:ext cx="820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二、近反义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近义词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展示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--</a:t>
            </a: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展现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陆续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--</a:t>
            </a: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连续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静寂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--</a:t>
            </a: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寂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茂盛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--</a:t>
            </a: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茂密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颤动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--</a:t>
            </a: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抖动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灿烂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--</a:t>
            </a: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绚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逼近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--</a:t>
            </a: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接近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片刻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--</a:t>
            </a: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一会儿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留恋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--</a:t>
            </a: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依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不可计数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--</a:t>
            </a: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不计其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反义词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天堂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--</a:t>
            </a: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地狱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  寂静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--</a:t>
            </a: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喧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2"/>
          <p:cNvGraphicFramePr/>
          <p:nvPr/>
        </p:nvGraphicFramePr>
        <p:xfrm>
          <a:off x="468360" y="765000"/>
          <a:ext cx="820908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765000"/>
                    <a:ext cx="820908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线连接符 21"/>
          <p:cNvSpPr/>
          <p:nvPr/>
        </p:nvSpPr>
        <p:spPr>
          <a:xfrm flipV="1">
            <a:off x="539640" y="1412640"/>
            <a:ext cx="2073240" cy="612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2987640" y="836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初读课文  整体感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684360" y="1486080"/>
            <a:ext cx="74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课文主要讲了什么事情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612720" y="206064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---</a:t>
            </a: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主要记叙了作者（巴金）和他的朋友们两次游历“鸟的天堂”时所见到的美丽的大榕树和群鸟欢闹的奇异景象，表达了作者对大自然景色的热爱和赞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539640" y="4365720"/>
            <a:ext cx="755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“鸟的天堂”指的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822240" y="5168880"/>
            <a:ext cx="547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"/>
              </a:rPr>
              <a:t>一棵住满了鸟的大榕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Object 2"/>
          <p:cNvGraphicFramePr/>
          <p:nvPr/>
        </p:nvGraphicFramePr>
        <p:xfrm>
          <a:off x="468360" y="765000"/>
          <a:ext cx="820908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765000"/>
                    <a:ext cx="820908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539640" y="836640"/>
            <a:ext cx="785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作者去了几次经过鸟的天堂，看到的景象有什么不同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684360" y="2060640"/>
            <a:ext cx="741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"/>
              </a:rPr>
              <a:t>前后共两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"/>
              </a:rPr>
              <a:t>第一次：只看到大榕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"/>
              </a:rPr>
              <a:t>第二次：看到许多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612720" y="386064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鸟的天堂有什么特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539640" y="4724280"/>
            <a:ext cx="80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"/>
              </a:rPr>
              <a:t>榕树很大、很密，白天热闹，晚上安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Object 2"/>
          <p:cNvGraphicFramePr/>
          <p:nvPr/>
        </p:nvGraphicFramePr>
        <p:xfrm>
          <a:off x="468360" y="765000"/>
          <a:ext cx="820908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765000"/>
                    <a:ext cx="820908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2629080" y="765000"/>
            <a:ext cx="30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赏析重要句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612720" y="148608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那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翠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颜色，明亮地照耀着我们的眼睛，似乎每一片绿叶上都有一个新的生命在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颤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这美丽的南国的树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539640" y="29973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翠绿”，青绿色；“颤动”，指在微风吹动下树叶一闪一闪的样子。意思是榕树的颜色绿得发亮，绿得耀眼，充满生命的活力。后一句赞美了生长茂盛的大榕树，充满了作者的喜爱之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8T00:50:53Z</dcterms:created>
  <dc:creator>Administrator</dc:creator>
  <dc:description/>
  <cp:keywords/>
  <dc:language>en-US</dc:language>
  <cp:lastModifiedBy>Administrator</cp:lastModifiedBy>
  <dcterms:modified xsi:type="dcterms:W3CDTF">2017-03-08T03:40:01Z</dcterms:modified>
  <cp:revision>9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