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117-A615-4DC9-87AB-7604F339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B435-9636-4000-90A7-FFBBBA36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F44-B1C0-40A9-BFB5-14691912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0E2-2D41-4DD9-B9A1-EE5E50EB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CC8-9350-40CC-82A2-F6212931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DE9-9F0B-4148-9840-EF5276B5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073-159B-4E6E-BE9D-C13428C9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E8C-32E0-49AA-B0C7-3C874F5B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8E1-ABB6-443F-8B03-C969A58B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CFF8-B02D-4F4B-BA2F-029EFC34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4AC-8E20-46AD-B2ED-4495C393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677-BA58-4FBE-BD57-D97A7164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56C7-1EFE-46D8-A8FD-35F2843D5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2714400"/>
            <a:ext cx="1357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寒假里的一件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t10.baidu.com/it/u=527409109,2687302388&amp;fm=21&amp;gp=0.jpg"/>
          <p:cNvPicPr/>
          <p:nvPr/>
        </p:nvPicPr>
        <p:blipFill>
          <a:blip r:embed="rId1"/>
          <a:stretch/>
        </p:blipFill>
        <p:spPr>
          <a:xfrm>
            <a:off x="1643040" y="0"/>
            <a:ext cx="750096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250920" y="113364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一）、确定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事：有趣的，高兴的，难忘的，感动的，最精彩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二）具体，突出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周围的环境：写出特点，渲染气氛，表达感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注意人物语言，神态，动作，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写出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美好的春节时光，你都做了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购年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贴春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包饺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尝美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吃元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看烟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放鞭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守岁，看春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拜年，收压岁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t01758409a757d4bee8"/>
          <p:cNvPicPr/>
          <p:nvPr/>
        </p:nvPicPr>
        <p:blipFill>
          <a:blip r:embed="rId1"/>
          <a:stretch/>
        </p:blipFill>
        <p:spPr>
          <a:xfrm>
            <a:off x="3419640" y="1341360"/>
            <a:ext cx="5182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寒假里的一件事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审 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）、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题材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记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99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）、对象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己亲身经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99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）、时间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寒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9999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）、数量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件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9999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）、中心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快乐、精彩、感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要把事情写清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其实就把事情的起因、经过、结果有详有略地写清楚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起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经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指导命题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命题一定要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过新年        春节印象  春节趣事   春节遐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春节见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家乡的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鞭炮不再让我痴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难忘那夜的烟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不一样的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春联里的学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噼里啪啦过春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我的压岁钱我做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包饺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详写重点内容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不管是写人还是写事的文章，在重点部分你都要抓好人物的动作、神态、语言和内心活动描写，多用好词，多运用修辞手法，如比喻、拟人等。比如写放鞭炮，应把怎样放鞭炮，自己当时的动作、神态和内心活动详细写出来。如果是写看烟花，应该抓住什么来写呢？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烟花的形状、颜色；观看的人群的动作、神态、语言；自己的内心活动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79280" y="189000"/>
            <a:ext cx="8675640" cy="25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包 饺 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大年初一的早上，妈妈说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包饺子啦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高兴得</a:t>
            </a:r>
            <a:r>
              <a:rPr b="1" lang="zh-CN" sz="2000" spc="-1" strike="noStrike">
                <a:solidFill>
                  <a:srgbClr val="cc0066"/>
                </a:solidFill>
                <a:latin typeface="黑体"/>
                <a:ea typeface="黑体"/>
              </a:rPr>
              <a:t>手舞足蹈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说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好啊，好啊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cc0066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cc0066"/>
                </a:solidFill>
                <a:latin typeface="黑体"/>
                <a:ea typeface="黑体"/>
              </a:rPr>
              <a:t>只见妈妈先拿起一张圆圆的饺子皮，用筷子把肉馅放在饺子皮中间，然后轻轻捏了几下，一个漂亮的</a:t>
            </a:r>
            <a:r>
              <a:rPr b="1" lang="zh-CN" sz="2000" spc="-1" strike="noStrike">
                <a:solidFill>
                  <a:srgbClr val="cc0066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cc0066"/>
                </a:solidFill>
                <a:latin typeface="黑体"/>
                <a:ea typeface="黑体"/>
              </a:rPr>
              <a:t>小胖子</a:t>
            </a:r>
            <a:r>
              <a:rPr b="1" lang="zh-CN" sz="2000" spc="-1" strike="noStrike">
                <a:solidFill>
                  <a:srgbClr val="cc0066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cc0066"/>
                </a:solidFill>
                <a:latin typeface="黑体"/>
                <a:ea typeface="黑体"/>
              </a:rPr>
              <a:t>立刻闪亮登场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看到包饺子挺有趣的，便说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妈妈，我可以和你一起来包饺子吗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妈妈笑着说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好哇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妈妈</a:t>
            </a:r>
            <a:r>
              <a:rPr b="1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</a:rPr>
              <a:t>一边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示范，</a:t>
            </a:r>
            <a:r>
              <a:rPr b="1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</a:rPr>
              <a:t>一边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说：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“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包的时候不要放那么多馅，如果放多了，就会露出来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……”</a:t>
            </a:r>
            <a:r>
              <a:rPr b="1" lang="zh-CN" sz="2000" spc="-1" strike="noStrike">
                <a:solidFill>
                  <a:srgbClr val="006600"/>
                </a:solidFill>
                <a:latin typeface="黑体"/>
                <a:ea typeface="黑体"/>
              </a:rPr>
              <a:t>我不耐烦地说：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6600"/>
                </a:solidFill>
                <a:latin typeface="黑体"/>
                <a:ea typeface="黑体"/>
              </a:rPr>
              <a:t>不用说了，我这么聪明的人，什么事会难倒我</a:t>
            </a:r>
            <a:r>
              <a:rPr b="1" lang="en-US" sz="2000" spc="-1" strike="noStrike">
                <a:solidFill>
                  <a:srgbClr val="006600"/>
                </a:solidFill>
                <a:latin typeface="黑体"/>
                <a:ea typeface="黑体"/>
              </a:rPr>
              <a:t>?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006600"/>
                </a:solidFill>
                <a:latin typeface="黑体"/>
                <a:ea typeface="黑体"/>
              </a:rPr>
              <a:t>于是我就拿起一张饺子皮，拿着筷子向饺子皮中间放了馅，然后捏了几下，不好，左边的馅露出来了，当我去捏左边的时候，右边的馅又露了出来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弄得我</a:t>
            </a:r>
            <a:r>
              <a:rPr b="1" lang="zh-CN" sz="2000" spc="-1" strike="noStrike">
                <a:solidFill>
                  <a:srgbClr val="cc0066"/>
                </a:solidFill>
                <a:latin typeface="黑体"/>
                <a:ea typeface="黑体"/>
              </a:rPr>
              <a:t>手忙脚乱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气得我</a:t>
            </a:r>
            <a:r>
              <a:rPr b="1" lang="zh-CN" sz="2000" spc="-1" strike="noStrike">
                <a:solidFill>
                  <a:srgbClr val="cc0066"/>
                </a:solidFill>
                <a:latin typeface="黑体"/>
                <a:ea typeface="黑体"/>
              </a:rPr>
              <a:t>火冒三丈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我连忙又拿一张饺子皮把它糊上，这会儿，我手里的已经不是饺子，而是一个汤圆了。我用乞求的目光看着妈妈，妈妈看了我打着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补丁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饺子，笑得</a:t>
            </a:r>
            <a:r>
              <a:rPr b="1" lang="zh-CN" sz="2000" spc="-1" strike="noStrike">
                <a:solidFill>
                  <a:srgbClr val="cc0066"/>
                </a:solidFill>
                <a:latin typeface="黑体"/>
                <a:ea typeface="黑体"/>
              </a:rPr>
              <a:t>合不拢嘴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说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包饺子的技术还不过关，包饺子不能用蛮劲，要用巧劲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听了妈妈的话，我非常惭愧，决定再包一次。我按照妈妈说的话，拿起一张饺子皮，往中间放少一点馅，然后两边对齐，用手从左往右轻轻一捏，嘿，包好了！看着自己包的饺子，我</a:t>
            </a:r>
            <a:r>
              <a:rPr b="1" lang="zh-CN" sz="2000" spc="-1" strike="noStrike">
                <a:solidFill>
                  <a:srgbClr val="cc0066"/>
                </a:solidFill>
                <a:latin typeface="黑体"/>
                <a:ea typeface="黑体"/>
              </a:rPr>
              <a:t>欣喜若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虽然我包的饺子没有妈妈包的漂亮，但吃到嘴里，我觉得特别香，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因为这是劳动的滋味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发挥个性，自由作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拟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开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间两段写重点内容，要具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结尾  照应开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03:37:26Z</dcterms:created>
  <dc:creator>微软用户</dc:creator>
  <dc:description/>
  <dc:language>en-US</dc:language>
  <cp:lastModifiedBy>Administrator</cp:lastModifiedBy>
  <dcterms:modified xsi:type="dcterms:W3CDTF">2017-03-12T13:51:36Z</dcterms:modified>
  <cp:revision>57</cp:revision>
  <dc:subject/>
  <dc:title>那一次，我真的很棒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</Properties>
</file>