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4F25-CBDE-41A6-9577-BCBA35AC5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9CE6-84E3-4B15-AA79-4D811929C00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B3061-9793-45C3-99D4-8F6FFF6B60B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BEF5DD-9CDE-4C69-A65E-3ED0076559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062153-B6A8-4E21-8EB4-569193CF3E8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F8480-3A3F-42B2-A61E-BD2A2B19D8A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5C565-2828-451F-8B19-5BFF0CE84FB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7A909-024A-4F07-9DEC-7E02B9CA90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8BC221-1C74-4B71-A2EC-43E52D667F5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DCBF20-7C84-4E3A-9F7C-ECCF127D50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F178FE-A835-49A5-B275-FCC5006F876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9FC37-852E-4408-8EE2-E88A0584E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FDEE-437E-4123-9F50-453A81027D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271B7-7F19-43E8-B3CE-629D07354C9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2971E-2E5A-4F5B-A08B-1E65449651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29501-DD0C-4623-AAD6-5C436FF2D4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B236E-F893-4EB0-B30C-E30625E6C2B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B34FC-1E47-470D-BCA5-4E809A725B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EBC1E7-5E96-43E6-A932-DDC6056607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19152-2E2A-4008-BA49-FAC4325F919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236A6-254F-4CEE-8A7E-CD8D190D96C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4BE101-26CD-4010-9091-C3E54CCF9C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A1C82-2829-4555-869F-84A25B2BD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9C02-C8E6-4B3D-BEF2-C71CBD9DC0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67527-7554-43D9-A471-51958003F3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DE04-A6EB-441C-BE4A-EBF53E8886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F69E-AB75-451E-B189-4A61018F67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C89E6-33D2-4F00-818E-865F8489232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B4B19-2A84-4FA3-93C2-5B3F388BF24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B9DD2-D614-4559-8420-64AADF8065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2724-4CCF-46BA-8E3D-291CAA91A6F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E0460-0D61-4CBC-8296-3857828E99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E78A-A8AA-41CA-9BDE-727B3D8B22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536A-D5FD-4A9B-B772-7E482884F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A224D-8414-4D38-AE4A-930007B1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13546-729A-4A2D-B052-D7BBC8D943F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2DF45-58D5-4C03-A5D7-23CE28F183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E124-7385-420D-8874-11AEA8D1E46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AE183-3475-435B-A97B-658F7F4422E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9DB0A-EFD4-40A3-AC79-BB64BFEF437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244CEA-DFA0-4C46-9776-07CB63E224F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A38787-EFEC-4B62-AA48-BCA4B90007C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9A03A-FE26-4CDD-A776-682D790455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943A3-2095-4A4C-A7EE-C2E52D17EFB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EFCE71-DEEE-45DC-98EE-393DD42ED5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AF75C-648A-435A-8AB7-6430C63F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56CEED-5426-45FB-AFFF-325FF2FE6C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74600A-4EA2-4BBE-A3E8-D7CFC36E7A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2012F8-C91F-4F31-B71C-2C47698F69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9C46C-2C37-4C38-A247-981C519FE13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3238A-B9C1-488E-9CBA-E4A6EB6B59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27975-A5C4-4E63-9797-D9AE9EEDA6D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D9C44-53C6-4BF8-A187-E2CDF0568BD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83540-4952-4946-BD26-F9469225A5D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7A64D-D184-40DE-9A1D-95B178574C5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1F5BB-6C0A-4207-9C18-8A99669BE6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F6760-9635-46DB-8941-AAC22A6D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7A5A5-BF10-45B3-8A2F-821C913E9F3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E0CC2-2FD0-4538-ACC2-3491A3018FD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7FF67-D647-436A-A138-1111FA16E9D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5234F-2555-4221-A0E5-8EDF67F793F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EAC94-7CEC-4064-8F40-6379018062F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E6974-D2A7-497B-B35B-541A812195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C9F223-70AC-449F-986B-55F0660D47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B5A84-D5AA-424F-B11E-BE639ACC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B98425-F6EE-49D2-9A54-A84D43A9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38853-DF35-493B-9796-52A66151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07D83-5CA1-46F0-96FE-0E359905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AC25F-1BBA-4CF0-93B9-227DD8C6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10F08-C4B8-4890-8F71-9A63207B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CEE4B-D867-4854-8237-CCEB2439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32AB5-0432-4764-BE34-A1D048F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D7373-300E-4130-BE1B-AB049D43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B20423-2FEF-45D3-9067-3C7B3F84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86EC6-7D65-4B82-BF26-00DE7192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54CFE-AF01-4208-9D12-A2AC1F0A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A7074-8E3C-4DCB-BED5-5A59A6AC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78009-55EA-4D11-A78F-D5687302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12067-124A-4B38-B95D-E307E11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C270F-91DF-4D96-A839-6F6C4377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77C5A-18B2-4F5E-9769-AC321A57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603C4-519D-46DF-ADC0-5F6ACDB4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8BA1D-CB3E-4FA3-AA99-30C7E76A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29AA9-B1DD-44F1-A4DE-BABC531E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9A14DC-2462-4EA6-A74D-B5ACD5D2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7EC039-6AC8-4629-82C3-7FEEE29A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07BF9-63D1-4053-9691-294B569C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37444-9B28-4CDF-AA7A-1BB95FC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8FB87C-656D-4963-A52D-F59F6453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838D5-E96A-47B7-86B4-974DF4D9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DA78E-9E8E-482F-99C9-059F610B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FD9ED-8F52-4220-B679-68BB473B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1A4CD9-069B-476C-A845-E9F43268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DCC7D-16BA-4FD7-AA5B-F930F910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06A39-CEB2-47E6-843C-0E010A3E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80F372-AA41-429F-B9C1-FB9E3048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45F349-BFB0-4A67-9AEC-4373DA18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EB520F-3635-4A09-8CC5-B797F65A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E85B8-B850-4217-AFBF-4B82C03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CB599-5AF3-4427-AAAF-C4B4CFD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40EAA-CB76-4135-9B8F-1FD4B69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2146BD-25AC-4E2E-9F86-87B21BDA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F386DD-84FF-430A-A8A8-5B171799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B1984-293B-4404-8960-D61B6F77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91FAB6-D7AF-41BF-8165-6D0B911C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8F057-0750-4146-AD8E-160B627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42787F-184C-4F8A-B39E-6BA83ADD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083EFE-B8D0-42BB-B228-97696665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B3020-4066-4CC7-9C97-B1CC47B4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EE69A3-4C6B-4890-8F74-40B4B607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2EBBCB-7CC2-4E9D-BE9D-26EADF82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DB3B-70D2-4163-8837-AA38669E7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DDB6F-3410-42D1-9D3F-BF47ABA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F9890-80E5-40F6-BFCE-BFC0EC6B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FD9E9-A911-4644-951B-38B8593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FFDBA3-87EE-4595-8855-EA86EB94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42E9DA-3A03-4C07-A3B0-9DAF4B0C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F4094-E90E-495D-9B39-8294B47F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5246C7-DA77-4E20-9F0A-DC38D56C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822EB9-24C5-457D-80D0-21F02C29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05FD9-5E5E-4B32-B748-C46116D7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BFD22-463A-4908-9C17-71455B8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5AEFA3-6CC6-4966-BC48-E25D2294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088DA-DE01-4FD9-9FC1-A887B499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6754C8-947E-455A-A9F1-32C96EF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706D3D-40F8-4774-8CA3-6DF6083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807716-8B60-4C71-A0E8-3B5D98F2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58144C-B4D0-4980-B54F-3F58C66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DD5B28-344E-46F7-97F7-BADDF0F5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D0A246-1DE7-44B8-8894-DFC50337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271F07-AA03-4CD0-8E04-81A62874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B77234-BD29-42B5-9031-96108F5C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4817A7-57A0-4C30-BFDF-7B5CA12A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9EC0DE-4314-48F0-8B2B-5B933B0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258BB-C5BB-44F4-B026-7E39CEA1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234B3-6B77-4B07-9BCF-A97981FA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9FA597-C38F-4270-AA1F-261250A9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6B658A-6028-4ED1-B1A4-B918BFBA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93BF51-4346-4A95-9A8C-6F15B22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F7AB22-2783-4790-B8AA-54642B4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F03F32-3352-449A-BDF4-FE5D7810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25CD28-7CC6-45BB-B4DE-074A000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0020B0-8501-434B-A0DB-3A8503F0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CD6628-E0D1-4BB6-8093-88666482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0BF448-D1E7-436D-A68E-6F15EBEA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F53D3-2101-4CE4-B58B-116AE28F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34353B-0C7E-4A8E-B41B-E00F4396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E6EB53-6FCA-48F8-A973-CB509C3E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497B0F-12F3-4CE7-8599-099BA404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20F9E9-1C53-4825-B6FB-E3D9D35B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579E50-0359-4ECD-ACBB-F1021CF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192F54-C38D-425B-A20A-9FC9E2BF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E9D20A-8306-4B2F-A35B-EE75E11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535439-148A-48AF-A419-3EF6361D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913A6D-D1E9-4A2E-AF19-26F9369E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123B7A-A36B-4A7D-8F52-79FBCD15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DC595-DE35-4254-9433-8F9621B0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89BEC6-1193-4993-AC0D-5275C904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73493-F46D-46F1-83D7-2914ACC8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7466E9-3B7D-4173-9562-9ADD6926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80F270-5F09-48DE-B49F-50DBDD91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26858A-C4DC-443D-9CD3-D6DD1DB0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2F11F2-6B0E-4312-9E1B-20928E0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F6340C-17F0-428B-B3F6-43A85C75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4E087-37C3-49CE-ACEA-0AAB1C2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854EA1-C66D-4893-AEAD-6081815F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6D1577-B14D-4160-9FF7-F68ED903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45CC3B-6790-476C-BDD2-73079EC8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0DC47D-599E-4564-9F8F-160B8D4E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1B9D4C-6938-4F86-8867-59F61C91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FD7909-EE1A-4F3B-8577-D365ECF6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7C49D0-E16C-40A1-95DD-7D026141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DE86D3-8835-41C9-ADE3-C4CC00E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36FACC-62B1-429D-828F-B27E5BA0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5EC265-FEFC-4B35-8B14-92E31166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FF3750-ADED-432C-9F61-BD3CCA4F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27A38D-0F1D-481F-BF01-EF79B6CB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D92211-1A7F-4EAA-83A4-3E518C4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982B07-2254-478F-97DF-70827146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6B723C-14FB-43BF-B1F4-9C28E24F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8FA9543-AD63-473E-8F7D-E94E5C91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B58A60-1763-466F-9446-50E6844B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641CDC-C7D9-4DF4-9CD7-94B1968B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AE05B6-C7EE-485E-A816-1B41E88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B0DDB9-6AB1-4B8D-8460-07234388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D493A5-B9ED-425F-9E2B-C52EBA2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4353EC-7CEF-47A0-801B-8876ED1D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05ABD1-94EB-47FE-8A99-21AB019C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3B4C58-B031-4AD9-9B40-E656963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961870-C3CF-4278-B788-28190060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F790B3-77FC-446E-BA82-9FA53567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13BBC0-0166-4102-AF0E-8AB38D2C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490CA3-A962-4570-8824-3DA473A3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72338D-DCB7-4E56-99CA-8396063F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3F55C6C-F63D-45AE-9E29-F38E7590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74F6FFE-91CC-4E5E-94B1-65AE26C3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5686EC-36A2-4DBA-9F4A-9706097F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C0EBD8-2E34-434F-B70C-2FA8105C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47F82E6-9944-4F49-A2A5-C47F806F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983DE2-011C-4E9A-9FA8-EB82259F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156CAF-3384-4027-A5D6-D6C0BE9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57816A-AA63-4273-BDD6-CE028FAC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7CC859-0477-4F96-BDB9-D8D47EFB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E0C177-3A88-4B68-B15D-D0F86F11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6D2895-1AEE-4B3C-AF69-D1C04727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C6A810-F53D-4133-8D69-E0050A23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824D-C841-44B1-9BEA-3D9C076EF3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5C339-627D-4751-8A99-12F2B64926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97501-09F3-44F2-A830-9C48E8C498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65B0E-61D6-42BA-B184-3ECEB2BAA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C983E-2843-45BE-8D33-3505F48C23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D034F-7C24-41AA-A092-E1707896E4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517D-1BCB-4E2B-BD12-C19C0ABE0A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C8EE3-81F8-46C5-A71D-62322ED9DA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C0835-817A-4C5B-814A-E5BB3ACB23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141C2-C7E5-45A6-9219-F59FD6B7D4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E257C-83F2-47D8-82A0-29AD0B31FE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EC556-BE42-4228-A7BD-261D5C3A0D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988BD-FCBD-4B47-977A-1A65DCC5A0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0B016-93C0-4404-8A31-9E6B7411C32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8087-6E6D-47E0-9F51-2F659818F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75E7-864F-4F27-A1E9-1A8DDD6D64E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89C1-968D-424F-9D35-36DE4847E44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E94C-632C-42C0-812B-C65043268ED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0086-9689-4AA5-A5C3-12A0C93F7F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B03E-A1A8-4CF1-8483-D04EBD30C51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50A9-5F01-4179-B099-085C470C45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3DB0-672A-455A-995F-316B2A669D2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79D0-9DA0-4AFB-A049-73D4814494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8FF6-3DEA-4B20-9BAD-B79A4B182AC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044-57DB-475E-92B4-7FAB616701E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4D3B-EAE1-44B4-86FE-E67ED7828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77ED-66FA-4048-969C-C0BE78DD4CB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F1F-4189-46B8-A39B-27961FA4626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9AC51-2FC3-4A1A-A737-A570AE86A69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B7EDE2-75AB-4016-8306-890B586A29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1B6FF7-48FD-4A88-ABC4-F22DDDC620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CACF7-68D3-4A2C-B2CD-C80D362673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3D867-07A5-460A-AFC9-9F44BCC0522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F1FF6A-3E0E-4937-8A2A-B13E15EA83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A0794-A376-4A08-B636-2EDB00ED4F4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8CDB5-C868-4239-8D94-06531F4645B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1FB877-CC02-42AB-B049-3AEADDB3E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773F-BB64-4F94-9588-114263AD49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B6F1C-7E3D-4B4C-AFCA-4C2637FCBC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84A8E-90D4-4560-8B31-434FBAA593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7CD4B-A5D7-40E6-9181-274B5843187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6AAAA-2961-471C-9D7E-9A2F4D38168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B26D5-DD52-4C66-A054-BDD9A5B14B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011FD-4A21-4D44-8A48-20E5BDF639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90EB3-97B8-4282-B94F-57F16E2D11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F23B5-2319-447E-9843-0FEE7E88E6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A6A2D-B031-41C1-9A1E-C9D59F38BCB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B6EFF-F6AD-411E-AE71-6FB5015DA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99F1-1E23-4C32-8B9B-FD91684BC7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B02F59-CBC7-41DA-9A2A-D8309F6A70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40306-A093-4B41-8AC0-B97A2F859E5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7E508-6E8E-4523-BDD7-F55C14B4F9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909A3-BA62-406C-9359-6C6CC9C9B4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EB297-2945-4344-B349-392655B8E3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1B02-33C9-4B23-914C-903F7192C7F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5118-873A-4B3A-B765-8B8B1F68A41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36CF-15C3-47C9-9501-9158B80DCA1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7691-D432-4DE7-91FB-1C30685A3A9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B13B-5A83-4C73-8481-C957BAD91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8137-4F74-414F-862D-DF8CAF24D1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DD3E-9223-4178-84BA-9301FFBF9DE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72AA-BD62-486E-858A-4F9B6F2C70B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49CC-9901-4BA7-BE34-F7522B0366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0B41-4D9A-411E-BAE1-6E9C727D13A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8F8D-97BC-498F-BBB1-015CFE1977C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E3542-AB9B-4B9A-BCC1-8F49CC05519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18C39-C299-474D-8BA8-42AAAF55CE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CB47C-FC68-426C-8BA2-C887025E49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2D881-2D25-4728-B389-69282BBB03B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E7E7A6-E1E5-44E0-A19F-B5DBD9948F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5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0238C2B-9553-48AB-B0CA-27712D33257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6F032E9-0E5E-4CB3-932D-8577097443F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2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6C7244E-F0E1-4AFE-A85D-20FF13EF09D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3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56E075E-3AD1-4A99-9B03-CFA0D9127FF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14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8F6D8D3-015D-47B2-BE8A-D62344E6163F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22A6-C4FC-4642-8BD2-DE3BA0BC6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06DD-D460-4DDF-8925-433ED59445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82F5-A751-4D5D-9450-EC7BDB33B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F1B3-2BB6-4808-9BDD-4878A5081E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12CC-C8C2-4930-A5E0-2C301F49C2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D790-4F49-4061-B925-85657C1214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BD22-E389-4DA8-8A70-4DE3E09354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BE31-4D2C-490A-9B82-8515AFE65C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BE4-F456-4BD8-958B-44E38F884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768-2464-48A7-B172-F8C65551DE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199-6327-4663-B40C-B4F8ED673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0DA5-B8E1-4272-9D2A-D5E93F86DE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5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3B0318A-7625-4C1D-8A61-67CA8F8B94E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6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529DE0D-D101-44FE-8C15-BDE438020EF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7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2B8CED-2E01-44B7-AA25-6A76ED11110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8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1347A92-C7BE-421D-8E5F-149C7073C7A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9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A219391-F914-4035-9E2A-7BE876A7B51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7d00"/>
            </a:gs>
            <a:gs pos="100000">
              <a:srgbClr val="ffd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A03C201-743C-46C6-AB66-73AF1A93B46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18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城堡上的大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3" descr="5534961_145614036891_2"/>
          <p:cNvPicPr/>
          <p:nvPr/>
        </p:nvPicPr>
        <p:blipFill>
          <a:blip r:embed="rId1"/>
          <a:srcRect l="0" t="0" r="396" b="5459"/>
          <a:stretch/>
        </p:blipFill>
        <p:spPr>
          <a:xfrm>
            <a:off x="1476360" y="1679400"/>
            <a:ext cx="638172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81c06"/>
                </a:solidFill>
                <a:latin typeface="Arial"/>
                <a:ea typeface="隶书"/>
              </a:rPr>
              <a:t>我会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3360" y="1628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城堡     轰隆隆     地震      聋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召来     大臣       面授      糖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降落伞   铅笔       橡皮      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4"/>
          <p:cNvSpPr/>
          <p:nvPr/>
        </p:nvSpPr>
        <p:spPr>
          <a:xfrm>
            <a:off x="539640" y="1773360"/>
            <a:ext cx="86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bǎo                  lōng lōng            zhèn           l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zhào                chén                 shòu            t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Jiàng            qiān                  xiàng                f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2"/>
          <p:cNvSpPr/>
          <p:nvPr/>
        </p:nvSpPr>
        <p:spPr>
          <a:xfrm>
            <a:off x="0" y="83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讲述故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3"/>
          <p:cNvSpPr/>
          <p:nvPr/>
        </p:nvSpPr>
        <p:spPr>
          <a:xfrm>
            <a:off x="1187280" y="2637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交流明确：要发动战争吗？要向老百姓开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2"/>
          <p:cNvSpPr/>
          <p:nvPr/>
        </p:nvSpPr>
        <p:spPr>
          <a:xfrm>
            <a:off x="0" y="83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讲述故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3"/>
          <p:cNvSpPr/>
          <p:nvPr/>
        </p:nvSpPr>
        <p:spPr>
          <a:xfrm>
            <a:off x="1116000" y="2852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听完故事，你心里觉得怎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2"/>
          <p:cNvSpPr/>
          <p:nvPr/>
        </p:nvSpPr>
        <p:spPr>
          <a:xfrm>
            <a:off x="900000" y="2421000"/>
            <a:ext cx="6840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卡卡王国的孩子新年快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从哪些话中可以听出来他们很快乐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"/>
          <p:cNvSpPr/>
          <p:nvPr/>
        </p:nvSpPr>
        <p:spPr>
          <a:xfrm>
            <a:off x="0" y="83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讲述故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0" y="1700280"/>
            <a:ext cx="84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读课文，在书上作标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炮以前是用来干什么的？有怎样的威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卡卡国王将大炮掉头面向广场时，人们有什么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情？想些什么？人们是怎样的心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王用大炮做什么？当时的情况是怎样的？你是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哪些地方感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"/>
          <p:cNvSpPr/>
          <p:nvPr/>
        </p:nvSpPr>
        <p:spPr>
          <a:xfrm>
            <a:off x="0" y="907920"/>
            <a:ext cx="165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Text Box 2"/>
          <p:cNvSpPr/>
          <p:nvPr/>
        </p:nvSpPr>
        <p:spPr>
          <a:xfrm>
            <a:off x="250920" y="184464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什么要写老师带学生参观城堡上的大炮？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王用大炮狂欢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什么不把国王的意图直接写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难忘的狂欢之夜，难忘的大炮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可改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难忘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狂欢之夜和大炮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"/>
          <p:cNvSpPr/>
          <p:nvPr/>
        </p:nvSpPr>
        <p:spPr>
          <a:xfrm>
            <a:off x="0" y="83664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阅读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2"/>
          <p:cNvSpPr/>
          <p:nvPr/>
        </p:nvSpPr>
        <p:spPr>
          <a:xfrm>
            <a:off x="0" y="83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539640" y="2852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感情地朗读课文，抄写自己喜欢的部分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WordArt 2" descr=""/>
          <p:cNvPicPr/>
          <p:nvPr/>
        </p:nvPicPr>
        <p:blipFill>
          <a:blip r:embed="rId1"/>
          <a:stretch/>
        </p:blipFill>
        <p:spPr>
          <a:xfrm>
            <a:off x="2481120" y="2419200"/>
            <a:ext cx="3291120" cy="226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7:08:47Z</dcterms:created>
  <dc:creator> </dc:creator>
  <dc:description> </dc:description>
  <cp:keywords/>
  <dc:language>en-US</dc:language>
  <cp:lastModifiedBy>Bonny</cp:lastModifiedBy>
  <cp:lastPrinted>1899-12-30T00:00:00Z</cp:lastPrinted>
  <dcterms:modified xsi:type="dcterms:W3CDTF">2015-06-04T09:52:13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