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chimes.wav" ContentType="audio/x-wav"/>
  <Override PartName="/ppt/media/image6.jpeg" ContentType="image/jpeg"/>
  <Override PartName="/ppt/media/image12.jpeg" ContentType="image/jpeg"/>
  <Override PartName="/ppt/media/image13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73F-6F2B-41A5-8E12-E3039905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EB6-5590-4128-8493-2E469A1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6A6B6-963F-49A4-BBBC-B1BFC0FD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0D1F2-E04F-44D8-B485-5C4A9ACC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C5EC3-3DBE-40F6-921C-8E13DE3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6ED8C-E106-48A4-B7F5-77551A8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957EA-5262-4B80-B746-FF9F7F2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EC2A7-3A1A-4977-BF3E-DF3615F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73201-07A4-4252-8B14-28135E5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6FEA-43C1-45D3-803D-9B8F8926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7E25-ED84-4974-A368-C65EFC0D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47AA-FC17-49C9-8FE1-13A84E10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23C-ABD8-4245-AE67-CFD31A9E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FF81-F2ED-45DB-AC51-9E2E99C5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A89DE-BAB3-4746-B170-C4B3CF0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AB5E-123F-4ACA-B16A-EBBED25B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81659-7FF2-4E24-B8EA-A66BA56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E05EB-20F9-4E3E-8237-46B347A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572E6-7586-402A-A393-80735AD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9037B-F593-4688-9CAB-A8BFD21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68875-A864-4AEB-BAF2-7FCACA0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E00A2-99F2-48ED-AD75-3CD0DF22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7A0D-C2F3-4DFE-9F6B-479095FC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FD4-67CC-4D24-B154-FD44F355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9C281-8371-4DAE-ACF3-A992934C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88BE9-A619-4E1C-BDCA-7CC1F60B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3D834-F76F-465E-B293-1E6798F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E77B7-CB24-4D6F-B5F1-836CDC5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9BEA7-1BD6-409D-9028-10C431B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9621-86A4-4652-9A24-7BA37D1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0C160-A14E-47A8-9CE5-AFEAF12E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82588-2955-4F2F-8455-57AA2E3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E59DF-175D-494B-B3F2-D96DD24C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31C01-295C-4419-BA8B-42A08B9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F858-FF10-4041-869C-979A9332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181B-B337-4B2B-91BB-5FFBB0E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F894-FA09-4B91-8641-76A0621D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8FB45-CCF3-432A-8117-7B4EBFCB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4615F-E0CB-450E-B7DD-DA502555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655B2-4FDE-4860-97B2-C684F2E1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4E9BC-D4E5-41B6-A1CC-5A9A8B7B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C385-8477-4FD1-B203-E5E2A9D1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E96C0-AA42-4BC0-8332-1E11D223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112B1-C0FF-4364-AD71-8843D08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0A315-7E45-4E77-B0C2-C9EA2F0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E04B-3524-4C44-B44C-288C42E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37D06-1C22-4B34-A2D7-D6E26D7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9F1BE-E95F-4EDB-A609-3DEBE18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A5BC8-EF0A-44E8-A2A3-C6CDCED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4628D-3AAE-4B2D-9B4C-6FB1BB0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8D20-3BB1-4071-805A-212838DE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957B6-5DD2-4B12-A52C-2C41B077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9732E-0CD4-4C80-9BA2-334AA336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79F45-44C7-435F-AA12-EE3D1BD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3AF18-986C-4375-8BD7-38D6E9D8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D48C2-1C24-4387-9CBD-2265F2F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5B23-C01C-4279-8077-768D736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64111-6E3F-43ED-89BC-9E47E71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6805F-648C-4E0E-A022-BBD3B89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43638-7829-4CED-8FF7-147ECDD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2A242-726D-48F5-8776-9B6BA75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F5A3C-0D74-4CF7-BB69-76B56D7B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D3872-18A7-4DF0-B79B-5A896CC5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05CB7-801B-42EA-BD9E-6B15DB2B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BCEBB-9733-4556-879C-3F46F85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220C6-CFF6-4F49-90BC-1E0C227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209E0-FA1C-45B7-BE76-4E24AE5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C15-14AF-4A5A-B077-0D816ACA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C4296-29A2-425B-87CB-5A12126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FC5DF-AE7A-4DED-B540-5C6CB1CC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D3C9A-28DF-4A5E-B03C-12BC75DB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475A0-6EEC-431B-AE8D-E084202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83E9E-0502-43CA-9ED6-6987887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2FC82-AABC-4A2D-868A-CF60CCC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B6C4D-7E5D-4177-BF80-E6869C2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3E45E-E051-4AA1-8A82-9034045A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5DC0C-1A8D-485B-A7C6-2DCA81C0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40721-C0A7-4058-B466-91E9E8E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F5F-FB64-4637-B5CC-6BFBBD5F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1D185-2129-45C6-B29F-C780E29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BA838-D7C5-471A-8BB2-DC96C13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B5513-8BE4-4257-B45F-0EB4B7A3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2C344-FD33-4246-8B6E-9B6B5BB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C18DA-A481-4ACC-81AD-5610575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90905-E0F0-4D28-8330-2D6808E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CB2B9-5932-4E92-AFB8-39CB1D4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106E5-22ED-43D4-A3C1-380C440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2CEF2-DB87-4FE0-A69C-4310532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36183-7275-41C3-9C38-0FE8BD6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51B-79DC-470B-B052-513F51B0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4489D-113A-43AF-AAEE-D98A3AC9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7B4C9-A9AD-4CC5-99CE-9BBFDD2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952C1-A062-4A71-B336-E5D8CC7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97E07-C237-4830-8900-8450DEA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7308D-93D7-4063-B73F-70E5C4E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E6EA8-7C63-4A4B-BCA7-2B5F48B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70878-2A58-4529-9D9E-1E4B5E0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85263-8A22-4B27-AF89-961A704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F5895-7C9A-443A-BB29-0AFE55F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D5C4C-342E-4D74-9C03-F7D8A05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F381-BB0D-43F6-8F9E-AAEC5569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57517-B97C-43EF-8E34-BD72381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9B497-FEC2-416A-AA5A-086A610D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FD1BC-60AE-494A-9EDE-6A494F23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16DC3-399B-4A22-A1C4-9526AA63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6502C-0F0A-4848-8DD1-1FE974C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81EA1-620A-43EA-9F81-B6A10E0D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47584-03BF-4854-BFF3-006D8FD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8ECA0-1BE8-41EB-A7E3-9B4FE4B2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F1821-7710-4C1C-BF88-94A1491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46324-4CD2-43F7-87FE-B2CA3BE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301-243C-4E9E-8F65-5E419291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05E-3A9C-4035-9BC1-A6CF6307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0D9F0-2F30-4D67-B86F-B99E767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00E03-8537-49C0-B849-CD2B3F2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5F60C-D031-4B6D-9EAA-8F20078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E2C6C-4FB1-43EF-8F58-666289A6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94DB9-9745-48F2-BA29-2F759D3F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64EDE-875D-4DA9-A659-1ACB6F40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EB996-041C-4229-A7AD-792A00DC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6AB7E-1272-4784-B6D2-17B28DD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A3550-D99F-4C83-B4A3-A50D5473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89768-E988-4C54-8113-1A3A83B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5AE-201A-49C6-A79E-B390BAD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B49A1-F2E7-45BC-855E-DECB7F0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2EAB2-C746-4DC6-B5A8-EAB6E44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E2C30-0667-490C-B30E-B83F5CB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627BB-2743-4746-94BE-E7C041F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11E55-1009-4409-81EA-6FAA6F96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10DE1-094A-4643-B48F-582EF25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62A9E-81EB-4997-BC5D-DC783F8A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D8F31-F0A1-4497-9C54-F98E8A84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44B9F-E780-41A8-A97A-CC8DF5DF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878F99-6AD1-4941-82A3-18A89E2D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0DFE-6EE9-4E37-A839-0413E3F1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7F309-8CAA-4CCA-9546-8078FC5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4D36A-FDEF-4AA7-B83F-745C029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35A4F-BBD8-4524-822E-6FC6ED6E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6B497-1ACA-4B3B-9CD5-3A9326D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4B92E-B55C-4520-A3E5-520780B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B57E6-B482-417F-9B78-A5C4BD0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7F751-CC10-489B-A5CC-681CCCA5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04781-60BC-4C10-A0BE-F16EE8DA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EA190-0685-483A-90BC-EEB9BC51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02FC7-43AF-47C1-88FF-00D8F2A3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3B7-E19C-494D-BE4D-6D48FE20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8769D-ED2F-45AB-A33A-4D7F14A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13A07-24D1-41BA-B86A-B3358FA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8BBBF-F692-4FD8-849F-D70C5EC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AACFB-2546-4DD9-92FB-207FFF8F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17089-4703-47A5-9A33-407E9F1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61723-757E-4A71-A9BB-1BD9805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9FB9E-462B-4004-85D0-FEC01D56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1B580-4C05-4D56-88E3-B655EF2E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6C355-5F4F-4D6E-BF2E-5CBFCD3B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9DBDA-0F67-498B-9CF3-F03D5028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113-944C-464E-A613-D6045A51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8E45D-14B8-4973-9889-ED18562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9E16B-5184-4259-9332-3667F5BB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F3BC8-891E-4C5C-8D47-6231AD4C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B443E-6660-4067-8091-A915EA1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A4D2E-749F-42B1-832B-B141DD9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5FBFD-DD90-414F-BB1F-9A24755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79280-9BD5-4E55-AD5E-9192861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CB5FD-5609-474D-B831-6795BD6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9D3C8-AAF7-48B8-B7A9-FD48B8D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07ABB-5F4F-4665-9F60-795DDFE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4B45-95D0-42D1-A358-C407A25F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18FBB-AF03-47BB-B062-E5C8073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2034A-71BF-4ACC-B3C8-F3DE4A19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F1B73-59E1-4BDF-A62A-DF1889AB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64CD53-904E-4991-84F0-203F763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E565F-A73D-48A8-B831-F6BADC5D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9BF59-0F17-478B-A58D-D58539E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EEF45-E06D-41DA-9B47-415F65B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6A5A45-0CD5-4F60-BD24-9B16307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048AB-3FE3-4521-948A-B44C123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46441-E279-405F-B8BE-E11E9BE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0B76-5FBE-45E4-9D78-ED9587D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6084C0-124A-495D-A1A6-432D583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D73042-FDCF-4CD9-B2DE-975962E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57927D-D49C-4B2E-BFBD-951E944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EE016-89FF-4327-81B1-8F8A905A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7B1C5F-C142-495E-B754-CC36B0AE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C22D3-80F7-4AB8-B141-C6F6E175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00FDA-A3B7-413C-8B01-5299995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D191CF-4261-42E9-BEE2-D41A2F9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E129F-1E02-425C-8DE1-3DFE425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01DAB2-3300-4142-A551-A8169F9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96C9-C7F2-4AAE-8371-1B74F43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289BC3-6637-4143-BB33-E60138DD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3B77F7-3DE9-4D01-87DB-29E6248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8F7F64-EA32-4A5E-840A-19F2995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D74F8-FD74-4EE5-9572-B429865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98578-E6CB-43E4-AA05-F548687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DCA1C-14E6-44B1-84AD-10896D8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1B000-73AB-4BF2-AAF4-94938AB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D942C-A804-47B1-B64A-FBB5E888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5FCB4-822A-4C4C-AA42-B16AC0C5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D85F18-3E16-44DC-A9AC-8C35BB4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E127-62F2-417D-8908-9908CE0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96477-7879-41BE-BA44-B21CF2F6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CB4392-D788-4339-96B5-5DD8667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2D3D1D-7F50-4983-BE33-92813FC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42D7DC-AE60-401A-8F4C-D4257DC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1B5D2-052A-4401-9D02-D7D71A8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DC418E-9026-4C23-9789-6C23057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DAD8E-F00F-422A-88D7-D40A5EB3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F6486F-3A0C-4946-A8B6-A80067BF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5AD1BF-2723-4D80-B42B-4C8F3FBA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459C0-A4DB-4166-909D-5CAE9C0C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4BEC-AA09-427B-A7B0-B995751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4DA37-F8F2-4EB5-8A1B-535A5583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94510-4FBB-4BC2-AC90-76C48B36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8F6DB6-C7E4-4DDE-9228-EA18B02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0C2C80-B91C-48D9-B7D2-BC295C31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D024A-89BA-4C72-A011-7E63378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CC4E27-4701-443C-80C8-25041FE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E658F8-A738-4F73-9F14-754F881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76E3A2-4581-4098-991C-FAE0AC4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061C7-103A-4DB6-84C3-C4C5F14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4EE7A-9170-43FD-B986-A5F419ED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C68-B01A-4A48-AD08-EB568A7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101C-4A35-41A5-8F54-378E871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EF06CF-781A-4B2D-BE97-76498AC0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B34F-BB32-4EEC-B5CC-6067C6B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6EE6-A0E3-48C3-AF18-AC20BF4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8E65-C279-4CE4-8232-E0D073E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6F76-F2DC-4518-A304-6B4D467E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8966-E2E8-42A8-AD5A-1AAD196C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2F4E-F891-4C46-A3F6-CC1D0D61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9F43-737D-4F70-90D1-778F1D1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98AD-4ACA-45D2-A9E5-025D462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F2C9-48C1-4FD4-BACF-8D4771D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4D5-9DD9-4161-8D8B-06A98B9F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623A-4879-45D3-9F76-297DE2B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AAF4-0170-4D73-A322-FF23703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69A4-6EC9-4D40-8274-6903A54D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B74A-086D-41A5-A368-1DD850C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5AA0-AFAC-44A3-975D-92FB3F8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ADCD-8556-4FD6-BB73-878B61A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0EB6-DCCF-477B-8CF1-974F593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F48E-E445-4BAB-BFC4-6D442051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CD01-ED8A-48CC-A186-C7918234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4905-D1FB-4E63-B5EA-9880497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82F-E545-4781-9CE8-01713B7E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82A5B-4E89-4EE5-B07A-7491E22D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1F95-3188-4EC0-BDC2-8F23150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85210-E902-4F6A-848A-402E5B5E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2683-2BA5-4C3E-9AE6-B991C69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09DB-7033-4197-86BE-D829D6D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905E-86CF-417C-9E98-1F4EF28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5FBE-340A-43B6-9838-470CF43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039F-E016-448E-B283-5E7C268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A68F-2DAC-4EE9-8A34-D573CF4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8C98-3BD2-43F6-B746-AA838699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162-FF7F-41F8-8FD3-005BF78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98A04-5DC4-4E56-9B83-83958A2D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4E76-6318-44BC-8FF8-852F0A84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B207-A8FA-4D67-A1DC-B4E8B70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9156-F928-4AC2-8DDB-53B5525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8F05-0EBC-48E3-8B72-6BB78180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541D-C879-4B68-B59C-DD69A72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BAF8-A2E4-429F-B8DF-597D8AF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3753-32BC-44B8-888D-20BDFB5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FAE4-56AA-4D3D-97A6-A816538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78B2-96EE-43E3-803B-8B410BD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724-E015-451D-AC11-BE3EC53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5DE2-4769-4F42-B4F0-F9AB61C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C303-F837-4BEA-8A67-F035C892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EC24-A584-4A41-A177-5E4E7645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0235-ADEA-4EED-99A4-8D9570EF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E481-570C-450E-894B-45A1220B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91A4-1A90-4374-BBE1-1FA35F7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ECFB-ADDB-4AFF-AF2E-D94BED5A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011B-DA8E-40C3-92F4-E117AC8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F286-09F5-43C7-A4ED-5C89B31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F0F8-86B6-45F8-AB20-883758F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21C-B9EC-457D-A6DF-40DC2E0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BC912-7EBE-4242-A734-96CEA7E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A72E0-B54B-4055-8AB9-3ECC4F1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1E93-6DF4-474D-BE59-1CC4513C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FD03-62D9-4E72-81EB-48359DD1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55E3-6184-49BB-A22B-6AD6496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CFF5-1850-4A23-B544-5A39888B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E8C2-DB8E-4A99-9839-F84B434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9C03-7FE0-4FF3-9D39-0DE00CC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1F09-1904-4F75-99BE-E4DCC4D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A8DB7-4FC6-48CB-943F-D83A9A7F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7CE-2D7F-4F31-A6C7-1B5AB24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22DC0-DFA8-4717-A9F4-CE62BE8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A8EB-2229-4EDA-8F82-9858C96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60E5-9E1D-43D1-9B81-0B29DDE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9FA7-57CD-4BCB-9061-3D0617A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B403-2E11-4FEE-BBCE-CC81E00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2AEA-9F60-4BF6-A8D1-99470CF5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97B4A-F95B-4A0A-AD6A-B1C35017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86BE1-499D-4707-A411-88FCE612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F0F8-5C3D-4D1A-916E-3C8B195A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3C5F-215D-46E7-A7F2-55A8E75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1FED-8EBF-43C3-B77D-3DD59E90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028-97A7-41C8-BACC-738E02135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BE6-617D-435B-BCE9-3242E365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040-FF8E-4D3D-A535-3A850624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FC52-4DDC-4D8D-9786-D42A7BFB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467E-8670-467E-9E7D-3AC80EB4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694-AE5D-49BF-AAD9-CFC23CB9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3B9C-0813-45B6-ABC3-3F6FCFA6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D513-5638-454A-BA16-9B2F279F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F2B8-05E2-4527-A280-F1F314AB7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455-7F37-4EC1-B579-5A41723D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527-5196-4CDB-83E3-9CBD144B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F8B-DD22-44E0-888B-1F7B9D32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35A5-88AE-45D2-A86A-16B5CB3D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6BE-9769-4440-85FC-15B239E3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7C3-3E47-476F-92C3-797FC8C1F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4CF-F963-47E7-A338-039C1E65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774-9B66-4B88-9930-90DDA83EA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CB9-7B02-447C-8D57-579C76D3D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9FF5-95A2-41E0-8C59-73A312179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15A-1846-4DB4-841D-99FC475B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9670-3A7E-46E5-925D-7B62E0F1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6CC7-B492-475E-AA68-AE49A3F24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F406-33BB-4EA9-9802-E590B4EA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9D73-D177-4597-998A-871CF5A3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WordArt 5"/>
          <p:cNvSpPr txBox="1"/>
          <p:nvPr/>
        </p:nvSpPr>
        <p:spPr>
          <a:xfrm>
            <a:off x="468360" y="1628640"/>
            <a:ext cx="792468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二泉映月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26" name="Text Box 6"/>
          <p:cNvSpPr/>
          <p:nvPr/>
        </p:nvSpPr>
        <p:spPr>
          <a:xfrm>
            <a:off x="324000" y="4581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二泉映月：指二泉与月光相互映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90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771f03"/>
                </a:solidFill>
                <a:latin typeface="Arial"/>
              </a:rPr>
              <a:t>认真默读课文第二、四自然段，说说你从这两段话中能读出“一样的”是什么？“不一样”的是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771f03"/>
                </a:solidFill>
                <a:latin typeface="Arial"/>
              </a:rPr>
              <a:t>如今阿炳听着这淙淙的流水声，他想到了什么？似乎又听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12%2B"/>
          <p:cNvPicPr/>
          <p:nvPr/>
        </p:nvPicPr>
        <p:blipFill>
          <a:blip r:embed="rId1"/>
          <a:srcRect l="0" t="5690" r="0" b="0"/>
          <a:stretch/>
        </p:blipFill>
        <p:spPr>
          <a:xfrm>
            <a:off x="552600" y="357120"/>
            <a:ext cx="8267400" cy="6527880"/>
          </a:xfrm>
          <a:prstGeom prst="rect">
            <a:avLst/>
          </a:prstGeom>
          <a:ln w="0">
            <a:noFill/>
          </a:ln>
        </p:spPr>
      </p:pic>
      <p:sp>
        <p:nvSpPr>
          <p:cNvPr id="1057" name="Text Box 3"/>
          <p:cNvSpPr/>
          <p:nvPr/>
        </p:nvSpPr>
        <p:spPr>
          <a:xfrm>
            <a:off x="1042920" y="719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c0c"/>
                </a:solidFill>
                <a:latin typeface="Tahoma"/>
              </a:rPr>
              <a:t>他想起了师父说过的话，想到自己坎坷的经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Text Box 4"/>
          <p:cNvSpPr/>
          <p:nvPr/>
        </p:nvSpPr>
        <p:spPr>
          <a:xfrm>
            <a:off x="1476360" y="2349360"/>
            <a:ext cx="71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你年纪还小，等你长大了，就会从二泉的流水中听到许多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奇妙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的声音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4" descr="月01"/>
          <p:cNvPicPr/>
          <p:nvPr/>
        </p:nvPicPr>
        <p:blipFill>
          <a:blip r:embed="rId1"/>
          <a:srcRect l="0" t="5207" r="0" b="7294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1061" name="Text Box 6"/>
          <p:cNvSpPr/>
          <p:nvPr/>
        </p:nvSpPr>
        <p:spPr>
          <a:xfrm>
            <a:off x="900000" y="105264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Text Box 9"/>
          <p:cNvSpPr/>
          <p:nvPr/>
        </p:nvSpPr>
        <p:spPr>
          <a:xfrm>
            <a:off x="97164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Text Box 11"/>
          <p:cNvSpPr/>
          <p:nvPr/>
        </p:nvSpPr>
        <p:spPr>
          <a:xfrm>
            <a:off x="755640" y="1268280"/>
            <a:ext cx="4176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f806"/>
                </a:solidFill>
                <a:latin typeface="Tahoma"/>
              </a:rPr>
              <a:t>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2f806"/>
                </a:solidFill>
                <a:latin typeface="Tahoma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4"/>
          <p:cNvSpPr/>
          <p:nvPr/>
        </p:nvSpPr>
        <p:spPr>
          <a:xfrm>
            <a:off x="1833840" y="2133720"/>
            <a:ext cx="548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师父离世   双目失明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卖艺度日 生活穷困  疾病折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3" descr="图片1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4"/>
          <p:cNvSpPr/>
          <p:nvPr/>
        </p:nvSpPr>
        <p:spPr>
          <a:xfrm>
            <a:off x="468360" y="1855800"/>
            <a:ext cx="8281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多年过去了，师父早已离开人世，阿炳也因患眼疾而双目失明。他整天戴着墨镜，操着胡琴，卖艺度日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5"/>
          <p:cNvSpPr/>
          <p:nvPr/>
        </p:nvSpPr>
        <p:spPr>
          <a:xfrm>
            <a:off x="324000" y="549360"/>
            <a:ext cx="8640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那是一个雪花飘飞的午后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炳为一帮酒足饭饱的商贩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曲子，得到的两个铜板却丢在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破碗外，阿炳赶紧伸出瘦骨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嶙峋的手，颤抖地摸着，最终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无所获！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摘自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炳曲集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2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个烈日炎炎的夏天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个大雨如注的黄昏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</a:t>
            </a:r>
            <a:br>
              <a:rPr sz="2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次身患重病的时候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1619280" y="1125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炳的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24000" y="514080"/>
            <a:ext cx="8362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春暖花开，小草在风中哀伤地摇动着，坐在小道旁的阿炳操着胡琴，演奏出流水似的美妙音乐，乐声从指尖静静地倾泻出来，略带着一丝淡淡的忧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件灰色的破棉衣仍然穿在身上，不知有多少个春夏秋冬了，鞋子早已磨破，只剩下了两个棉花团。衣服虽然破烂，但是却还是干净的，阿炳的眼睛是瞎了，可是心里却也向往光明，向往着过幸福的生活。听他曲子的人不多，二三个人听完以后，便把一二个铜子往地上一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叮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难道这就是对阿炳那高尚事业的回报？也许是吧！那时一个卖艺的是社会底层的人啊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，炎热的天气让人烦躁，听曲子的人也会对阿炳冷嘲热讽。阿炳衣服里的棉花被妻子拉了出来，成了一件夏装。此时他正不骄不躁地拉着二胡，突然一个大汉走到他面前，喊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喂，老头儿，给爷拉两段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手把一个铜板丢到地上，阿炳拉了起来，大汉瞄了一眼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哦，原来是阿炳啊！你怎么还没死掉啊！哈哈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炳默默地忍受着这一切，几天来常常发生这种事。</a:t>
            </a: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阿炳同样反复地拉着琴，只是街上的落叶多了，冷风把落叶吹得来回飘荡，卷到了阿炳身上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，阿炳的生活格外艰难，冷风呼呼地吹着，身上的衣服根本不足以挡住寒冷。阿炳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手被冻得发紫，但他好像不知道依旧拉着。街上的冷风把人们赶回家中，这里的人少多了，人们更不愿意在街上站半天，去听二胡曲子。这就意味着阿炳和妻子又吃不饱饭了，冬天对于阿炳夫妇来说是没法想像的苦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阿炳重复着那样的艰苦生活，他在拼命支撑着，坚持着他喜爱的音乐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0bb33adc51a5a9fd8d1029c8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20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3——1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原名华彦钧，著名民间音乐家，江苏省无锡人。他的父亲是当地“雷尊殿”一位道士，擅长演奏二胡、三弦、琵琶等乐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彦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丧母，随父亲学习音乐演奏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父亲患病去世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双目失明；因社会动乱、生活无着落，道产卖空，他无法再做道士，只得流落街头，以卖艺为生，饱受了人间的艰辛和苦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彦钧在二胡、琵琶等艺术作品中体现了相当高的艺术造诣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泉映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寒春风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亲传的琵琶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浪淘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昭君出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龙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被收入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炳曲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为中国近现代民间音乐研究的宝贵遗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泉映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为中国近现代民族器乐创作的优秀代表，展现了古老民族的东方神韵。日本指挥家小泽征尔先生，在第一次聆听这首乐曲时激动得流下了眼泪，他说：“这首乐曲太感动人了，像这样的乐曲应该跪下来听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3" name="Rectangle 3"/>
          <p:cNvSpPr/>
          <p:nvPr/>
        </p:nvSpPr>
        <p:spPr>
          <a:xfrm>
            <a:off x="2057400" y="426600"/>
            <a:ext cx="658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痛丧师父   孤苦无依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降横祸   双目失明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卖艺度日   生活穷困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疾病折磨   苦苦凄凄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图片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4"/>
          <p:cNvSpPr/>
          <p:nvPr/>
        </p:nvSpPr>
        <p:spPr>
          <a:xfrm>
            <a:off x="250920" y="2666160"/>
            <a:ext cx="856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但是生活的穷困和疾病的折磨，泯灭不了阿炳对音乐的热爱和对光明的向往。他多么希望有一天能过上安定幸福的生活啊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5"/>
          <p:cNvSpPr/>
          <p:nvPr/>
        </p:nvSpPr>
        <p:spPr>
          <a:xfrm>
            <a:off x="395280" y="333360"/>
            <a:ext cx="8748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渐渐地，渐渐地，他似乎听到了深沉的叹息，伤心的哭泣，激愤的倾诉，倔强的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呐喊</a:t>
            </a:r>
            <a:r>
              <a:rPr b="1" lang="en-US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3"/>
          <p:cNvSpPr/>
          <p:nvPr/>
        </p:nvSpPr>
        <p:spPr>
          <a:xfrm>
            <a:off x="395280" y="549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当时的阿炳是怎么做的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324000" y="1628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听着，听着，阿炳的心颤抖起来。他禁不住拿起二胡，他要通过琴声把积淀已久的情怀，倾吐给这茫茫月夜。他的手指在琴弦上不停地滑动着，流水、月光都变成了一个个动人的音符，从琴弦上流泻出来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395280" y="1628640"/>
            <a:ext cx="83059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朗读课文第五自然段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黑体"/>
              </a:rPr>
              <a:t>——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画出表现琴声特点的句子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～～～～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画出表现琴声所抒发的丰富内涵的语句，并通过朗读体会其中的意境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3" descr="图片1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4"/>
          <p:cNvSpPr/>
          <p:nvPr/>
        </p:nvSpPr>
        <p:spPr>
          <a:xfrm>
            <a:off x="1332000" y="2194560"/>
            <a:ext cx="8066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起初，琴声委婉连绵，有如山泉从山谷中蜿蜒而来，缓缓流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随着旋律的升腾跌宕，步步高昂，乐曲进入了高潮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Text Box 5"/>
          <p:cNvSpPr/>
          <p:nvPr/>
        </p:nvSpPr>
        <p:spPr>
          <a:xfrm>
            <a:off x="179280" y="90792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250920" y="227664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Text Box 7"/>
          <p:cNvSpPr/>
          <p:nvPr/>
        </p:nvSpPr>
        <p:spPr>
          <a:xfrm>
            <a:off x="250920" y="3789360"/>
            <a:ext cx="115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二泉映月2.mp3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5"/>
          <p:cNvSpPr/>
          <p:nvPr/>
        </p:nvSpPr>
        <p:spPr>
          <a:xfrm>
            <a:off x="179280" y="260280"/>
            <a:ext cx="129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250920" y="2060640"/>
            <a:ext cx="122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250920" y="3789360"/>
            <a:ext cx="1152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Rectangle 8"/>
          <p:cNvSpPr/>
          <p:nvPr/>
        </p:nvSpPr>
        <p:spPr>
          <a:xfrm>
            <a:off x="177372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委婉连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Rectangle 9"/>
          <p:cNvSpPr/>
          <p:nvPr/>
        </p:nvSpPr>
        <p:spPr>
          <a:xfrm>
            <a:off x="2153160" y="1871640"/>
            <a:ext cx="26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升腾跌宕  步步高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10"/>
          <p:cNvSpPr/>
          <p:nvPr/>
        </p:nvSpPr>
        <p:spPr>
          <a:xfrm>
            <a:off x="2894760" y="38606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舒缓而又起伏   恬静而又激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Rectangle 11"/>
          <p:cNvSpPr/>
          <p:nvPr/>
        </p:nvSpPr>
        <p:spPr>
          <a:xfrm>
            <a:off x="250920" y="260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似乎是阿炳在赞叹惠山二泉的优美景色，在怀念对他恩重如山的师父，在思索自己走过的人生道路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Oval 12"/>
          <p:cNvSpPr/>
          <p:nvPr/>
        </p:nvSpPr>
        <p:spPr>
          <a:xfrm>
            <a:off x="6588000" y="260280"/>
            <a:ext cx="93528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13"/>
          <p:cNvSpPr/>
          <p:nvPr/>
        </p:nvSpPr>
        <p:spPr>
          <a:xfrm>
            <a:off x="3564000" y="692280"/>
            <a:ext cx="93492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Oval 14"/>
          <p:cNvSpPr/>
          <p:nvPr/>
        </p:nvSpPr>
        <p:spPr>
          <a:xfrm>
            <a:off x="324000" y="1268280"/>
            <a:ext cx="93492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15"/>
          <p:cNvSpPr/>
          <p:nvPr/>
        </p:nvSpPr>
        <p:spPr>
          <a:xfrm>
            <a:off x="25092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Rectangle 16"/>
          <p:cNvSpPr/>
          <p:nvPr/>
        </p:nvSpPr>
        <p:spPr>
          <a:xfrm>
            <a:off x="0" y="4724280"/>
            <a:ext cx="94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Oval 17"/>
          <p:cNvSpPr/>
          <p:nvPr/>
        </p:nvSpPr>
        <p:spPr>
          <a:xfrm>
            <a:off x="1908000" y="3068640"/>
            <a:ext cx="9352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4356000" y="2637000"/>
            <a:ext cx="9352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7" name="Group 19"/>
          <p:cNvGrpSpPr/>
          <p:nvPr/>
        </p:nvGrpSpPr>
        <p:grpSpPr>
          <a:xfrm>
            <a:off x="179280" y="5229360"/>
            <a:ext cx="7129440" cy="1112760"/>
            <a:chOff x="179280" y="5229360"/>
            <a:chExt cx="7129440" cy="1112760"/>
          </a:xfrm>
        </p:grpSpPr>
        <p:sp>
          <p:nvSpPr>
            <p:cNvPr id="1118" name="Oval 20"/>
            <p:cNvSpPr/>
            <p:nvPr/>
          </p:nvSpPr>
          <p:spPr>
            <a:xfrm>
              <a:off x="7164360" y="5229360"/>
              <a:ext cx="144360" cy="1443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21"/>
            <p:cNvGrpSpPr/>
            <p:nvPr/>
          </p:nvGrpSpPr>
          <p:grpSpPr>
            <a:xfrm>
              <a:off x="179280" y="5661000"/>
              <a:ext cx="4681800" cy="681120"/>
              <a:chOff x="179280" y="5661000"/>
              <a:chExt cx="4681800" cy="681120"/>
            </a:xfrm>
          </p:grpSpPr>
          <p:sp>
            <p:nvSpPr>
              <p:cNvPr id="1120" name="Oval 22"/>
              <p:cNvSpPr/>
              <p:nvPr/>
            </p:nvSpPr>
            <p:spPr>
              <a:xfrm>
                <a:off x="4716360" y="5661000"/>
                <a:ext cx="144720" cy="1047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Oval 23"/>
              <p:cNvSpPr/>
              <p:nvPr/>
            </p:nvSpPr>
            <p:spPr>
              <a:xfrm>
                <a:off x="179280" y="6237360"/>
                <a:ext cx="144720" cy="1047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2" name="Oval 24"/>
              <p:cNvSpPr/>
              <p:nvPr/>
            </p:nvSpPr>
            <p:spPr>
              <a:xfrm>
                <a:off x="3851280" y="6237360"/>
                <a:ext cx="144360" cy="1047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23" name="AutoShape 25">
            <a:hlinkClick r:id="rId3" action="ppaction://hlinksldjump"/>
          </p:cNvPr>
          <p:cNvSpPr/>
          <p:nvPr/>
        </p:nvSpPr>
        <p:spPr>
          <a:xfrm>
            <a:off x="8028000" y="141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AutoShape 26">
            <a:hlinkClick r:id="rId4" action="ppaction://hlinksldjump"/>
          </p:cNvPr>
          <p:cNvSpPr/>
          <p:nvPr/>
        </p:nvSpPr>
        <p:spPr>
          <a:xfrm>
            <a:off x="8028000" y="3284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3"/>
          <p:cNvSpPr/>
          <p:nvPr/>
        </p:nvSpPr>
        <p:spPr>
          <a:xfrm>
            <a:off x="609480" y="1976760"/>
            <a:ext cx="75438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似乎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美的景色、慈祥的师父、苦难的记忆都随着这琴声流淌出来，这就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、恨、情、仇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3"/>
          <p:cNvSpPr/>
          <p:nvPr/>
        </p:nvSpPr>
        <p:spPr>
          <a:xfrm>
            <a:off x="609480" y="21128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阿炳敢对命运说“不”，永不放弃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611280" y="3452400"/>
            <a:ext cx="78501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表达了他对美好未来的无比渴望和无限向往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131" name="Rectangle 3"/>
          <p:cNvSpPr/>
          <p:nvPr/>
        </p:nvSpPr>
        <p:spPr>
          <a:xfrm>
            <a:off x="611280" y="2081160"/>
            <a:ext cx="79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684360" y="3918960"/>
            <a:ext cx="820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爱是一种力量，爱是一种追求，爱是一种幸福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Rectangle 6"/>
          <p:cNvSpPr/>
          <p:nvPr/>
        </p:nvSpPr>
        <p:spPr>
          <a:xfrm>
            <a:off x="395280" y="49417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达了阿炳热爱生活，热爱家乡，热爱大自然的感情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Object 2"/>
          <p:cNvGraphicFramePr/>
          <p:nvPr/>
        </p:nvGraphicFramePr>
        <p:xfrm>
          <a:off x="457200" y="0"/>
          <a:ext cx="8147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14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4"/>
          <p:cNvSpPr/>
          <p:nvPr/>
        </p:nvSpPr>
        <p:spPr>
          <a:xfrm>
            <a:off x="-1440" y="189000"/>
            <a:ext cx="914544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起初，琴声委婉连绵，有如山泉从幽谷中蜿蜒而来，缓缓流淌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似乎是阿炳在赞叹惠山二泉的优美景色，在怀念对他恩重如山的师父，在思索自己走过的人生道路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随着旋律的升腾跌宕，步步高昂，乐曲进入了高潮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20070921_77ce8e880a6fbf888e96mza5vhS5t59l_jpg_thumb"/>
          <p:cNvPicPr/>
          <p:nvPr/>
        </p:nvPicPr>
        <p:blipFill>
          <a:blip r:embed="rId1">
            <a:lum bright="-30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457200" y="2394720"/>
            <a:ext cx="8381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就这样，一首不朽的乐曲诞生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就是经后人整理并定名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二胡曲。几十年来，这首曲子深受我国人民的喜爱，在国际乐坛上享有盛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609480" y="4800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因为曲子美，感情真，所以深受我国人民的喜爱，在国际乐坛上享有盛誉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666880" y="5410080"/>
            <a:ext cx="3353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" descr="图片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4"/>
          <p:cNvSpPr/>
          <p:nvPr/>
        </p:nvSpPr>
        <p:spPr>
          <a:xfrm>
            <a:off x="539640" y="2102760"/>
            <a:ext cx="8785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78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年，小泽征尔应邀担任中央乐团的首席指挥，席间他指挥演奏了弦乐合奏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泉映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》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他感动得热泪盈眶，呢喃地说：“这种音乐只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跪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下来听。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2" descr="图片1"/>
          <p:cNvPicPr/>
          <p:nvPr/>
        </p:nvPicPr>
        <p:blipFill>
          <a:blip r:embed="rId1"/>
          <a:stretch/>
        </p:blipFill>
        <p:spPr>
          <a:xfrm>
            <a:off x="179280" y="0"/>
            <a:ext cx="8747280" cy="6858000"/>
          </a:xfrm>
          <a:prstGeom prst="rect">
            <a:avLst/>
          </a:prstGeom>
          <a:ln w="0">
            <a:noFill/>
          </a:ln>
        </p:spPr>
      </p:pic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971280" y="2602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永远的二泉映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看不见黑暗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是因为穿行在黑暗之中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听不见苦难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是因为置身于苦难之中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一把二胡，道尽人世的沧桑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两根细弦，诉尽命运的悲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阿炳啊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你那把血泪斑斑的胡琴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凄凉而不绝望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忧愤而不疯狂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空荡荡的夜色中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我听到了不屈的抗争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触摸到了一颗坚强的灵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5"/>
          <p:cNvSpPr/>
          <p:nvPr/>
        </p:nvSpPr>
        <p:spPr>
          <a:xfrm>
            <a:off x="324000" y="260280"/>
            <a:ext cx="842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经典收藏：朗读课文，背诵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阿炳的一生不仅留下了二胡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泉映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还留下了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松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寒春风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亲传的琵琶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浪淘沙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昭君出塞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龙船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课下可以进行搜集倾听，进一步了解阿炳，感受中国音乐史上罕见的民间音乐家的伟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用心聆听其中的一首，并仿照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写出自己的感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5752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84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xī     huì        mò          mǐn        chā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锡     惠山      墨镜         泯灭        搀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ué          nà       diàn         ráo         y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倔强     呐喊     积淀        富饶         萦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ì                                                     diēdà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影沉璧   饱经风霜    委婉连绵   升腾跌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恩重如山   势不可当    享有盛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71f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1f03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771f03"/>
                </a:solidFill>
                <a:latin typeface="Arial"/>
              </a:rPr>
              <a:t>文中有不少地方在写“二泉映月”这一道美景，请大家快速浏览课文，找出其中的语句或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3"/>
          <p:cNvSpPr/>
          <p:nvPr/>
        </p:nvSpPr>
        <p:spPr>
          <a:xfrm>
            <a:off x="6012000" y="1197000"/>
            <a:ext cx="272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锡的惠山，树木葱茏，藤萝摇曳。山脚下有一泓清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称“天下第二泉”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5" name="Picture 4" descr="2004329163216544"/>
          <p:cNvPicPr/>
          <p:nvPr/>
        </p:nvPicPr>
        <p:blipFill>
          <a:blip r:embed="rId1"/>
          <a:stretch/>
        </p:blipFill>
        <p:spPr>
          <a:xfrm>
            <a:off x="395280" y="476280"/>
            <a:ext cx="5256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Rectangle 10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5" name="Picture 11" descr="HD[TVBR3FNH)22DA~KA26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1Q3545S012"/>
          <p:cNvPicPr/>
          <p:nvPr/>
        </p:nvPicPr>
        <p:blipFill>
          <a:blip r:embed="rId1"/>
          <a:srcRect l="0" t="0" r="1648" b="7291"/>
          <a:stretch/>
        </p:blipFill>
        <p:spPr>
          <a:xfrm>
            <a:off x="0" y="0"/>
            <a:ext cx="4071960" cy="6357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1Q356011596"/>
          <p:cNvPicPr/>
          <p:nvPr/>
        </p:nvPicPr>
        <p:blipFill>
          <a:blip r:embed="rId2"/>
          <a:srcRect l="0" t="0" r="756" b="8878"/>
          <a:stretch/>
        </p:blipFill>
        <p:spPr>
          <a:xfrm>
            <a:off x="4284720" y="3638520"/>
            <a:ext cx="4359240" cy="29336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1Q35522W01"/>
          <p:cNvPicPr/>
          <p:nvPr/>
        </p:nvPicPr>
        <p:blipFill>
          <a:blip r:embed="rId3"/>
          <a:srcRect l="0" t="0" r="756" b="11249"/>
          <a:stretch/>
        </p:blipFill>
        <p:spPr>
          <a:xfrm>
            <a:off x="4286160" y="-142920"/>
            <a:ext cx="4357800" cy="2857680"/>
          </a:xfrm>
          <a:prstGeom prst="rect">
            <a:avLst/>
          </a:prstGeom>
          <a:ln w="0">
            <a:noFill/>
          </a:ln>
        </p:spPr>
      </p:pic>
      <p:sp>
        <p:nvSpPr>
          <p:cNvPr id="1049" name="AutoShape 5">
            <a:hlinkClick r:id="" action="ppaction://hlinkshowjump?jump=firstslide"/>
          </p:cNvPr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20070921_77ce8e880a6fbf888e96mza5vhS5t59l_jpg_thumb"/>
          <p:cNvPicPr/>
          <p:nvPr/>
        </p:nvPicPr>
        <p:blipFill>
          <a:blip r:embed="rId1">
            <a:lum bright="-30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051" name="Rectangle 3"/>
          <p:cNvSpPr/>
          <p:nvPr/>
        </p:nvSpPr>
        <p:spPr>
          <a:xfrm>
            <a:off x="395280" y="548640"/>
            <a:ext cx="8028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木葱茏        藤萝摇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泓清泉        蜿蜒而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淙淙流水       缓缓流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茫茫月夜        月光如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光似水        静影沉璧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光照水        水波映月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0:19:17Z</dcterms:created>
  <dc:creator> </dc:creator>
  <dc:description> </dc:description>
  <cp:keywords/>
  <dc:language>en-US</dc:language>
  <cp:lastModifiedBy>Bonny</cp:lastModifiedBy>
  <dcterms:modified xsi:type="dcterms:W3CDTF">2015-05-24T17:00:08Z</dcterms:modified>
  <cp:revision>2</cp:revision>
  <dc:subject> </dc:subject>
  <dc:title> </dc:title>
</cp:coreProperties>
</file>