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B0A-DE30-4954-B218-19A8C48A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999-3835-46D1-808D-27D30E5A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3DAA4-C2E0-4DF5-848C-EB73F072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491FC-5C5E-49FE-9113-D7BED4AD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996D8-9B80-417B-B06A-FB2AB20B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40BB1-C39C-46F1-9F70-E4EE9CE6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2364E-05EC-473B-A271-421CE8A3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1BA54-38DB-4E62-A762-8F608BE1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F2B52-A14D-40D1-B0DD-6747A547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BE2E6-7BE3-4C96-B7EA-48E2B57A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10D70-04E1-41BE-80DC-3574F57A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6A978-B5FE-42F5-8259-C947D09E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47D-F85E-4E0D-A507-A01E070F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81ED9-59B3-49AE-B0E0-767FB11C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3A9D4-8F9D-47C2-8054-CAA13B27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09173-8B66-40F4-8E71-2BE50B27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F7E97-165E-4FA8-80F1-96BF7740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95D4E-3DFF-4E74-B534-9292CCAF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7B8DD-DD54-4BE9-85F1-195AAF1B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7D492-05D1-4D8E-B7C0-3972058A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8E0DF-8C00-4350-8C5B-D6A06D75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C7DDA-C0A8-4E61-8514-56F46094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FC7F2-725C-4A50-B549-1DD4DE82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3D6-1714-489B-B6A3-E7FAE348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D409A-E274-4B0F-AA5A-ADA49C9D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F613D-EF96-4876-BDC0-17274C37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B9015-7D38-4F93-81B0-E0C6FB4C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70CB2-52F6-4B28-8FF4-DB1D7C46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74105-6CD1-431C-A4F3-3BE96E12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33F2F-8739-4AE3-8160-D8FCE09A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F2214-CE6B-4E0A-AF5D-D8125B0D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11DD2-100E-401B-8D5D-064E3256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6C4E3-8167-49BB-8365-38E334FD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83173-BAFF-4BB4-B3FE-471F5F52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7F88-EA89-42C5-A942-E7FBB9F0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034FD-5B7A-4E6A-997B-C22547CF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F73DA-A2BC-48D7-9C46-9EAC83C1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FE9B7-A7C6-4D87-8B9F-D0238BE6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11C7C-0787-4C8D-A062-BD33A30C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7D2BE-CBD0-47B7-9C4A-CC196D43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3CF17-23C9-4566-9901-D23A5261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A5EC4-5285-40CC-9BB4-29409447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202FB-0CC5-494B-9F4E-061E0008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C6347-5DFF-448D-BCD2-AA4E42DE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A73E1-79FE-4BB1-AA9C-75BB9C5F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6EF3-816D-4323-A106-39583EE8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85A0A-DEAA-4D20-B53E-88080B60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7EB2F-5A3E-4C49-A066-653A6728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E8A4D-6104-4FE3-9DDE-90551B4D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3B345-1C98-401F-9761-9D95D751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D40B0-612D-40BA-BA08-F1E9C2DB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C1D2-342E-4590-8918-6AAA7835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F8B1-35E6-496A-B891-3EDA5830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858A-9550-4C06-A9AE-76326D56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95B4-843E-4399-9920-3AB876AC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9C17-6C1C-41B9-AB6D-FD75A69D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F3D-22D6-401C-B58B-DAA10889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99A9-87C7-417D-B54C-C931259B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73AA-FC08-4AEB-81BB-5C5F9F16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D928-81DC-4F8E-8308-B636137B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11FA-1BB3-4B53-9257-CF9DD4ED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7ED7-C43A-402A-9DE1-7DAA0F64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7D328-5A44-4C41-AD7A-A3743622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2B8B7-AC16-41F2-AB2C-088E338A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6ED83-FC29-4694-979D-5EF69E6B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0800-84A3-4DA1-8396-3473BE4D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B3235-6994-4D45-8641-92DA33F7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F8A-40E4-4DB0-A9BC-1515E937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08348-9516-4929-A1EE-4D201EFA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35A90-714D-40B7-BDA5-7544CF87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AFB76-4688-4B20-9BC4-84D3B318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443F0-8542-4BC8-AA14-E1590DEA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111A2-FD17-4AB9-B4D1-C84C5DEB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81A20-53B8-49F0-AD3E-35F3AF81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89C18-53E7-4779-8D5E-F6F07040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27170-8DF0-43AD-8562-85116008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6A437-75F3-4CFD-8951-0BE4A8EB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33E7E-8904-41FE-9BD8-0BCDFB92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8E5-B94B-484F-BE34-AFB21666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3C6D2-F366-46BC-8AB3-192BA407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FBBD3-3039-49D7-AFE7-ED5CD2FB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FC777-A3F8-491C-A63C-36CCC7D4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16ABA-BD71-45A1-ADD6-2B26F815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7A786-F3F4-4CE8-A76D-D01B542C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C4388-1018-4A2D-B5AD-DD35F8E7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FBEB3-39C0-43EA-89EB-1A44B388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66D3A-8150-4561-8633-C058E60E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BDB7D-CA58-4ED2-9EAD-5E9B78CC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9BBD8-D62F-47CD-9B48-D956FD10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7E7-E579-44A0-A7FA-0BCE68C2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D6341-1289-4FDC-8AC8-43BCE942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13834-FC36-4DC5-AB13-D449415A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9B0ED-06B0-4170-8FBC-66332429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FF84D-A442-4A03-870F-EF2A90FF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F2BA7-2C90-4F33-979E-308E2810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2AD0E-9583-412B-ACC9-2CAE1FDF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905C1-8D05-46D4-8880-D5ADC043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E75B6-0A1C-4847-86A7-8C39E123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433C3-EDCF-4645-86CB-C40CE119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E8065-78F9-4FFF-9E1B-3566E245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424-CBDB-43DC-9DF7-1E860261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EA879-8275-493F-B7D8-0A8765DC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E79C4-0356-4602-9E00-791491C1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78D73-4E74-499E-BD35-ED760DC0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2D7C2-00D3-4C9B-B176-365034AC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BA070-CC57-4185-8C6A-567064E5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56F35-47E4-46E0-984D-B0F872FC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59BB6-9E49-4458-8382-5017CD2F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A0E09-E2DA-4B55-80E5-B0622A90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0011C-1AA6-430B-85F1-1D0FBC10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50BD4-D03A-4B68-A1FD-18465CC1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A8E-FED9-4C0E-BB02-22896C0A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382FE-12C3-426F-9DC3-843EDA11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8F816-C641-4511-AC8A-B9D9400F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A09B0-94CD-4C89-B12A-DC49C6CF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64F5E-312D-4691-9765-B01C23F4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31E98-223B-416F-B7C9-F84685D9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CF6C0-4219-498B-A8F0-F4F5663C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F96E4-0BA9-47EF-A4C8-146E310A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5E164-7C43-4F49-B562-B2590735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09B0B-C31A-4129-9462-9EC13187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66C6A-B925-4AB4-906B-A43F68DA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495-DAB8-4C5B-B23B-1726E290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C0EEA-0F23-4E95-937B-AE72C65D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E0594-D5C7-4233-942E-D68F9E0A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54AFD-6E15-4D09-BAFE-FB9CFC8F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0401B-DC60-4AFA-B1E5-EFA2ED0F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00F3C-46E5-42B9-AE73-C87D6BBF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415B9-E088-43E2-A302-D805EB34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681BC-5F64-4617-B61A-D71D1CA4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3C852-D72D-49A9-8707-3A006972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9568F-C358-4794-BCF8-2AA1BD14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73C28-30D7-4DE4-A116-09988C24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203D-FC18-45AC-81B3-C116BEA2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A1F50-4F1F-405B-BA0A-BB0A848E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83D4F-92E6-4B10-9CD0-DA3036A1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4219F-A16B-4C1C-8BC1-E5C0E5C7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0D39E-645D-4532-ADE4-799AD67F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4FD80-EBC3-4CDC-8CE8-FE6B7392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7189E-B007-4139-8BE5-13E2C28C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7BDC0-D255-4E61-ADAD-6426F13D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3BB1C-BADD-40D2-B0B6-F877C0ED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1D83E-6956-4700-87B7-E85F5837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0D96D-DC67-4CA8-8965-08845445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E250-C5D9-42BE-AC1F-2B76E5C4B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033B-8BBF-47D0-94B6-857D011AE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1B8C-2F2E-41B6-9673-6F36013AA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5015-F794-45D5-8312-129AF8CA9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4349-0217-4684-A0E2-C354587EF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A04F-9988-46FD-8D31-4299393D2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A796-570A-4189-89B2-6AC27E5C3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A521-F4C6-418E-A4DF-6E2779C90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D141-98D8-4DB3-A05C-3D6E4C06F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ABCD-62F3-41D6-AA39-7E56FDDF1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630C-A840-4DB5-A699-53195A775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71B9-EDD6-4BB1-80E7-F996AFA22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9"/>
          <p:cNvSpPr/>
          <p:nvPr/>
        </p:nvSpPr>
        <p:spPr>
          <a:xfrm>
            <a:off x="1403280" y="269064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寒夜的灯光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  <a:ea typeface="华文新魏"/>
              </a:rPr>
              <a:t>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3780000" y="5729400"/>
            <a:ext cx="547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5"/>
          <p:cNvSpPr/>
          <p:nvPr/>
        </p:nvSpPr>
        <p:spPr>
          <a:xfrm>
            <a:off x="1258920" y="1268280"/>
            <a:ext cx="67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车子开了一会儿，我发觉恐惧和忧虑是多余的。沿途农家的灯都依然开着，那通明闪亮的灯光仿佛在朝我致意，人们用他们的灯光送我前行。我的汽车每驶过一家，灯光随后就熄灭，而前面的灯光还在等待着我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我沿途听到的，只是汽车发动机的隆隆声，以及风的哀鸣和车轮碾雪的索索声。但是，我绝不感到孤独，那种感觉就像在黑暗中望见灯塔一样，我浑身充满温暖和力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5" descr="Q}EQZV[WQZDCRH107~FZX{O"/>
          <p:cNvPicPr/>
          <p:nvPr/>
        </p:nvPicPr>
        <p:blipFill>
          <a:blip r:embed="rId1"/>
          <a:stretch/>
        </p:blipFill>
        <p:spPr>
          <a:xfrm>
            <a:off x="2643120" y="1857240"/>
            <a:ext cx="3924360" cy="2905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8" descr="2008115195659707_2"/>
          <p:cNvPicPr/>
          <p:nvPr/>
        </p:nvPicPr>
        <p:blipFill>
          <a:blip r:embed="rId2"/>
          <a:srcRect l="0" t="5751" r="0" b="0"/>
          <a:stretch/>
        </p:blipFill>
        <p:spPr>
          <a:xfrm>
            <a:off x="1714680" y="642960"/>
            <a:ext cx="6337080" cy="46832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0" descr="200611320946337"/>
          <p:cNvPicPr/>
          <p:nvPr/>
        </p:nvPicPr>
        <p:blipFill>
          <a:blip r:embed="rId3"/>
          <a:stretch/>
        </p:blipFill>
        <p:spPr>
          <a:xfrm>
            <a:off x="1285920" y="1428840"/>
            <a:ext cx="6705720" cy="50292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2" descr="20081023221039611"/>
          <p:cNvPicPr/>
          <p:nvPr/>
        </p:nvPicPr>
        <p:blipFill>
          <a:blip r:embed="rId4"/>
          <a:stretch/>
        </p:blipFill>
        <p:spPr>
          <a:xfrm>
            <a:off x="1143000" y="1000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4" descr="20090518102635946"/>
          <p:cNvPicPr/>
          <p:nvPr/>
        </p:nvPicPr>
        <p:blipFill>
          <a:blip r:embed="rId5"/>
          <a:srcRect l="0" t="9327" r="0" b="0"/>
          <a:stretch/>
        </p:blipFill>
        <p:spPr>
          <a:xfrm>
            <a:off x="1428840" y="1000080"/>
            <a:ext cx="4286160" cy="5092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8" descr="20080526100503890"/>
          <p:cNvPicPr/>
          <p:nvPr/>
        </p:nvPicPr>
        <p:blipFill>
          <a:blip r:embed="rId6"/>
          <a:stretch/>
        </p:blipFill>
        <p:spPr>
          <a:xfrm>
            <a:off x="3071880" y="785880"/>
            <a:ext cx="5616360" cy="48974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1" descr="10478013"/>
          <p:cNvPicPr/>
          <p:nvPr/>
        </p:nvPicPr>
        <p:blipFill>
          <a:blip r:embed="rId7"/>
          <a:stretch/>
        </p:blipFill>
        <p:spPr>
          <a:xfrm>
            <a:off x="1285920" y="1500120"/>
            <a:ext cx="5118120" cy="35402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3" descr="10477864"/>
          <p:cNvPicPr/>
          <p:nvPr/>
        </p:nvPicPr>
        <p:blipFill>
          <a:blip r:embed="rId8"/>
          <a:stretch/>
        </p:blipFill>
        <p:spPr>
          <a:xfrm>
            <a:off x="3643200" y="571680"/>
            <a:ext cx="3733920" cy="52387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5" descr="10478033"/>
          <p:cNvPicPr/>
          <p:nvPr/>
        </p:nvPicPr>
        <p:blipFill>
          <a:blip r:embed="rId9"/>
          <a:stretch/>
        </p:blipFill>
        <p:spPr>
          <a:xfrm>
            <a:off x="2357280" y="714240"/>
            <a:ext cx="3181680" cy="47628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7" descr="6XD@H)J1V825_N9S@OUR`3H"/>
          <p:cNvPicPr/>
          <p:nvPr/>
        </p:nvPicPr>
        <p:blipFill>
          <a:blip r:embed="rId10"/>
          <a:stretch/>
        </p:blipFill>
        <p:spPr>
          <a:xfrm>
            <a:off x="3857760" y="1000080"/>
            <a:ext cx="4679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5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xit" presetID="2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43" dur="5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2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53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3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0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63" dur="5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5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8000"/>
                            </p:stCondLst>
                            <p:childTnLst>
                              <p:par>
                                <p:cTn id="17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6000"/>
                            </p:stCondLst>
                            <p:childTnLst>
                              <p:par>
                                <p:cTn id="185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6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8000"/>
                            </p:stCondLst>
                            <p:childTnLst>
                              <p:par>
                                <p:cTn id="1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4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4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300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3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6000"/>
                            </p:stCondLst>
                            <p:childTnLst>
                              <p:par>
                                <p:cTn id="2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4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4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1000"/>
                            </p:stCondLst>
                            <p:childTnLst>
                              <p:par>
                                <p:cTn id="21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1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14" dur="5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60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1000"/>
                            </p:stCondLst>
                            <p:childTnLst>
                              <p:par>
                                <p:cTn id="221" nodeType="after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222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6000"/>
                            </p:stCondLst>
                            <p:childTnLst>
                              <p:par>
                                <p:cTn id="2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1000"/>
                            </p:stCondLst>
                            <p:childTnLst>
                              <p:par>
                                <p:cTn id="229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30" dur="5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6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1000"/>
                            </p:stCondLst>
                            <p:childTnLst>
                              <p:par>
                                <p:cTn id="238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40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41" dur="5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7"/>
          <p:cNvSpPr/>
          <p:nvPr/>
        </p:nvSpPr>
        <p:spPr>
          <a:xfrm>
            <a:off x="2268360" y="2852640"/>
            <a:ext cx="46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再   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18" descr="NK)[U{I(WHL`)5FCKYGPF]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6"/>
          <p:cNvSpPr/>
          <p:nvPr/>
        </p:nvSpPr>
        <p:spPr>
          <a:xfrm>
            <a:off x="1187280" y="37512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这篇课文主要讲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1187280" y="28591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蓝色生死恋.mp3" descr=""/>
          <p:cNvPicPr/>
          <p:nvPr/>
        </p:nvPicPr>
        <p:blipFill>
          <a:blip r:embed="rId2"/>
          <a:stretch/>
        </p:blipFill>
        <p:spPr>
          <a:xfrm>
            <a:off x="7380360" y="544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99" name="WordArt 13"/>
          <p:cNvSpPr txBox="1"/>
          <p:nvPr/>
        </p:nvSpPr>
        <p:spPr>
          <a:xfrm>
            <a:off x="2556000" y="1197000"/>
            <a:ext cx="352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寒夜的灯光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4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82286" fill="hold"/>
                                        <p:tgtEl>
                                          <p:spTgt spid="4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6"/>
          <p:cNvSpPr/>
          <p:nvPr/>
        </p:nvSpPr>
        <p:spPr>
          <a:xfrm>
            <a:off x="755640" y="1341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读一读，想一想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124000" y="227664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医生出诊时灯光是怎样的？回家时又是怎样一番景象？请找出相关语句并做上记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8" descr="板报1"/>
          <p:cNvPicPr/>
          <p:nvPr/>
        </p:nvPicPr>
        <p:blipFill>
          <a:blip r:embed="rId1"/>
          <a:stretch/>
        </p:blipFill>
        <p:spPr>
          <a:xfrm>
            <a:off x="250920" y="2421000"/>
            <a:ext cx="1944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9"/>
          <p:cNvSpPr/>
          <p:nvPr/>
        </p:nvSpPr>
        <p:spPr>
          <a:xfrm>
            <a:off x="1547640" y="148428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楷体_GB2312"/>
              </a:rPr>
              <a:t>今夜却如那位农民说的，沿途农家全都把灯开亮了。一路的灯光指引着我，使我顺利到了那个求医的人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1619280" y="3357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  <a:ea typeface="楷体_GB2312"/>
              </a:rPr>
              <a:t>沿途农家的灯都依然开着，那通明闪亮的灯光仿佛在朝我致意，人们用他们的灯光送我前行，我的汽车每驶过一家，灯光随后就熄灭，而前面的灯光还在等待着我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6"/>
          <p:cNvSpPr/>
          <p:nvPr/>
        </p:nvSpPr>
        <p:spPr>
          <a:xfrm>
            <a:off x="468360" y="90792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今夜却如那位农民说的，沿途农家全都把灯开亮了。一路的灯光指引着我，使我顺利到了那个求医的人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1042920" y="2205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 u="sng">
                <a:solidFill>
                  <a:srgbClr val="009900"/>
                </a:solidFill>
                <a:uFillTx/>
                <a:latin typeface="Arial"/>
                <a:ea typeface="楷体_GB2312"/>
              </a:rPr>
              <a:t>平时，一入夜荒野总是漆黑一片，</a:t>
            </a:r>
            <a:r>
              <a:rPr b="1" lang="zh-CN" sz="3600" spc="-1" strike="noStrike">
                <a:solidFill>
                  <a:srgbClr val="cc00ff"/>
                </a:solidFill>
                <a:latin typeface="Arial"/>
                <a:ea typeface="楷体_GB2312"/>
              </a:rPr>
              <a:t>因为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那时农家用灯是很节约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1116000" y="378936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cc00ff"/>
                </a:solidFill>
                <a:latin typeface="Arial"/>
                <a:ea typeface="楷体_GB2312"/>
              </a:rPr>
              <a:t>因为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那时农家用灯是很节约的，</a:t>
            </a:r>
            <a:r>
              <a:rPr b="1" lang="zh-CN" sz="3600" spc="-1" strike="noStrike" u="sng">
                <a:solidFill>
                  <a:srgbClr val="cc00ff"/>
                </a:solidFill>
                <a:uFillTx/>
                <a:latin typeface="Arial"/>
                <a:ea typeface="楷体_GB2312"/>
              </a:rPr>
              <a:t>所以</a:t>
            </a:r>
            <a:r>
              <a:rPr b="1" lang="zh-CN" sz="3600" spc="-1" strike="noStrike" u="sng">
                <a:solidFill>
                  <a:srgbClr val="009900"/>
                </a:solidFill>
                <a:uFillTx/>
                <a:latin typeface="Arial"/>
                <a:ea typeface="楷体_GB2312"/>
              </a:rPr>
              <a:t>平时，一入夜荒野总是漆黑一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WordArt 8"/>
          <p:cNvSpPr txBox="1"/>
          <p:nvPr/>
        </p:nvSpPr>
        <p:spPr>
          <a:xfrm>
            <a:off x="3492360" y="1197000"/>
            <a:ext cx="251964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改一改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5"/>
          <p:cNvSpPr/>
          <p:nvPr/>
        </p:nvSpPr>
        <p:spPr>
          <a:xfrm>
            <a:off x="2987640" y="47628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那么复杂的乡村夜路，我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怎能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认得回去的路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3060720" y="206064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那么复杂的乡村夜路，我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不能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认得回去的路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5"/>
          <p:cNvSpPr/>
          <p:nvPr/>
        </p:nvSpPr>
        <p:spPr>
          <a:xfrm>
            <a:off x="684360" y="1700280"/>
            <a:ext cx="784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沿途农家的灯都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依然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开着，那通明闪亮的灯光仿佛在朝我致意，人们用他们的灯光送我前行。我的汽车每驶过一家，灯光随后就熄灭，而前面的灯光还在等待着我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18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18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8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5"/>
          <p:cNvSpPr/>
          <p:nvPr/>
        </p:nvSpPr>
        <p:spPr>
          <a:xfrm>
            <a:off x="4572000" y="692280"/>
            <a:ext cx="360036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但是，我绝不感到孤独，那种感觉就像在黑暗中望见灯塔一样，我浑身充满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温暖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力量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9" descr="1_200906031639357Yrwj"/>
          <p:cNvPicPr/>
          <p:nvPr/>
        </p:nvPicPr>
        <p:blipFill>
          <a:blip r:embed="rId1"/>
          <a:stretch/>
        </p:blipFill>
        <p:spPr>
          <a:xfrm>
            <a:off x="611280" y="836640"/>
            <a:ext cx="3816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1:29:25Z</dcterms:created>
  <dc:creator> </dc:creator>
  <dc:description> </dc:description>
  <cp:keywords/>
  <dc:language>en-US</dc:language>
  <cp:lastModifiedBy>bonny</cp:lastModifiedBy>
  <dcterms:modified xsi:type="dcterms:W3CDTF">2015-08-24T18:13:57Z</dcterms:modified>
  <cp:revision>3</cp:revision>
  <dc:subject> </dc:subject>
  <dc:title> </dc:title>
</cp:coreProperties>
</file>