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3E7D-16F9-407C-A282-B22440E50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CD5E-7308-4BCA-9D2C-ADECAACFF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38C46E-DCCF-4972-9CCB-9BC9C76AE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30746B-B816-43B3-9ADA-C6B816CF3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0F64D9-ACC5-4543-8CD4-DE0C54050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448AC1-BF37-4EDC-8A01-8317222F7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6A0F86-4A18-4822-99EB-2ACB49B4B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FA4A2D-8BD7-4ED9-A43E-733103DC0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45B4C8-A161-4DE6-99BB-B8790A242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5F6017-029D-4FB5-83B4-16AAFD59D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971C2D-CD43-45A3-A2BF-A1D1F7EB7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62E5C1-63CA-4B8D-A9F1-765EC7A16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1645-7ED4-4215-9A30-7CBA28EDB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AF2209-8FB4-441D-9E61-235BF0AD2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52475F-E461-4686-964A-952223421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256BB6-6479-46E4-A9CC-6332A516D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DDCB7C-78C6-43B7-8DF0-1F27B4160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4CE1D5-79B3-4075-A855-9B2557887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4E3682-4C3E-4948-90A6-57FDC703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380D9B-9667-447A-86E6-D37C1CAB6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455218-458E-48C0-B840-78A5A6E76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C441F4-2AB5-4844-BAE1-F7CFA6452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834D31-ABCA-4473-83C4-27EE82724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53A4-2EA9-42E6-8968-ABC39CEEC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8D110B-F49E-4F9E-8568-FA81A15F6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87C7BF-5004-44BA-AA13-CCE2FAF13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B3E964-D195-4357-B424-73576F653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ECEDCB-23EE-4F4E-B256-AAA53020B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5AEDA7-1717-4506-91D2-73400FFB2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9C6F49-F5C6-4BA1-97DE-C4C3E512F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A9600F-8069-43A9-B7EA-F6738A1B5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24B8B3-A2CD-440D-98A5-D8715F3D9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BE642E-4C05-486C-9017-E54675D70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760A91-3980-415E-9AC2-A4B6506AE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2C6EC-9A75-4D34-ADB7-FB5A3383F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591A01-C9EB-427F-A9D5-BAFE7C5BB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00297B-03D7-4769-AD95-08563174D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32A102-670E-4D94-B3FB-D3B60BDA8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855F6B-BD7A-4168-88B2-0F4EB352C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06349A-4638-4152-844B-3204D6033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E2C8CF-B497-45D7-A05B-AC75BC305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ADBA36-9C55-45AE-8B76-9D16B2559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50A3D3-DD4B-40A9-909E-2B5F45C72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3A0795-F905-49B5-BDEE-469A3751B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B400BB-A480-4AF0-9FDE-4EE850404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96D3B-9576-42AC-BFB3-26D3891D2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AF2BA9-5BE7-4170-84B3-FE0CAAA1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FB4540-3E4C-4A3C-8ED7-4115186A7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4B477D-6DEF-4073-B71D-71DCD8821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245ABF-3EE8-455B-85F6-27C18BCE7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7B4098-9C17-41DD-B153-6AD9F6231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0A7BC-595E-4AE9-90EA-5C47415B6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BD359-C87E-427E-B9A3-699D2A6BE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47CB1-EEB1-4E3B-A2FD-0493978B5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1E554-D1C5-453D-8958-93974881A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EE8F7-C527-46F9-A97A-E164BE51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05F4-7152-49CE-9006-31E29C504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25EB3-D743-4C20-842C-A4EC53276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B9AAA-5F18-4935-B19C-EFA262271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5D853-8312-42F2-B429-FBA285346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D9C3F-5AAC-4408-8C3B-DFDD9396D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45D42-7D1A-46B0-A1C9-6448E6303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295C5-7145-401A-9002-438AB6045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EABFC-4D57-45A3-A1AE-722343CBF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2A004-7C4B-4258-9853-87080A0CE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0B752-0226-4B9F-A160-269D82565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4C2EF-EBF2-4EDB-A891-EA3F85B06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0784-0480-406A-92AA-141C23D43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88916-C4D4-46A9-999D-A1C40172A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42935-DDAB-4600-B792-C5A12B84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B51DA-9325-444A-B0EE-C2B6C26B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4C1D5-4DBB-45AF-B94B-092963D4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6C721-FC83-4DCE-A816-3846479C9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DB891-F333-4BD4-9FE9-EBE16340C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41224-FAF1-4086-990D-162757E24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21722-FFBA-41B0-85BC-24F54B96A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CFE3B-0720-4EF2-8696-3181533D6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C9AB4-0393-445C-B8F1-646971DDB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7763-572E-4E98-9984-C5BB54806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E59CA-1F08-46CB-860D-698EE1FC1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467B0-D1F7-4986-AAA9-66E89E786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80C11-D4C4-4F2F-80E8-CE9245B1C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F61C5-D20C-4CC5-B6CC-FFEA16C93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3A869-08A8-4E31-B518-BE3C9358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213AE-85F1-40C4-B3F3-31FC44C40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3D548-8D3C-4C87-BA5E-BA843D580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C76EB-0473-4DAE-9C6E-DE9D2B72A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69323-30A4-4792-92F0-C8AEC13A7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E61518-BBC7-4993-A761-23B2B42DF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E81D-DE3B-4C91-B672-809B84759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C8B9E1-73B9-4665-BA55-14F6E2A49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19A770-2436-4465-B31A-C3F03E4CC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8FD983-0F94-4185-8E0E-711592424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6026D-2330-45D7-97D4-C83737B3E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D82C8-AD2A-4FD9-A2C5-86B78146D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AB8CE3-B101-45AA-A0C9-0D78F11CC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C2A80-5B3F-4C51-8289-7C0D5115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11227C-7F22-4934-A069-AD15371FB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30BF3F-3677-410D-8A96-0738250DA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24809-F61D-4024-963E-17ED70297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909E-B0D5-4361-8E9F-59D3E1B05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EA8D1-61C5-4FEE-B335-790BD9283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A63591-9436-4746-B67E-4DAB44FBA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95D9DF-AF61-4831-A268-62DD15A75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94B2C6-B02C-4942-AFDC-EFCAF073D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E56C0D-E6B4-4138-BA43-809DDC2A5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0DFCA7-FB25-4595-AA19-38FADD950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1D1FA2-867A-41B6-A4D4-FD87ECA2C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040C04-087D-4917-9AEB-A70B2BBDA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E28625-83A3-4C1E-AA59-726332165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152C79-5F41-48D6-8D82-746355B4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F414-029F-4B16-BBF9-28F7C2EB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2109B6-04D0-42C6-8111-1A1AF85B7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BC7DF6-C42B-4087-ACCD-138BEFB47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3A0248-A58E-4430-AD73-C3F200D68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5ACFF8-E852-47F1-8CE2-D4753B929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9D6DFE-94F7-43BB-893A-7E12E3E44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3688A2-CE33-439C-9E85-223B48BC2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67077D-AE4A-4505-B084-7DBDFD314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350818-32A8-4CAC-A7DD-4823FE16F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3FA519-E03F-4928-82D1-64199F708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7E400C-4177-4C01-BD9D-B13704F5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4F3A-4B6E-4D6C-9C7A-BD28EFA0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46B127-0CA2-4B77-8F94-3B683AA5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98C575-FCDC-4FB8-A311-040C529D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077BA3-D815-4993-A308-41B17C144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8FE521-9B61-4213-81CF-C936AC153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1ACEE9-297E-4F4C-A6BF-076382C3C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9604D9-7064-408A-92E3-B16D70960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31D563-81CF-4F0D-AB04-DFCA98D1D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2305F6-7C30-42E4-87DF-C518A24D2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C21ACE-B4F2-4C02-BC93-5BA4E435E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A4CCB0-726C-4332-A396-307F85578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00A1-1ACF-4295-B8CD-6DB0AD8AB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364043-5736-422D-8206-1EA232B7C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CAE78D-87FD-43E2-B061-9B234588B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31ACBF-3E92-468F-A35E-3F96B79F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3CCEF2-8474-4B0D-B31E-B03AC59A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6B8AC0-0D6E-4108-B9D7-D4401BD0A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ED822F-AE1B-44AD-A70E-D906380B9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366497-49ED-4A9C-AD17-1FD8FEEAE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F4F7BC-6F12-4563-8FA4-C6739554F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840707-50AE-4EF8-9E1A-FEC608F26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23653D-0307-4836-A2F7-9F642BF1F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A41BB-0111-4EDD-8925-27332CA7889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B0A22-0D92-4F99-BEAB-B1EBA719E22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B2467-7672-4AB9-8E68-FFE89092B49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3568A-AB23-49A1-AD89-2108A4CFAB9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3A9DB-A389-4945-B830-D80C780EDB3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3B082-BF1B-4324-8877-F65DCFB4A21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90482-F3E5-4275-8096-4223C4F3A12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EC88C-5E89-4F10-96F2-3A0AF17EE51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54EA2-AC3D-4140-9C1E-16A80DDD71C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49A19-F419-439B-896F-D2C5E34AEAF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77B12-3BCA-4862-9EE0-F66B49B8B89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14618-BC01-4A75-90DE-FC963D600CD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WordArt 2" descr="纸袋"/>
          <p:cNvPicPr/>
          <p:nvPr/>
        </p:nvPicPr>
        <p:blipFill>
          <a:blip r:embed="rId1"/>
          <a:stretch/>
        </p:blipFill>
        <p:spPr>
          <a:xfrm>
            <a:off x="2359080" y="2451240"/>
            <a:ext cx="465120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 Box 2"/>
          <p:cNvSpPr/>
          <p:nvPr/>
        </p:nvSpPr>
        <p:spPr>
          <a:xfrm>
            <a:off x="539640" y="83664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拓展延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3"/>
          <p:cNvSpPr/>
          <p:nvPr/>
        </p:nvSpPr>
        <p:spPr>
          <a:xfrm>
            <a:off x="468360" y="1557360"/>
            <a:ext cx="7920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楷体_GB2312"/>
              </a:rPr>
              <a:t>、课后收集一些关于梅兰芳和京剧的资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楷体_GB2312"/>
              </a:rPr>
              <a:t>、学习课文描写环境的方法，写一写今天我们这个课堂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569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暑气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石阶    诚实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铿锵   轻盈     婀娜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圆润    歌喉    逼近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优雅   情绪  一笑一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晚上，暑气并没有收敛，没有风。公园里那些屹立着的古树是静静的，露天的剧场也是静静的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58560" y="907560"/>
            <a:ext cx="878508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晚上，暑气并没有收敛，没有风。公园里那些屹立着的古树是静静的，露天的剧场也是静静的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78920" y="3141720"/>
            <a:ext cx="8713800" cy="26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剧场里并不是没有人，相反地，每个角落里都是人，连走路的石阶上都坐着人，从前面一排向后面一望，简直是一个人海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Text Box 2"/>
          <p:cNvSpPr/>
          <p:nvPr/>
        </p:nvSpPr>
        <p:spPr>
          <a:xfrm>
            <a:off x="468360" y="83664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阅读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3"/>
          <p:cNvSpPr/>
          <p:nvPr/>
        </p:nvSpPr>
        <p:spPr>
          <a:xfrm>
            <a:off x="250920" y="1484280"/>
            <a:ext cx="856908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分析第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4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—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自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画出该段中女主角穆桂英扮演者的精彩表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" dur="500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 Box 2"/>
          <p:cNvSpPr/>
          <p:nvPr/>
        </p:nvSpPr>
        <p:spPr>
          <a:xfrm>
            <a:off x="755640" y="1413000"/>
            <a:ext cx="74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开始唱了，那圆润的歌喉在夜空中颤动，听起来似乎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辽远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而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逼近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柔和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而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铿锵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。唱词像珠子似的从一笑一颦中，从优雅的“水袖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中，从婀娜的身段中，一粒一粒地滚下来，滴在地上，溅到空中，落进每一个人的心里，引起一片深远的回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3"/>
          <p:cNvSpPr/>
          <p:nvPr/>
        </p:nvSpPr>
        <p:spPr>
          <a:xfrm>
            <a:off x="468360" y="83664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阅读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4"/>
          <p:cNvSpPr/>
          <p:nvPr/>
        </p:nvSpPr>
        <p:spPr>
          <a:xfrm rot="21432000">
            <a:off x="755640" y="220464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珠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10"/>
          <p:cNvSpPr/>
          <p:nvPr/>
        </p:nvSpPr>
        <p:spPr>
          <a:xfrm>
            <a:off x="2340000" y="260280"/>
            <a:ext cx="388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13"/>
          <p:cNvSpPr/>
          <p:nvPr/>
        </p:nvSpPr>
        <p:spPr>
          <a:xfrm>
            <a:off x="5364000" y="270828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4"/>
          <p:cNvSpPr/>
          <p:nvPr/>
        </p:nvSpPr>
        <p:spPr>
          <a:xfrm>
            <a:off x="6804000" y="270828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15"/>
          <p:cNvSpPr/>
          <p:nvPr/>
        </p:nvSpPr>
        <p:spPr>
          <a:xfrm>
            <a:off x="1476360" y="314172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6"/>
          <p:cNvSpPr/>
          <p:nvPr/>
        </p:nvSpPr>
        <p:spPr>
          <a:xfrm>
            <a:off x="3276720" y="314172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/>
          </p:nvPr>
        </p:nvSpPr>
        <p:spPr>
          <a:xfrm>
            <a:off x="178920" y="620280"/>
            <a:ext cx="860436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他们不约而同地从座位上站立起来，像潮水一样，涌到这位艺人的面前。</a:t>
            </a:r>
            <a:r>
              <a:rPr b="0" lang="zh-CN" sz="48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4"/>
          <p:cNvSpPr/>
          <p:nvPr/>
        </p:nvSpPr>
        <p:spPr>
          <a:xfrm>
            <a:off x="3492360" y="1197000"/>
            <a:ext cx="10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穆桂英挂帅.av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23121" fill="hold"/>
                                        <p:tgtEl>
                                          <p:spTgt spid="5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510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510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0" dur="1" fill="hold"/>
                                        <p:tgtEl>
                                          <p:spTgt spid="5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178920" y="4797000"/>
            <a:ext cx="87138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们的这位艺术家是谁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6"/>
          <p:cNvSpPr/>
          <p:nvPr/>
        </p:nvSpPr>
        <p:spPr>
          <a:xfrm>
            <a:off x="684360" y="5392800"/>
            <a:ext cx="7489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404040"/>
                </a:solidFill>
                <a:latin typeface="Arial"/>
              </a:rPr>
              <a:t>他就是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梅兰芳先生</a:t>
            </a:r>
            <a:r>
              <a:rPr b="0" lang="zh-CN" sz="3600" spc="-1" strike="noStrike">
                <a:solidFill>
                  <a:srgbClr val="40404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8"/>
          <p:cNvSpPr/>
          <p:nvPr/>
        </p:nvSpPr>
        <p:spPr>
          <a:xfrm>
            <a:off x="324000" y="404640"/>
            <a:ext cx="82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9"/>
          <p:cNvSpPr/>
          <p:nvPr/>
        </p:nvSpPr>
        <p:spPr>
          <a:xfrm>
            <a:off x="1403280" y="765000"/>
            <a:ext cx="367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10" descr="0023aea9e73e0e20b4a411"/>
          <p:cNvPicPr/>
          <p:nvPr/>
        </p:nvPicPr>
        <p:blipFill>
          <a:blip r:embed="rId1"/>
          <a:stretch/>
        </p:blipFill>
        <p:spPr>
          <a:xfrm>
            <a:off x="539640" y="189000"/>
            <a:ext cx="3592800" cy="46800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12" descr="01300000271069124245633229650"/>
          <p:cNvPicPr/>
          <p:nvPr/>
        </p:nvPicPr>
        <p:blipFill>
          <a:blip r:embed="rId2"/>
          <a:stretch/>
        </p:blipFill>
        <p:spPr>
          <a:xfrm>
            <a:off x="4427640" y="189000"/>
            <a:ext cx="345744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2T02:35:50Z</dcterms:created>
  <dc:creator> </dc:creator>
  <dc:description> </dc:description>
  <cp:keywords/>
  <dc:language>en-US</dc:language>
  <cp:lastModifiedBy>Bonny</cp:lastModifiedBy>
  <cp:lastPrinted>1899-12-30T00:00:00Z</cp:lastPrinted>
  <dcterms:modified xsi:type="dcterms:W3CDTF">2015-05-25T02:34:58Z</dcterms:modified>
  <cp:revision>2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089</vt:lpwstr>
  </property>
</Properties>
</file>