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8BC-7866-4B91-914D-F0770948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51B-6C08-43E7-B483-2746EE4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81079-74A0-4CDE-8212-E0EA5645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AD9F5-9ECB-49C5-A7CB-70C8C24D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47C1E-9616-4570-9D53-917D20C2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C7BA5-8BE1-48BD-8F54-BE6AF016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2685F-549D-436B-8579-622863B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312A5-4ABC-4715-A79E-C80B1D83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88493-2A5E-4214-82E2-F24C1DEF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41AD4-605A-42FA-9D33-DE912ACE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2E10D-613A-4CCB-9FB4-873C3EA8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1C764-1148-41BE-88D0-188066C8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F98-2A66-40AF-BA3A-0BDEF8F5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3F24D-4106-4D76-A37E-6640051A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1A855-A1B3-4B89-BA16-A4247067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6D072-1CE6-4F7A-B2D3-7699323E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6DE2F-A1F3-4D65-8D1C-1F48DBA2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F965A-753B-47D2-BF27-9505033E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9D622-7A46-468A-A2B7-4D0016E7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37CA3-E128-4978-878E-D430B10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C3872-B4CF-43D2-AD47-4A1C807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09EB6-A497-41B3-A60C-E37B26AF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09B59-DA7F-48A9-8778-86D6D038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44F-B9C5-4F4D-9795-F022F9BB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9DEBC-2228-4A18-B2F9-5425B7D9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842A0-C146-4E1D-9AC2-4C601011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C22FA-E2F7-417E-8A01-7D0FA49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60BEF-FDE5-4811-B776-3D9D0638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AA05E-F11F-46E7-BE3B-12C333E5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CA79F-D732-449E-9C17-CA18506C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DE66C-CCCA-48AB-8EE7-8319462B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CCC7E-6858-44A8-9126-47E84E29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78CDE-C2F4-4134-956D-38597029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7AC74-6DB5-40F0-A3BF-834C8DE5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7930-AB07-4486-B586-321AEBF7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8C780-4082-440B-AEAD-C3127F54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C48C-4B17-4F9C-9C9E-90F10168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0842E-9BBF-4D7B-BA12-FFDD4D99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3766D-A249-41CC-B4F7-F2E2C68C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FEAB4-19CA-4AD2-98D7-CE1265FD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0DEFA-1313-4519-8847-E30ED77A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7C955-D3DC-4794-9CE9-231BBEF6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67504-BD1E-4415-BCDA-EF68E9AE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ABEB2-E5A9-4A33-8439-ACE12D9C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07291-C617-4315-898E-5C54E7F1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6CE4-E48F-44B7-8531-19A718E7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E1D5A-EA0D-48C5-A839-46CF44D3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8BB97-2586-4A76-8DDB-C0598CF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286D9-168E-462C-A1DB-1A2D0CB7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8FAE3-A655-4A1C-9FF9-7BF33340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F7ADE-6BEE-4C1E-BBB8-41D471B3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4D0E-ADF1-4F86-B668-71BC9AB3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3394-40EC-45F0-B951-277E11E9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F88D-88DC-423F-9DD8-9C21DFB0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C830-328F-42E0-8926-1FF4774C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C2E-BC2E-4F5A-BD43-16AFA62D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916-112B-46C8-9ED1-26E56630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03A2-39AB-401F-9857-269619AC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ECD8-3173-46C8-BF75-AABEE7AA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109E-29D9-4303-9CCD-1DE0B0D1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D390-4A98-4717-B88A-37217101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BC87-C13F-4B82-9BBC-FC835F23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C30A-9825-40A1-BB18-31EA7BE0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3332-A1A7-4DE1-ADB9-86B89C58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ABC5-C99B-4F8B-B120-C7DD203F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51FD-FC4D-40F8-9E12-A1E0F211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500A-C1C6-4B47-A317-9735DF64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F22-88D4-4A14-A123-8E1F1301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0CDF-4B32-4483-ABAA-E49B589C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A36D-8BD7-4228-954B-D4C3BFF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B308-9089-4264-B15D-9093C3D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4434-1644-4310-B288-525E6319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154D7-8D37-4211-9ECC-A2ED187F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17A40-90D2-485C-B6D6-2A3A2A5A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2B9D-C32F-46CD-BC50-CAA68A6F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C0BE-0522-4B88-B44E-10D73502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9B40-E9BC-4F5B-89F5-819ED60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81F08-2F8C-44D4-A325-A049ADB3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012-5364-4456-8286-01E5A77B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3E29-2058-4B9B-A94C-42A6AA4A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DCC28-E947-4267-A306-789D9A4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F539-A301-4B49-A191-7FD6E291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88C4-C08E-4FDE-8CD4-C762D231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96BE-52F4-41F1-BAE0-B74B73FE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734D-0925-4A7C-A455-E55B757D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88420-A3F1-42F9-9295-FD75F4EF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506B-36B3-4410-BDF9-E2451BE3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80F2-02FA-44EC-93F3-0C453D1A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8BAA2-EB29-4890-9E20-2E5FD837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93B-B2DD-4B06-986A-1A5807AD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210D-08A2-49E2-9587-4830080F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02F14-15EF-4766-9E0B-0BA36ED3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EC805-DF55-4EA1-B6EB-4FC0CBD1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1F7A1-F811-45EE-A1A7-505DE90B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0E3FE-3CA1-450C-8D92-B2E919B0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2A3F9-EF34-47BB-B5E6-D21B13F1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8E4C-40C8-4E2F-9B5E-B11A40D5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4D368-5215-42C1-B25C-100C825F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7FDE9-03CE-4FE8-9102-52D60B4F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62656-2324-4A10-BC5D-264346AC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555-EA24-4868-9CAB-B847CA2E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0C8BC-BA54-4F4D-B67D-02FDC645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5684-9283-4A3F-96C8-04C68F9A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F352-EE48-4AC9-8C1D-E0550776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6107-41F2-4ADB-9704-2DCF4459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A2B9-F6E8-485B-949F-07A3F4EC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4DDE0-F2BA-45E1-B895-49F431F7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C69FB-3932-4733-96A5-AD446F37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AC48-2E85-45FB-8E23-DC91F83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45190-FF4A-4309-AF00-5D0DB4D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6AFB0-3286-43B2-908F-83669C60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B02-0143-441A-AAED-1AE09E30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6761B-1F37-4215-B31B-C3ADAE7D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FD8B-35A1-4AFF-9462-8DD6956F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8CC86-F91F-4C0E-B881-0102EE98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2618-A62B-4122-B2AF-B95F10CA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753B-CF04-400F-AC29-4FD23F6A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8CB1-A7D3-4EF1-BD80-7D339AEA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659D5-6BCC-4A27-927D-2E5EDA52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1E0B0-0371-4447-8451-4D19A826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D1D0A-9DEB-4940-9E7D-E6791211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1C4B-68C5-4886-9FC4-3B35348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67D-3D42-4EC4-B84F-29718CCE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815FF-59B5-4109-99A1-0FCB2B3A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005C1-AFD7-4EEC-A46D-75D59B24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D01B-7A6C-4D22-8FD1-C8EDD5C9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5378B-0BB7-41A3-B6D7-FF1D94F9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F9E8-AE69-40DF-BB71-4F22A913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B721E-9B82-4233-8BBD-AE7C9997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3177A-17B2-41C2-AA26-2D60CAAA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7CF4F-4440-496B-807A-CAA6C35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1016C-EC98-470A-A777-02B891E7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CF10A-1466-4BE3-A2AC-EC57E62A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7B0-E8CD-410B-A397-7CBC922B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F701C-6D6B-4920-A0F2-1DC842F6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8DE5-BBB3-4EDC-8FBF-EBC3C85C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8D400-99E4-480F-B22D-C5F9E665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D8E2E-B56B-41ED-AE35-184E647B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65507-4C8C-4704-8320-EAD1B83B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600B0-C8B2-477C-BD64-492E152C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1D001-3628-4FFA-9075-39E74062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9B1C4-DD7C-4711-AC10-71CF7F94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7C732-6496-401E-8A3B-C5CEC772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2212D-8BAD-45D0-8F1D-1A926553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02EC-735B-4436-9083-20ADDB0C8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B458-1F54-448E-A620-8BE147486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F2DA-4A81-4FF4-80C9-28CCFD28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82E1-D391-49C8-8256-94D5F6FA4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5812-7460-456A-BA8C-5A8DA7F8F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610-A16F-435C-9463-6B1FE4025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2EF0-AE9C-4585-AD75-F915C6169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E875-40A3-4B76-B2FA-64559BEB8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D265-3B82-4F6F-A80C-3DFEF6E63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6FEF-E187-48A7-BFB3-CDFFAD132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26D3-B57F-428E-86F3-594EC1E75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B5F4-B93A-4F8F-8CFE-B5928CCF5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5" descr="连环画--夸父追日(远古神话故事)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C06348717"/>
          <p:cNvPicPr/>
          <p:nvPr/>
        </p:nvPicPr>
        <p:blipFill>
          <a:blip r:embed="rId1"/>
          <a:srcRect l="0" t="0" r="0" b="12503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5" descr="C18597070"/>
          <p:cNvPicPr/>
          <p:nvPr/>
        </p:nvPicPr>
        <p:blipFill>
          <a:blip r:embed="rId1"/>
          <a:srcRect l="0" t="0" r="0" b="4192"/>
          <a:stretch/>
        </p:blipFill>
        <p:spPr>
          <a:xfrm>
            <a:off x="0" y="46080"/>
            <a:ext cx="914400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C89032626"/>
          <p:cNvPicPr/>
          <p:nvPr/>
        </p:nvPicPr>
        <p:blipFill>
          <a:blip r:embed="rId1"/>
          <a:srcRect l="0" t="0" r="0" b="4165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查找下列词语的意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泽   轰鸣    情不自禁    精疲力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顷   巍然    无济于事    惊天动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屹立   袭来    硕果累累    枝繁叶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C41283595"/>
          <p:cNvPicPr/>
          <p:nvPr/>
        </p:nvPicPr>
        <p:blipFill>
          <a:blip r:embed="rId1"/>
          <a:srcRect l="0" t="0" r="0" b="4165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" descr="1202805321_4kfbtdzyzelzgygcjklpkhsjkllyjjdtxlyzzglzjkljyzstylrmdshjhxf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5" descr="df43a26589f430eef63654e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20071021022536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06031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</a:rPr>
              <a:t>同学们，我们还听过哪些神话故事？让我们一起来看看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C64719282"/>
          <p:cNvPicPr/>
          <p:nvPr/>
        </p:nvPicPr>
        <p:blipFill>
          <a:blip r:embed="rId1"/>
          <a:srcRect l="0" t="0" r="0" b="4165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3:54:57Z</dcterms:created>
  <dc:creator> </dc:creator>
  <dc:description> </dc:description>
  <cp:keywords/>
  <dc:language>en-US</dc:language>
  <cp:lastModifiedBy>Bonny</cp:lastModifiedBy>
  <dcterms:modified xsi:type="dcterms:W3CDTF">2015-05-25T02:38:47Z</dcterms:modified>
  <cp:revision>2</cp:revision>
  <dc:subject> </dc:subject>
  <dc:title> </dc:title>
</cp:coreProperties>
</file>