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583-7EA5-41A3-B9D2-2AD2A964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C2C9-9378-453C-8137-FBB9EBF6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97F-DEC6-4731-A33C-AB7F2737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2EE-3173-49A3-A36B-9B573459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2D32-06A0-4EE1-A62F-C84167F4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4AF9-253A-4F65-9D52-90FF0DDA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B569-E635-42CC-916E-7EBAEAA6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E76E-0F73-4DD6-977E-B4D9E740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119B-0D04-44AE-B056-8ADFF652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D21D-081E-4603-B67E-C44B2C47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1BED-E83C-4883-A59F-DFE190CA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0EB-4D48-491C-9871-A34EFECB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ADBC-D67E-43C5-B8B3-FF971FE7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E067-C196-4B90-8C14-1BB2AE74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91FB-DD77-4DE5-8E81-3846DF2E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0FE8-4946-439E-8FA5-D7BE9071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4909-EE60-4615-BC99-DE0D3371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17E-0C78-43B6-BB87-561651A8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C30-2200-486C-A6D3-563C1743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87D-A1F1-4474-BA15-1CCEE1C1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85D-245D-448C-B145-42B8C1A2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4FB3-8873-47C9-BA10-E804B260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24B-7AD7-47E1-8678-E18ACA76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B77F-51DE-49A7-8327-D164230D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5DFA-B2AC-4DD3-A6B2-2DAECF5995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E2B6-6338-4677-BD21-02A5036C6A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-575640" y="304920"/>
            <a:ext cx="28616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幼圆"/>
              </a:rPr>
              <a:t>最佳路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接到催促电报，他心里更加焦躁。巴黎的庆典一结束，他就让司机驾车带他去了地中海海滨。他想清理一下思绪，争取在回国前把方案定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2"/>
          <p:cNvGrpSpPr/>
          <p:nvPr/>
        </p:nvGrpSpPr>
        <p:grpSpPr>
          <a:xfrm>
            <a:off x="685800" y="3352680"/>
            <a:ext cx="685800" cy="76320"/>
            <a:chOff x="685800" y="3352680"/>
            <a:chExt cx="685800" cy="76320"/>
          </a:xfrm>
        </p:grpSpPr>
        <p:sp>
          <p:nvSpPr>
            <p:cNvPr id="226" name="Oval 9"/>
            <p:cNvSpPr/>
            <p:nvPr/>
          </p:nvSpPr>
          <p:spPr>
            <a:xfrm>
              <a:off x="685800" y="33526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0"/>
            <p:cNvSpPr/>
            <p:nvPr/>
          </p:nvSpPr>
          <p:spPr>
            <a:xfrm>
              <a:off x="1295280" y="33526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3"/>
          <p:cNvGrpSpPr/>
          <p:nvPr/>
        </p:nvGrpSpPr>
        <p:grpSpPr>
          <a:xfrm>
            <a:off x="6858000" y="2438280"/>
            <a:ext cx="685800" cy="76320"/>
            <a:chOff x="6858000" y="2438280"/>
            <a:chExt cx="685800" cy="76320"/>
          </a:xfrm>
        </p:grpSpPr>
        <p:sp>
          <p:nvSpPr>
            <p:cNvPr id="229" name="Oval 14"/>
            <p:cNvSpPr/>
            <p:nvPr/>
          </p:nvSpPr>
          <p:spPr>
            <a:xfrm>
              <a:off x="6858000" y="243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7467480" y="2438280"/>
              <a:ext cx="763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ICT0231_ChaxSywvjJnC"/>
          <p:cNvPicPr/>
          <p:nvPr/>
        </p:nvPicPr>
        <p:blipFill>
          <a:blip r:embed="rId1"/>
          <a:srcRect l="0" t="0" r="0" b="7388"/>
          <a:stretch/>
        </p:blipFill>
        <p:spPr>
          <a:xfrm>
            <a:off x="0" y="9360"/>
            <a:ext cx="9325080" cy="64677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295280" y="53352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Verdana"/>
                <a:ea typeface="隶书"/>
              </a:rPr>
              <a:t>6</a:t>
            </a:r>
            <a:r>
              <a:rPr b="1" lang="zh-CN" sz="8000" spc="-1" strike="noStrike">
                <a:solidFill>
                  <a:srgbClr val="00ff00"/>
                </a:solidFill>
                <a:latin typeface="Verdana"/>
                <a:ea typeface="隶书"/>
              </a:rPr>
              <a:t>、最佳路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6d507b27b6af9409918f9daa"/>
          <p:cNvPicPr/>
          <p:nvPr/>
        </p:nvPicPr>
        <p:blipFill>
          <a:blip r:embed="rId1"/>
          <a:srcRect l="0" t="0" r="0" b="185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1143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6668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1911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5638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1629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斯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6668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稿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1911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催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715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海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162920" y="4464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遍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295280" y="2209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7432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ɡǎ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2670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u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57150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ī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71629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i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认一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2" descr="笔１"/>
          <p:cNvPicPr/>
          <p:nvPr/>
        </p:nvPicPr>
        <p:blipFill>
          <a:blip r:embed="rId2"/>
          <a:stretch/>
        </p:blipFill>
        <p:spPr>
          <a:xfrm>
            <a:off x="990720" y="838080"/>
            <a:ext cx="12697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6d507b27b6af9409918f9daa"/>
          <p:cNvPicPr/>
          <p:nvPr/>
        </p:nvPicPr>
        <p:blipFill>
          <a:blip r:embed="rId1"/>
          <a:srcRect l="0" t="0" r="0" b="185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114300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26668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1911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638680" y="3124080"/>
            <a:ext cx="12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7162920" y="312408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黑体"/>
              </a:rPr>
              <a:t>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114300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拐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26668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选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419112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启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5638680" y="4419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踩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7162920" y="4464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狭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143000" y="22096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ɡ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u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8195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434340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q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5638680" y="22096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7162920" y="22096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8"/>
          <p:cNvSpPr/>
          <p:nvPr/>
        </p:nvSpPr>
        <p:spPr>
          <a:xfrm>
            <a:off x="1143000" y="30481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1143000" y="213372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1066680" y="42670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2286000" y="9907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认一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2" descr="笔１"/>
          <p:cNvPicPr/>
          <p:nvPr/>
        </p:nvPicPr>
        <p:blipFill>
          <a:blip r:embed="rId2"/>
          <a:stretch/>
        </p:blipFill>
        <p:spPr>
          <a:xfrm>
            <a:off x="990720" y="838080"/>
            <a:ext cx="12697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533520" y="484200"/>
            <a:ext cx="83055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格罗培斯  定稿 攻克  海滨  微不足道  催促 焦躁  清理大伤脑筋  思绪 奔驰  吆喝   优雅自然  覆盖 绵延  痕迹精心施工  漫山遍野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4665600" cy="5832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0862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330066"/>
                </a:solidFill>
                <a:latin typeface="Arial"/>
                <a:ea typeface="黑体"/>
              </a:rPr>
              <a:t>　　格罗培斯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6d507b27b6af9409918f9daa"/>
          <p:cNvPicPr/>
          <p:nvPr/>
        </p:nvPicPr>
        <p:blipFill>
          <a:blip r:embed="rId1"/>
          <a:srcRect l="0" t="0" r="0" b="18518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457200" y="1676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0" lang="zh-CN" sz="3600" spc="-1" strike="noStrike">
                <a:solidFill>
                  <a:srgbClr val="003300"/>
                </a:solidFill>
                <a:latin typeface="Arial"/>
                <a:ea typeface="华文中宋"/>
              </a:rPr>
              <a:t>格罗培斯的迪斯尼乐园路径设计被评为世界最佳设计，这是为什么？它与法国南部农民卖葡萄有什么联系？让我们走进这个故事来了解前因后果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6d507b27b6af9409918f9daa"/>
          <p:cNvPicPr/>
          <p:nvPr/>
        </p:nvPicPr>
        <p:blipFill>
          <a:blip r:embed="rId1"/>
          <a:srcRect l="0" t="0" r="0" b="18518"/>
          <a:stretch/>
        </p:blipFill>
        <p:spPr>
          <a:xfrm>
            <a:off x="152280" y="609480"/>
            <a:ext cx="8839440" cy="5943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533520" y="838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自由读课文第一自然段，想一想：故事的起因是什么？在文中画出相关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90720" y="28954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华文中宋"/>
              </a:rPr>
              <a:t>世界建筑大师格罗培斯设计的迪斯尼乐园，经过３年的精心施工，马上就要对外开放了，然而各景点之间的道路该怎样设计还没有具体的方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4724280" y="5257800"/>
            <a:ext cx="3581640" cy="762120"/>
          </a:xfrm>
          <a:prstGeom prst="irregularSeal2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209680" y="380520"/>
            <a:ext cx="5943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5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格罗培斯从事建筑研究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多年，攻克过无数个建筑方面的难题，然而建筑学中最微不足道的一点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路径设计却让他大伤脑筋。对迪斯尼乐园各景点之间的道路安排，他已修改了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多次，没有一次是让他满意的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990720" y="7621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660033"/>
                </a:solidFill>
                <a:uFillTx/>
                <a:latin typeface="Arial"/>
              </a:rPr>
              <a:t>工作时间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629400" y="7621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· 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4800600" y="23623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· · 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343400" y="236232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396252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· 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5410080" y="457200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· · 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914400" y="5791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阅读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105520" y="3048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· · 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990720" y="15238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660033"/>
                </a:solidFill>
                <a:uFillTx/>
                <a:latin typeface="Arial"/>
              </a:rPr>
              <a:t>攻克难题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914400" y="22860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660033"/>
                </a:solidFill>
                <a:uFillTx/>
                <a:latin typeface="Arial"/>
              </a:rPr>
              <a:t>设计路径不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914400" y="4495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660033"/>
                </a:solidFill>
                <a:uFillTx/>
                <a:latin typeface="Arial"/>
              </a:rPr>
              <a:t>修改次数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251460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、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3505320" y="5867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、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4724280" y="5867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、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5867280" y="5867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、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3657600" y="16002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· · 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914400" y="30481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660033"/>
                </a:solidFill>
                <a:uFillTx/>
                <a:latin typeface="Arial"/>
              </a:rPr>
              <a:t>感到很困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18360" y="685800"/>
            <a:ext cx="91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经验丰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232920" y="2819520"/>
            <a:ext cx="606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精益求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304920" y="50292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660033"/>
                </a:solidFill>
                <a:uFillTx/>
                <a:latin typeface="Arial"/>
              </a:rPr>
              <a:t>没有满意的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5-07-21T01:58:15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