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1BD-482A-4A75-BA72-548813E8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3D0F-3151-4320-A4CE-4965F920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882-9504-487C-B690-4A1A6DF3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317-2AEC-4BCC-9B50-16BD7FEA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0AAB-5819-4BD0-ACAE-E58E3105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7311-E45B-4918-9F36-58D485C1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9653-A36C-42E3-BF53-2C0C4AD1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3484-0424-4A5D-9619-CE633484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4E27-FA46-43F9-8A5F-ECC8923E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A760-B751-4524-B714-93DC59A0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EE7C-6DC4-4661-BB41-BEB763BC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E1B-331D-4175-9B56-3E2BC86A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A4C2-09F5-4FF5-8E3C-BF6F64CF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22EB-6B50-49CD-B470-A39E4636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3749-19AE-424F-AF42-5C64EFA7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2C26-3535-4521-AC89-EA9AC587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44C6-A81A-4462-9755-0AC95A18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443E-3642-4E21-850A-9B860254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5EC-2B76-4710-9D4F-498DE86F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2C5A-94E3-497B-89DF-7AC36582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4D2-6620-4006-B075-30D1947B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F57E-ACD0-4237-84AA-CC7F9DD0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A5B2-8E62-46FD-AED1-8D5246F3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BCC-58A7-4007-9CB9-FB0BAB72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678D-2F56-4164-A588-54DAEA68ED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CAEC-6FB4-49C0-8146-CCEE5161A6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6d507b27b6af9409918f9daa"/>
          <p:cNvPicPr/>
          <p:nvPr/>
        </p:nvPicPr>
        <p:blipFill>
          <a:blip r:embed="rId1"/>
          <a:srcRect l="0" t="0" r="0" b="18518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304920" y="15238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　　正当认真、负责的格罗培斯感到困惑时，忽然</a:t>
            </a:r>
            <a:r>
              <a:rPr b="0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山穷水尽疑无路，柳暗花明又一村。</a:t>
            </a:r>
            <a:r>
              <a:rPr b="0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他从法国南部一个卖葡萄的老太太身上受到启发，想出了办法。他受到什么启发呢？请同学们接着往下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915dsnqj"/>
          <p:cNvPicPr/>
          <p:nvPr/>
        </p:nvPicPr>
        <p:blipFill>
          <a:blip r:embed="rId1"/>
          <a:stretch/>
        </p:blipFill>
        <p:spPr>
          <a:xfrm>
            <a:off x="380880" y="47520"/>
            <a:ext cx="876312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3366ff"/>
                </a:solidFill>
                <a:latin typeface="Arial"/>
                <a:ea typeface="隶书"/>
              </a:rPr>
              <a:t>迪斯尼乐园的路径设计之所以评为最佳路径：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理由一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理由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理由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280" y="1887480"/>
            <a:ext cx="800100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900" spc="-1" strike="noStrike">
                <a:solidFill>
                  <a:srgbClr val="000000"/>
                </a:solidFill>
                <a:latin typeface="Arial"/>
                <a:ea typeface="华文新魏"/>
              </a:rPr>
              <a:t>格罗培斯的迪尼斯乐园路径设计被评为世界最佳设计奖，它与法国南部农民卖葡萄有什么联系？</a:t>
            </a:r>
            <a:r>
              <a:rPr b="0" lang="zh-CN" sz="4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330066"/>
                </a:solidFill>
                <a:latin typeface="Arial"/>
                <a:ea typeface="黑体"/>
              </a:rPr>
              <a:t>　　　　　　颁奖词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世界建筑大师之所以伟大，不仅因为他有精湛的艺术，创新的思维。还因为他那种精益求精的精神，更表现在他尊重他人，为人着想的人本思想。  我们感谢格罗培斯，他送给了我们一个道理：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有的时候，不知怎么办时，给人自由，任其选择，也许就是最佳路径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b8nwi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228600" y="152280"/>
            <a:ext cx="8686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世上本没有路，走的人多了，也就成了路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------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鲁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7363800" y="2057400"/>
            <a:ext cx="1399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适合的才是最好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7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1484280"/>
            <a:ext cx="17559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我们附近有一个林场，一条公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从林场穿过，过往的人比较喜欢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林场停车，购买摘放在路边的西瓜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他们都说这儿的西瓜最甜，最新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如果你是瓜地的主人，你还会如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再改进一下销售方法，让西瓜卖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更多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图片4"/>
          <p:cNvPicPr/>
          <p:nvPr/>
        </p:nvPicPr>
        <p:blipFill>
          <a:blip r:embed="rId1"/>
          <a:stretch/>
        </p:blipFill>
        <p:spPr>
          <a:xfrm>
            <a:off x="0" y="-68580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95280" y="2060640"/>
          <a:ext cx="8497800" cy="2736720"/>
        </p:xfrm>
        <a:graphic>
          <a:graphicData uri="http://schemas.openxmlformats.org/drawingml/2006/table">
            <a:tbl>
              <a:tblPr/>
              <a:tblGrid>
                <a:gridCol w="3024360"/>
                <a:gridCol w="2952720"/>
                <a:gridCol w="2520720"/>
              </a:tblGrid>
              <a:tr h="93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人   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做   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结   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许多园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年迈的老太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 Box 20"/>
          <p:cNvSpPr/>
          <p:nvPr/>
        </p:nvSpPr>
        <p:spPr>
          <a:xfrm>
            <a:off x="1509120" y="836640"/>
            <a:ext cx="58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默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~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然段，完成下面的表格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611280" y="4437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如果是你，你愿意买谁的葡萄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3708360" y="3141720"/>
            <a:ext cx="23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摘  提  吆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6588000" y="314172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很少停下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370836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5"/>
          <p:cNvSpPr/>
          <p:nvPr/>
        </p:nvSpPr>
        <p:spPr>
          <a:xfrm>
            <a:off x="3705120" y="4005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人看管  投  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7071120" y="4024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最先卖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81532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汽车在法国南部的乡间公路上奔驰，这儿是法国著名的葡萄产区，漫山遍野都是当地农民的葡萄园。一路上，他看到许多葡萄园主把摘下来的葡萄提到路边，向过往的车辆和行人吆喝，但却很少有停下来的。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81532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汽车在法国南部的乡间公路上奔驰，这儿是法国著名的葡萄产区，漫山遍野都是当地农民的葡萄园。一路上，他看到许多葡萄园主把摘下来的葡萄提到路边，向过往的车辆和行人吆喝，但却很少有停下来的。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533520" y="2819520"/>
            <a:ext cx="716256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4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1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4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7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1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7"/>
          <p:cNvSpPr/>
          <p:nvPr/>
        </p:nvSpPr>
        <p:spPr>
          <a:xfrm>
            <a:off x="457200" y="3429000"/>
            <a:ext cx="716292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0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3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6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9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2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8"/>
          <p:cNvSpPr/>
          <p:nvPr/>
        </p:nvSpPr>
        <p:spPr>
          <a:xfrm>
            <a:off x="457200" y="3962520"/>
            <a:ext cx="716292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9"/>
          <p:cNvSpPr/>
          <p:nvPr/>
        </p:nvSpPr>
        <p:spPr>
          <a:xfrm>
            <a:off x="533520" y="2819520"/>
            <a:ext cx="716256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0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1"/>
          <p:cNvSpPr/>
          <p:nvPr/>
        </p:nvSpPr>
        <p:spPr>
          <a:xfrm>
            <a:off x="457200" y="3429000"/>
            <a:ext cx="716292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2"/>
          <p:cNvSpPr/>
          <p:nvPr/>
        </p:nvSpPr>
        <p:spPr>
          <a:xfrm>
            <a:off x="533520" y="2819520"/>
            <a:ext cx="716256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3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4"/>
          <p:cNvSpPr/>
          <p:nvPr/>
        </p:nvSpPr>
        <p:spPr>
          <a:xfrm>
            <a:off x="457200" y="3962520"/>
            <a:ext cx="716292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5"/>
          <p:cNvSpPr/>
          <p:nvPr/>
        </p:nvSpPr>
        <p:spPr>
          <a:xfrm>
            <a:off x="457200" y="3429000"/>
            <a:ext cx="716292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6"/>
          <p:cNvSpPr/>
          <p:nvPr/>
        </p:nvSpPr>
        <p:spPr>
          <a:xfrm>
            <a:off x="533520" y="2819520"/>
            <a:ext cx="716256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7"/>
          <p:cNvSpPr/>
          <p:nvPr/>
        </p:nvSpPr>
        <p:spPr>
          <a:xfrm>
            <a:off x="6858000" y="228600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82"/>
          <p:cNvGrpSpPr/>
          <p:nvPr/>
        </p:nvGrpSpPr>
        <p:grpSpPr>
          <a:xfrm>
            <a:off x="457200" y="2286000"/>
            <a:ext cx="7315200" cy="1752480"/>
            <a:chOff x="457200" y="2286000"/>
            <a:chExt cx="7315200" cy="1752480"/>
          </a:xfrm>
        </p:grpSpPr>
        <p:sp>
          <p:nvSpPr>
            <p:cNvPr id="186" name="Line 78"/>
            <p:cNvSpPr/>
            <p:nvPr/>
          </p:nvSpPr>
          <p:spPr>
            <a:xfrm>
              <a:off x="457200" y="3962520"/>
              <a:ext cx="7162920" cy="7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79"/>
            <p:cNvSpPr/>
            <p:nvPr/>
          </p:nvSpPr>
          <p:spPr>
            <a:xfrm>
              <a:off x="457200" y="3429000"/>
              <a:ext cx="7162920" cy="76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0"/>
            <p:cNvSpPr/>
            <p:nvPr/>
          </p:nvSpPr>
          <p:spPr>
            <a:xfrm>
              <a:off x="533520" y="2819520"/>
              <a:ext cx="7162560" cy="7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81"/>
            <p:cNvSpPr/>
            <p:nvPr/>
          </p:nvSpPr>
          <p:spPr>
            <a:xfrm>
              <a:off x="6858000" y="2286000"/>
              <a:ext cx="914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-22896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他们车子拐入一个小山谷时，却发现那儿停着许多车子。原来这儿是一个无人看管的葡萄园，你只要在路旁的箱子里投入五法郎，就可以摘一篮葡萄上路。据说这是一位老太太的葡萄园，她因年迈无力料理而想出这个办法，起初她还担心这种办法是否能卖出葡萄，谁知在这绵延上百里的葡萄产区，总是她的葡萄最先卖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3"/>
          <p:cNvSpPr/>
          <p:nvPr/>
        </p:nvSpPr>
        <p:spPr>
          <a:xfrm>
            <a:off x="304920" y="312408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44"/>
          <p:cNvSpPr/>
          <p:nvPr/>
        </p:nvSpPr>
        <p:spPr>
          <a:xfrm>
            <a:off x="1371600" y="4724280"/>
            <a:ext cx="678168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5"/>
          <p:cNvSpPr/>
          <p:nvPr/>
        </p:nvSpPr>
        <p:spPr>
          <a:xfrm>
            <a:off x="304920" y="5334120"/>
            <a:ext cx="3657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8"/>
          <p:cNvSpPr/>
          <p:nvPr/>
        </p:nvSpPr>
        <p:spPr>
          <a:xfrm>
            <a:off x="5105520" y="152388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5"/>
          <p:cNvSpPr/>
          <p:nvPr/>
        </p:nvSpPr>
        <p:spPr>
          <a:xfrm>
            <a:off x="304920" y="2057400"/>
            <a:ext cx="7696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16"/>
          <p:cNvSpPr/>
          <p:nvPr/>
        </p:nvSpPr>
        <p:spPr>
          <a:xfrm>
            <a:off x="380880" y="2590920"/>
            <a:ext cx="7696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762120" y="1447560"/>
            <a:ext cx="72388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这种给人自由，任其选择的做法使大师深受启发。他下车摘了一篮葡萄，就让司机调转车头，立即返回了巴黎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3505320" y="175248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·  ·  ·  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6"/>
          <p:cNvSpPr/>
          <p:nvPr/>
        </p:nvSpPr>
        <p:spPr>
          <a:xfrm>
            <a:off x="5791320" y="1752480"/>
            <a:ext cx="236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·  ·  ·  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3886200" y="228600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·  ·  ·  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304920" y="1676520"/>
            <a:ext cx="458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323280" y="1447920"/>
            <a:ext cx="91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勤于观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-133920" y="1523880"/>
            <a:ext cx="91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勤于思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1600200" y="58356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启示：给人自由，任其选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7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910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12" autoRev="1" fill="hold">
                                          <p:stCondLst>
                                            <p:cond delay="91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72" fill="hold">
                                          <p:stCondLst>
                                            <p:cond delay="172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-22896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他们车子拐入一个小山谷时，却发现那儿停着许多车子。原来这儿是一个无人看管的葡萄园，你只要在路旁的箱子里投入五法郎，就可以摘一篮葡萄上路。据说这是一位老太太的葡萄园，她因年迈无力料理而想出这个办法，起初她还担心这种办法是否能卖出葡萄，谁知在这绵延上百里的葡萄产区，总是她的葡萄最先卖完。她这种给人自由，任其选择的做法使大师深受启发。他下车摘了一篮葡萄，就让司机调转车头，立即返回了巴黎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3"/>
          <p:cNvSpPr/>
          <p:nvPr/>
        </p:nvSpPr>
        <p:spPr>
          <a:xfrm flipH="1">
            <a:off x="5714640" y="1828800"/>
            <a:ext cx="15228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4"/>
          <p:cNvSpPr/>
          <p:nvPr/>
        </p:nvSpPr>
        <p:spPr>
          <a:xfrm flipH="1">
            <a:off x="5333760" y="3886200"/>
            <a:ext cx="15228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"/>
          <p:cNvSpPr/>
          <p:nvPr/>
        </p:nvSpPr>
        <p:spPr>
          <a:xfrm flipH="1">
            <a:off x="2514240" y="5334120"/>
            <a:ext cx="15228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eamsummit</cp:lastModifiedBy>
  <dcterms:modified xsi:type="dcterms:W3CDTF">2015-07-21T01:59:1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