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587-B04E-449F-95EE-CACD0AA4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6E5-8AD1-46F1-9C02-88202E03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7C2-C578-488E-BAA7-4299A328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B77-6974-441E-9F11-60BB8703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2FA-AC16-42A6-B958-AA672303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F7E-6B58-4F3E-8E69-1A05DF5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545-778F-4EFF-8377-5546F425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06F-0C68-4948-94A5-1AA4E63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F3F-4A8E-4E33-B3D5-EE1DC00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1F7-F4F9-4240-84A4-21F28FB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C71-35F9-464D-AAD8-D7DB99E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98B-570D-4AC6-A969-9D433EF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3C7-EC46-43B8-B2C8-AA6588233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3"/>
          <p:cNvPicPr/>
          <p:nvPr/>
        </p:nvPicPr>
        <p:blipFill>
          <a:blip r:embed="rId1"/>
          <a:stretch/>
        </p:blipFill>
        <p:spPr>
          <a:xfrm>
            <a:off x="285840" y="222120"/>
            <a:ext cx="8353440" cy="6635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097040" y="-1138320"/>
            <a:ext cx="1704240" cy="87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ff00"/>
                </a:solidFill>
                <a:latin typeface="Times New Roman"/>
                <a:ea typeface="隶书"/>
              </a:rPr>
              <a:t>三借芭蕉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0" y="2205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i="1" lang="zh-CN" sz="4000" spc="-1" strike="noStrike">
                <a:solidFill>
                  <a:srgbClr val="0066ff"/>
                </a:solidFill>
                <a:latin typeface="宋体"/>
              </a:rPr>
              <a:t>孙悟空双手叉腰，伸着头说：“任嫂子砍吧，只要肯借我扇子。”铁扇公主朝孙悟空头上乒乒乓乓一连砍了几十下，可是孙悟空连半根毫毛都没掉</a:t>
            </a:r>
            <a:r>
              <a:rPr b="1" i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7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孙悟空变作一只芝麻大的小飞虫，从门缝里钻了进去，落到茶杯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378936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9640" y="3860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8360" y="32846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孙悟空在铁扇公主的肚子里，双脚往下一蹬，头往上一顶，疼得铁扇公主直打滚，大叫饶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856560" y="1978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082658ygkz3hwgw7qnbhiq"/>
          <p:cNvPicPr/>
          <p:nvPr/>
        </p:nvPicPr>
        <p:blipFill>
          <a:blip r:embed="rId1"/>
          <a:srcRect l="0" t="0" r="0" b="6001"/>
          <a:stretch/>
        </p:blipFill>
        <p:spPr>
          <a:xfrm>
            <a:off x="428760" y="428760"/>
            <a:ext cx="8245440" cy="5929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4071960"/>
            <a:ext cx="907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他对着火焰举起芭蕉扇使劲儿一扇，可是火苗却熊熊腾起；再一扇，火势增大百倍；又一扇，烈火竟蹿起千长高，把自己的屁股上的毫毛都烧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86220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初练复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263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人小组，像说故事一样来练习复述“一借”过程，要求把过程说清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395280" y="549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练复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242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人小组，再练习复述“一借”过程，要求不仅把过程说清楚，还可以加上人物的表情、相关的细节，把内容说得更生动、更精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84360" y="90792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孙悟空  沙和尚  唐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定风丹     腾云驾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寸草不生   乒乒乓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毫毛   吉祥   芝麻   竟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884520" y="1163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自读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齐读一、二自然段，划出介绍孙悟空一定要借芭蕉扇原因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916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一打听，原来这里有一座火焰山，方圆好几百里，常年呼呼冒着大火，周围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寸草不生</a:t>
            </a: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。要去西天，非得过火焰山不可。可是，在熊熊的大火里，就是铜脑袋、铁身子，也会融化。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无标题"/>
          <p:cNvPicPr/>
          <p:nvPr/>
        </p:nvPicPr>
        <p:blipFill>
          <a:blip r:embed="rId1"/>
          <a:srcRect l="0" t="0" r="0" b="9950"/>
          <a:stretch/>
        </p:blipFill>
        <p:spPr>
          <a:xfrm>
            <a:off x="217440" y="642960"/>
            <a:ext cx="8926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82658ygkz3hwgw7qnbhiq"/>
          <p:cNvPicPr/>
          <p:nvPr/>
        </p:nvPicPr>
        <p:blipFill>
          <a:blip r:embed="rId1"/>
          <a:srcRect l="0" t="0" r="249" b="6732"/>
          <a:stretch/>
        </p:blipFill>
        <p:spPr>
          <a:xfrm>
            <a:off x="285840" y="500040"/>
            <a:ext cx="864396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x24_1"/>
          <p:cNvPicPr/>
          <p:nvPr/>
        </p:nvPicPr>
        <p:blipFill>
          <a:blip r:embed="rId1"/>
          <a:srcRect l="0" t="0" r="-479" b="15130"/>
          <a:stretch/>
        </p:blipFill>
        <p:spPr>
          <a:xfrm>
            <a:off x="285840" y="642960"/>
            <a:ext cx="82468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1300000246803122732348746548"/>
          <p:cNvPicPr/>
          <p:nvPr/>
        </p:nvPicPr>
        <p:blipFill>
          <a:blip r:embed="rId1"/>
          <a:srcRect l="0" t="0" r="7813" b="9378"/>
          <a:stretch/>
        </p:blipFill>
        <p:spPr>
          <a:xfrm>
            <a:off x="428760" y="642960"/>
            <a:ext cx="8429400" cy="6215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火焰山位于新疆吐鲁番盆地中部。山上寸草不生，基岩裸露，且常受风化沙层覆盖。盛夏，在灼热阳光照射下，红色山岩热浪滚滚，绛红色烟云蒸腾缭绕，热气流不断上升，红色砂岩熠熠发光，恰似团团烈焰在燃烧，故名火焰山。这里是我国最炎热的区域，夏季气温高达摄氏四十七度，据说山顶气温可达摄氏八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、自由读文，找出描写孙悟空第一次借芭蕉扇的相关语句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、想想孙悟空第一次是靠什么借扇子的，借到了吗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50920" y="26028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5-25T09:01:24Z</dcterms:modified>
  <cp:revision>4</cp:revision>
  <dc:subject> </dc:subject>
  <dc:title> </dc:title>
</cp:coreProperties>
</file>