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4CA-6344-489C-AD4F-A97EB479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DFE-3372-4DD4-A552-0D4F582E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3D8-7FEE-4C6D-8E62-3428C856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28B-032E-4093-9AC3-29B4412F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E77-43F3-4DAA-93E9-B911722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F10-6E1C-49F9-A4B2-AE1AD52E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240-EBBF-4977-B6EA-B2FC78E8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0F7-AFD4-40FB-8542-20BC9790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BB4-6588-489C-B1BF-F9F70022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ACF-E029-4294-8F0A-E77A4650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6F5-FC29-418E-A28F-4CEB19B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993-4B58-4B06-95F6-DEB16FC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2F23-9092-4EC2-A1E3-C02E3B6E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336680" y="2277360"/>
            <a:ext cx="56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895480" y="129528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谜语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Picture 6" descr="other05"/>
          <p:cNvPicPr/>
          <p:nvPr/>
        </p:nvPicPr>
        <p:blipFill>
          <a:blip r:embed="rId3"/>
          <a:stretch/>
        </p:blipFill>
        <p:spPr>
          <a:xfrm>
            <a:off x="838080" y="68580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1066680" y="2666880"/>
            <a:ext cx="396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有枪不能放，有脚不能行，天天弯着腰，总在水里游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5" name="Rectangle 8"/>
          <p:cNvGrpSpPr/>
          <p:nvPr/>
        </p:nvGrpSpPr>
        <p:grpSpPr>
          <a:xfrm>
            <a:off x="6162840" y="1054080"/>
            <a:ext cx="1622160" cy="4524480"/>
            <a:chOff x="6162840" y="1054080"/>
            <a:chExt cx="1622160" cy="4524480"/>
          </a:xfrm>
        </p:grpSpPr>
        <p:pic>
          <p:nvPicPr>
            <p:cNvPr id="46" name="Rectangle 8" descr=""/>
            <p:cNvPicPr/>
            <p:nvPr/>
          </p:nvPicPr>
          <p:blipFill>
            <a:blip r:embed="rId4"/>
            <a:stretch/>
          </p:blipFill>
          <p:spPr>
            <a:xfrm>
              <a:off x="6162840" y="1054080"/>
              <a:ext cx="162216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172200" y="1066680"/>
              <a:ext cx="160020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9"/>
          <p:cNvSpPr/>
          <p:nvPr/>
        </p:nvSpPr>
        <p:spPr>
          <a:xfrm>
            <a:off x="1143000" y="4038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国画大师齐白石最擅长画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914400" y="99072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齐白石作画，非常重视真实的生活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笔下的虾、蟹、青蛙、蝌蚪、蚱蜢、鱼、 、白菜、蜻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构成了农村儿童眼中的世界，无不散发着浓郁的乡村气息。此外，齐白石观察所画物象非常深入。齐白石曾说，他取得成就的原因，一句话概括，就是一个“勤”字，而且是从小开始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齐白石画的虾下笔有神，栩栩如生。可他在开始学习画虾的时候，只会临摹，画的虾一点也不活，都是很呆调的。后来经过自己养虾、观察、写生，几十年如一日，终于把虾画得活灵活现。成为了世界杰出的艺术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143000" y="4648320"/>
            <a:ext cx="6934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死虾，免费附送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早年齐白石卖画，为简便起见，以数量计算，如画青菜瓜果鸡鸭鱼虾，画上有若干，就以若干钱计算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有人要一幅虾子为题材的画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齐白石画完，即以画上有几只虾，照只计算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此人看了画，以菜市场买菜的常例，要求多添一只虾子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齐白石不悦，但还是拿了笔，在画上给他添了只虾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那人看画，发现这只虾画得像是走了样，毫无生气，有点奇怪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齐白石说：“你要添的这只虾子，是不在价钱以内的，所以替你画了只死虾，算是免费附送。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209680" y="3808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680280" y="43164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虾         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914400" y="1432800"/>
            <a:ext cx="2362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虾的结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分头、身、尾、胸、足、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水墨画虾，最有艺术效果 ，画出来的虾有新鲜透明感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20072919562992777807"/>
          <p:cNvPicPr/>
          <p:nvPr/>
        </p:nvPicPr>
        <p:blipFill>
          <a:blip r:embed="rId1"/>
          <a:stretch/>
        </p:blipFill>
        <p:spPr>
          <a:xfrm>
            <a:off x="3809880" y="220680"/>
            <a:ext cx="45990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虾的步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调出足够用的淡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中等大小的笔，一笔或两笔点出尖尖的虾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添尖端硬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侧锋抹出两边硬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自前至后依次五笔弧线形画出五节身体，虾身三节披走、四节五节下披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腹足、胸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稍重些的墨、中锋勾双螯，螯有三大节，用笔从螯、钳尖端逐步往内画，靠身体的一节可由内往外画，与前两节相接，以顺手为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等到半干，浓墨点胸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浓墨中锋由外向内点双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最后画须，行笔中锋，游动时，中间四条须朝前，后两条须朝后，最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00729195654282778010"/>
          <p:cNvPicPr/>
          <p:nvPr/>
        </p:nvPicPr>
        <p:blipFill>
          <a:blip r:embed="rId1"/>
          <a:stretch/>
        </p:blipFill>
        <p:spPr>
          <a:xfrm>
            <a:off x="4419720" y="220680"/>
            <a:ext cx="449568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临摹齐白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对虾"/>
          <p:cNvPicPr/>
          <p:nvPr/>
        </p:nvPicPr>
        <p:blipFill>
          <a:blip r:embed="rId1"/>
          <a:stretch/>
        </p:blipFill>
        <p:spPr>
          <a:xfrm>
            <a:off x="2057400" y="1143000"/>
            <a:ext cx="3981600" cy="5248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791320" y="16765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553080" y="44197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般画的顺序是先画虾脑，次补复眼，再加钳脚，末撇触角，这样墨色从深到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纵观整个绘画史中，历代画虾者极少，为什么呢？难画。它们像鱼一样，只有在水中才能显现生命的活力。那薄壳里躯体的半透明感，那繁多的长须和成排的小腿，每令古代绘画高手莫知所措，仅有钱选、沈周、八大山人、高其佩和郑板桥等少数人物偶尔为之，以即兴墨戏画虾，但谁也没有把水中的游虾画得像齐白石那样笔简神完、活灵活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95280" y="1599840"/>
            <a:ext cx="7013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虾的各种姿态都要画一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914400" y="2789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群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齐白石的代表作之一，作于齐白石晚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时。此图中的六只虾，用淡墨掷笔，绘成躯体，浸润之色，更显虾体晶莹剔透之感。以浓墨竖点为睛，横写为脑，落墨成金，笔笔传神，显示了画家高妙的书法功力。那浓墨点出的双眼似在活动，虾须柔中有刚，显得生动活泼，简直达到出神入化的境地，画家写虾，来自生活，却超越生活，大胆概括简化，更得传神妙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90720" y="838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齐白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8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7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中国书画家，篆刻家。原名纯芝，字渭清。后改名璜，字濒生，号白石，别号借山吟馆主者，寄萍老人等，湖南湘潭人。齐白石自幼好学，喜欢画画和写字。由于家贫，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时上过不到一年的学，就辍学在家，一边放牛，一边读书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时开始当学徒，学粗木工，同时练习绘画。直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，才拜师学绘画、习诗文、刻图章，兼作画画，从事艺术创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艺术造诣高，涉猎广，作品多，其诗书画印，堪称四绝。由于出生劳动者，他的作品多取材于一般人民日常生活，风格自然，具有健康、朴素的色彩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被聘为中央美术学院名誉校长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文化部授予他“人民艺术家”的光荣称号，同年又被选为中国美术家协会主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195560" y="0"/>
            <a:ext cx="675288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63360"/>
            <a:ext cx="9144000" cy="672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322800" y="0"/>
            <a:ext cx="2496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8440" y="1066680"/>
            <a:ext cx="9087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028960" y="0"/>
            <a:ext cx="508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805120" y="0"/>
            <a:ext cx="353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444360" y="4648320"/>
            <a:ext cx="491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《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群虾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5-25T02:54:39Z</dcterms:modified>
  <cp:revision>4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