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D5B-3458-427D-B40A-DF6F25F3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68C-C2E3-4BDA-81C6-382D3BF3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891-543D-48B7-AF3A-04A71541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539-E1EE-4B2E-A6E4-D2E3C97C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690-055A-44E0-8AF6-F54069F8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85E-803C-4A8E-900F-EAC82C8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19A-D0DE-4834-9D0D-491C85EC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FF2-E781-47E1-8BDA-0A844B0D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F0B-CDB7-429D-8C05-91DF846A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5BC-438F-4D25-B684-0A82169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481-C5E3-4DA7-A9BC-3068F5E1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A79-ED27-42AF-9655-0C73707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B8A-1310-4F54-AB4A-9850A1D7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00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春  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152280" y="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北方的二月，春天在进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冬天在撤退。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②是暖流融化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岩石上的冰层，滴下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颗粗大晶莹的水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宣告了春的来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水滴声 空旷的环境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1" name="矩形标注 4"/>
          <p:cNvSpPr/>
          <p:nvPr/>
        </p:nvSpPr>
        <p:spPr>
          <a:xfrm>
            <a:off x="762120" y="3581280"/>
            <a:ext cx="3286080" cy="2571840"/>
          </a:xfrm>
          <a:prstGeom prst="wedgeRectCallout">
            <a:avLst>
              <a:gd name="adj1" fmla="val 49212"/>
              <a:gd name="adj2" fmla="val -1355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读第二句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8"/>
          <p:cNvSpPr/>
          <p:nvPr/>
        </p:nvSpPr>
        <p:spPr>
          <a:xfrm>
            <a:off x="152280" y="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北方的二月，春天在进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冬天在撤退。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②是暖流融化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岩石上的冰层，滴下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颗粗大晶莹的水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宣告了春的来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水滴声 空旷的环境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4" name="矩形标注 6"/>
          <p:cNvSpPr/>
          <p:nvPr/>
        </p:nvSpPr>
        <p:spPr>
          <a:xfrm>
            <a:off x="4952880" y="3276720"/>
            <a:ext cx="3505320" cy="2571480"/>
          </a:xfrm>
          <a:prstGeom prst="wedgeRectCallout">
            <a:avLst>
              <a:gd name="adj1" fmla="val -26861"/>
              <a:gd name="adj2" fmla="val -962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楷体_GB2312"/>
              </a:rPr>
              <a:t>一颗水珠，就宣告了春天的来到。这颗水珠是暖流的代表，是春天的信使，是春潮的前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8"/>
          <p:cNvSpPr/>
          <p:nvPr/>
        </p:nvSpPr>
        <p:spPr>
          <a:xfrm>
            <a:off x="152280" y="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北方的二月，春天在进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冬天在撤退。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②是暖流融化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岩石上的冰层，滴下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颗粗大晶莹的水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宣告了春的来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标注 4"/>
          <p:cNvSpPr/>
          <p:nvPr/>
        </p:nvSpPr>
        <p:spPr>
          <a:xfrm>
            <a:off x="685800" y="4038480"/>
            <a:ext cx="3286080" cy="2571840"/>
          </a:xfrm>
          <a:prstGeom prst="wedgeRectCallout">
            <a:avLst>
              <a:gd name="adj1" fmla="val 32421"/>
              <a:gd name="adj2" fmla="val -784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作者喜欢这滴水吗？你是从那个词知道的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标注 6"/>
          <p:cNvSpPr/>
          <p:nvPr/>
        </p:nvSpPr>
        <p:spPr>
          <a:xfrm>
            <a:off x="4952880" y="3276720"/>
            <a:ext cx="3505320" cy="2571480"/>
          </a:xfrm>
          <a:prstGeom prst="wedgeRectCallout">
            <a:avLst>
              <a:gd name="adj1" fmla="val -63291"/>
              <a:gd name="adj2" fmla="val -7113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粗大”和“晶莹”是作者在赞美这滴水，表现了他对春天到来、春潮涌动的欢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466be2c337d58c48b1399e5"/>
          <p:cNvPicPr/>
          <p:nvPr/>
        </p:nvPicPr>
        <p:blipFill>
          <a:blip r:embed="rId1"/>
          <a:srcRect l="1188" t="0" r="0" b="8637"/>
          <a:stretch/>
        </p:blipFill>
        <p:spPr>
          <a:xfrm>
            <a:off x="257040" y="228600"/>
            <a:ext cx="8658360" cy="3870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85800" y="48769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文中的哪些句子体现出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春天在进攻，冬天在撤退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zgwyltw_59_11_53ad722e34527d3"/>
          <p:cNvPicPr/>
          <p:nvPr/>
        </p:nvPicPr>
        <p:blipFill>
          <a:blip r:embed="rId1"/>
          <a:srcRect l="4849" t="5442" r="4373" b="7235"/>
          <a:stretch/>
        </p:blipFill>
        <p:spPr>
          <a:xfrm>
            <a:off x="76320" y="152280"/>
            <a:ext cx="3163680" cy="228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7057354"/>
          <p:cNvPicPr/>
          <p:nvPr/>
        </p:nvPicPr>
        <p:blipFill>
          <a:blip r:embed="rId2"/>
          <a:srcRect l="3907" t="0" r="0" b="23057"/>
          <a:stretch/>
        </p:blipFill>
        <p:spPr>
          <a:xfrm>
            <a:off x="3276720" y="152280"/>
            <a:ext cx="3222360" cy="205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20090724085402"/>
          <p:cNvPicPr/>
          <p:nvPr/>
        </p:nvPicPr>
        <p:blipFill>
          <a:blip r:embed="rId3"/>
          <a:srcRect l="5134" t="0" r="0" b="17401"/>
          <a:stretch/>
        </p:blipFill>
        <p:spPr>
          <a:xfrm>
            <a:off x="6469200" y="228600"/>
            <a:ext cx="2674800" cy="2139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152280" y="350532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cc66ff"/>
                </a:solidFill>
                <a:latin typeface="Arial"/>
              </a:rPr>
              <a:t>那冰封的大江在春天太阳的照射下，在山中雪水的冲击下，逐渐变酥了，变软了，颜色也变暗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52280" y="35053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cc66ff"/>
                </a:solidFill>
                <a:latin typeface="Arial"/>
              </a:rPr>
              <a:t>那冰封的大江在春天太阳的照射下，在山中雪水的冲击下，逐渐变</a:t>
            </a:r>
            <a:r>
              <a:rPr b="1" lang="zh-CN" sz="4800" spc="-1" strike="noStrike">
                <a:solidFill>
                  <a:srgbClr val="00ffcc"/>
                </a:solidFill>
                <a:latin typeface="Arial"/>
              </a:rPr>
              <a:t>酥</a:t>
            </a:r>
            <a:r>
              <a:rPr b="1" lang="zh-CN" sz="4800" spc="-1" strike="noStrike">
                <a:solidFill>
                  <a:srgbClr val="cc66ff"/>
                </a:solidFill>
                <a:latin typeface="Arial"/>
              </a:rPr>
              <a:t>了，变</a:t>
            </a:r>
            <a:r>
              <a:rPr b="1" lang="zh-CN" sz="4800" spc="-1" strike="noStrike">
                <a:solidFill>
                  <a:srgbClr val="00ffcc"/>
                </a:solidFill>
                <a:latin typeface="Arial"/>
              </a:rPr>
              <a:t>软</a:t>
            </a:r>
            <a:r>
              <a:rPr b="1" lang="zh-CN" sz="4800" spc="-1" strike="noStrike">
                <a:solidFill>
                  <a:srgbClr val="cc66ff"/>
                </a:solidFill>
                <a:latin typeface="Arial"/>
              </a:rPr>
              <a:t>了，颜色也变</a:t>
            </a:r>
            <a:r>
              <a:rPr b="1" lang="zh-CN" sz="4800" spc="-1" strike="noStrike">
                <a:solidFill>
                  <a:srgbClr val="00ffcc"/>
                </a:solidFill>
                <a:latin typeface="Arial"/>
              </a:rPr>
              <a:t>暗</a:t>
            </a:r>
            <a:r>
              <a:rPr b="1" lang="zh-CN" sz="4800" spc="-1" strike="noStrike">
                <a:solidFill>
                  <a:srgbClr val="cc66ff"/>
                </a:solidFill>
                <a:latin typeface="Arial"/>
              </a:rPr>
              <a:t>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zgwyltw_59_11_53ad722e34527d3"/>
          <p:cNvPicPr/>
          <p:nvPr/>
        </p:nvPicPr>
        <p:blipFill>
          <a:blip r:embed="rId1"/>
          <a:srcRect l="4849" t="5442" r="4373" b="7235"/>
          <a:stretch/>
        </p:blipFill>
        <p:spPr>
          <a:xfrm>
            <a:off x="76320" y="152280"/>
            <a:ext cx="3163680" cy="2283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7057354"/>
          <p:cNvPicPr/>
          <p:nvPr/>
        </p:nvPicPr>
        <p:blipFill>
          <a:blip r:embed="rId2"/>
          <a:srcRect l="3907" t="0" r="0" b="23057"/>
          <a:stretch/>
        </p:blipFill>
        <p:spPr>
          <a:xfrm>
            <a:off x="3276720" y="152280"/>
            <a:ext cx="3222360" cy="20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20090724085402"/>
          <p:cNvPicPr/>
          <p:nvPr/>
        </p:nvPicPr>
        <p:blipFill>
          <a:blip r:embed="rId3"/>
          <a:srcRect l="5134" t="0" r="0" b="17401"/>
          <a:stretch/>
        </p:blipFill>
        <p:spPr>
          <a:xfrm>
            <a:off x="6469200" y="228600"/>
            <a:ext cx="26748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83181819365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72040" y="4032360"/>
            <a:ext cx="92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被禁锢了一冬的大江奔腾着，汹涌着，以它那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抗拒的力量推开了坚冰，怒吼着，撞击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气势磅礴的变形金刚背景音乐.mp3" descr=""/>
          <p:cNvPicPr/>
          <p:nvPr/>
        </p:nvPicPr>
        <p:blipFill>
          <a:blip r:embed="rId2"/>
          <a:stretch/>
        </p:blipFill>
        <p:spPr>
          <a:xfrm>
            <a:off x="88390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3542760" y="556272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滚滚的春潮把坚冰击溃了，淹没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迫使它驯服地和残冬一起向远方流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4748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83181819365"/>
          <p:cNvPicPr/>
          <p:nvPr/>
        </p:nvPicPr>
        <p:blipFill>
          <a:blip r:embed="rId2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29480" y="403236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被禁锢了一冬的大江奔腾着，汹涌着，以它那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抗拒的力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推开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坚冰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怒吼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撞击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气势磅礴的变形金刚背景音乐.mp3" descr=""/>
          <p:cNvPicPr/>
          <p:nvPr/>
        </p:nvPicPr>
        <p:blipFill>
          <a:blip r:embed="rId3"/>
          <a:stretch/>
        </p:blipFill>
        <p:spPr>
          <a:xfrm>
            <a:off x="88390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542760" y="556272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滚滚的春潮把坚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击溃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淹没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迫使它驯服地和残冬一起向远方流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474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3648ddfefce83a89f69d0ac7672bdd0b"/>
          <p:cNvPicPr/>
          <p:nvPr/>
        </p:nvPicPr>
        <p:blipFill>
          <a:blip r:embed="rId1"/>
          <a:stretch/>
        </p:blipFill>
        <p:spPr>
          <a:xfrm>
            <a:off x="4495680" y="15228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04920" y="685800"/>
            <a:ext cx="43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春水在阳光下欢笑着，在清风中舞蹈着，仿佛在告诉沿途碰到的每一个人，每一棵树木，每一株刚刚露出地面的小草：春天来了！春天来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阳光海岸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6546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3648ddfefce83a89f69d0ac7672bdd0b"/>
          <p:cNvPicPr/>
          <p:nvPr/>
        </p:nvPicPr>
        <p:blipFill>
          <a:blip r:embed="rId1"/>
          <a:stretch/>
        </p:blipFill>
        <p:spPr>
          <a:xfrm>
            <a:off x="4495680" y="15228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04920" y="685800"/>
            <a:ext cx="438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春水在阳光下欢笑着，在清风中舞蹈着，仿佛在告诉沿途碰到的每一个人，每一棵树木，每一株刚刚露出地面的小草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春天来了！春天来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阳光海岸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6546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52280" y="19810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代背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苦菜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的是解放战争时期，山东老根据地的人民在共产党领导下，与还乡团、与国民党反动派英勇斗争的可歌可泣的英雄故事。在人民解放军实行暂时战略撤退后，还乡团的势力以十倍的疯狂进行反扑，许多参加革命的共产党员、战士、群众遭到了惨无人道的屠杀。革命与反革命、进步与反动、光明与黑暗两种势力进行着殊死地较量。节选的这部分文字，用春潮象征革命力量的势不可当，春天必将战胜冬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571840" y="91440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前半部分节选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苦菜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风从窗缝里挤了进来，激动地向我耳语着：快去看啊，大江复活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被禁锢了一冬的大江奔腾着，汹涌着，以它那不可抗拒的力量推开了坚冰，怒吼着，撞击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春水在阳光下欢笑着，在清风中舞蹈着，仿佛在告诉沿途碰到的每一个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991600" y="304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幼圆"/>
                <a:ea typeface="幼圆"/>
              </a:rPr>
              <a:t>这些拟人句应该怎么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风从窗缝里挤了进来，激动地向我耳语着：快去看啊，大江复活了！   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欣喜之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被禁锢了一冬的大江奔腾着，汹涌着，以它那不可抗拒的力量推开了坚冰，怒吼着，撞击着。   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赞颂春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春水在阳光下欢笑着，在清风中舞蹈着，仿佛在告诉沿途碰到的每一个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洋溢着欢乐幸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WordArt 8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3719520" cy="1579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3657600" y="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怎样描写春潮从小到大的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52280" y="24382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0" y="18288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抓住春潮声势的特点，描写了春潮由弱到强的气势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文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然段写春潮的形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的背阴处寒冷的威力已在衰竭，朝阳处雪已融化，冰封的大江变酥变软，冬天再没有回天之力了。这是春潮的序曲，是形成阶段，声势较弱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然段写了春潮的气势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崩地裂的开江声，江水奔腾着，汹涌着，巨大的冰排竖起来又摔倒，又驯服地随着江水流去，充分展示了春潮逐渐宏大的气势和不可抗拒的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8"/>
          <p:cNvSpPr txBox="1"/>
          <p:nvPr/>
        </p:nvSpPr>
        <p:spPr>
          <a:xfrm>
            <a:off x="0" y="0"/>
            <a:ext cx="3657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金钥匙：</a:t>
            </a:r>
            <a:endParaRPr b="0" i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657600" y="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52280" y="24382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0" y="1828800"/>
            <a:ext cx="891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更好地把握课文的条理，可以提出这样几个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描写的是什么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√已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是按怎样的顺序描写春潮的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√已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为什么先写春潮的形成，后写春潮的气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ordArt 8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3719520" cy="1579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3657600" y="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课文，体会春潮宏大的气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52280" y="24382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82880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潮的气势由弱到强。所以我们朗读时，要抓住重点词句，语速由慢到快，声音由小到大，边读边体会春潮的气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8"/>
          <p:cNvSpPr txBox="1"/>
          <p:nvPr/>
        </p:nvSpPr>
        <p:spPr>
          <a:xfrm>
            <a:off x="0" y="0"/>
            <a:ext cx="3657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金钥匙：</a:t>
            </a:r>
            <a:endParaRPr b="0" i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57600" y="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52280" y="24382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0" y="1828800"/>
            <a:ext cx="891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更好地把握课文的条理，可以提出这样几个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描写的是什么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√已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是按怎样的顺序描写春潮的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√已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为什么先写春潮的形成，后写春潮的气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609480" y="4343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答：这样写，符合事情的发展顺序。先有春潮的形成，后来才有春潮由弱到强的气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8381880" y="380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114800" y="6172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8"/>
          <p:cNvSpPr txBox="1"/>
          <p:nvPr/>
        </p:nvSpPr>
        <p:spPr>
          <a:xfrm>
            <a:off x="0" y="0"/>
            <a:ext cx="3657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金钥匙：</a:t>
            </a:r>
            <a:endParaRPr b="0" i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657600" y="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52280" y="24382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0" y="1828800"/>
            <a:ext cx="891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更好地把握课文的条理，可以提出这样几个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描写的是什么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√已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是按怎样的顺序描写春潮的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√已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为什么先写春潮的形成，后写春潮的气势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√已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09480" y="4343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答：这样写，符合事情的发展顺序。先有春潮的形成，后来才有春潮由弱到强的气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8381880" y="380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114800" y="6172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拓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本课中，“春潮”的意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拓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本课中，“春潮”的意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本课中的“春潮”指春天的水，象征革命力量的势不可当，春天必将战胜冬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85800" y="3429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94d"/>
                </a:solidFill>
                <a:latin typeface="Arial"/>
              </a:rPr>
              <a:t>补充：“春潮”多用于比喻。能用“春潮”比喻的事物一定要像春潮那样气势宏大，势不可当；像春潮那样，能象征历史的发展方向。如：改革的事业、群众游行的队伍、蓬勃发展的企业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读一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汹涌   堤岸   崩溃   禁锢   怒吼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驯服   一株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小草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咔嚓   耳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进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退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力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竭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滔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江水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8"/>
          <p:cNvSpPr txBox="1"/>
          <p:nvPr/>
        </p:nvSpPr>
        <p:spPr>
          <a:xfrm>
            <a:off x="0" y="0"/>
            <a:ext cx="3657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金钥匙：</a:t>
            </a:r>
            <a:endParaRPr b="0" i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657600" y="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52280" y="24382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0" y="1828800"/>
            <a:ext cx="891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更好地把握课文的条理，可以提出这样几个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描写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是按怎样的顺序描写春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为什么先写春潮的形成，后写春潮的气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8"/>
          <p:cNvSpPr txBox="1"/>
          <p:nvPr/>
        </p:nvSpPr>
        <p:spPr>
          <a:xfrm>
            <a:off x="0" y="0"/>
            <a:ext cx="3657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理清结构：</a:t>
            </a:r>
            <a:endParaRPr b="0" i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2120" y="1371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的每个自然段分别在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2280" y="2438280"/>
            <a:ext cx="838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全篇的总纲，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“春天在进攻，冬天在撤退”是总趋势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江流化冻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28600" y="4327560"/>
            <a:ext cx="602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春潮的磅礴气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228600" y="5105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春水给人们带来欢乐，带来生机，带来新时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8"/>
          <p:cNvSpPr txBox="1"/>
          <p:nvPr/>
        </p:nvSpPr>
        <p:spPr>
          <a:xfrm>
            <a:off x="0" y="0"/>
            <a:ext cx="3657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金钥匙：</a:t>
            </a:r>
            <a:endParaRPr b="0" i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657600" y="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52280" y="24382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1828800"/>
            <a:ext cx="89154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更好地把握课文的条理，可以提出这样几个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描写的是什么？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√已解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是按怎样的顺序描写春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为什么先写春潮的形成，后写春潮的气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70696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152280" y="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d0d0d"/>
                </a:solidFill>
                <a:latin typeface="Arial"/>
                <a:ea typeface="楷体_GB2312"/>
              </a:rPr>
              <a:t>北方的二月，春天在进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Arial"/>
                <a:ea typeface="楷体_GB2312"/>
              </a:rPr>
              <a:t>冬天在撤退。是暖流融化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Arial"/>
                <a:ea typeface="楷体_GB2312"/>
              </a:rPr>
              <a:t>岩石上的冰层，滴下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Arial"/>
                <a:ea typeface="楷体_GB2312"/>
              </a:rPr>
              <a:t>颗粗大晶莹的水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Arial"/>
                <a:ea typeface="楷体_GB2312"/>
              </a:rPr>
              <a:t>宣告了春的来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水滴声 空旷的环境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111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52280" y="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北方的二月，春天在进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冬天在撤退。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是暖流融化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岩石上的冰层，滴下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颗粗大晶莹的水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宣告了春的来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水滴声 空旷的环境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4" name="矩形标注 5"/>
          <p:cNvSpPr/>
          <p:nvPr/>
        </p:nvSpPr>
        <p:spPr>
          <a:xfrm>
            <a:off x="304920" y="3581280"/>
            <a:ext cx="4352760" cy="2571840"/>
          </a:xfrm>
          <a:prstGeom prst="wedgeRectCallout">
            <a:avLst>
              <a:gd name="adj1" fmla="val -3560"/>
              <a:gd name="adj2" fmla="val -1367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d0d0d"/>
                </a:solidFill>
                <a:latin typeface="Arial"/>
              </a:rPr>
              <a:t>自然段是全篇的总纲。“春天在进攻，冬天在撤退”是总趋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111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152280" y="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北方的二月，春天在进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冬天在撤退。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②是暖流融化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岩石上的冰层，滴下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颗粗大晶莹的水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楷体_GB2312"/>
              </a:rPr>
              <a:t>宣告了春的来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水滴声 空旷的环境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7" name="矩形标注 4"/>
          <p:cNvSpPr/>
          <p:nvPr/>
        </p:nvSpPr>
        <p:spPr>
          <a:xfrm>
            <a:off x="762120" y="3581280"/>
            <a:ext cx="3286080" cy="2571840"/>
          </a:xfrm>
          <a:prstGeom prst="wedgeRectCallout">
            <a:avLst>
              <a:gd name="adj1" fmla="val -3560"/>
              <a:gd name="adj2" fmla="val -1367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结合时代背景读第一句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标注 6"/>
          <p:cNvSpPr/>
          <p:nvPr/>
        </p:nvSpPr>
        <p:spPr>
          <a:xfrm>
            <a:off x="4952880" y="3276720"/>
            <a:ext cx="3505320" cy="2571480"/>
          </a:xfrm>
          <a:prstGeom prst="wedgeRectCallout">
            <a:avLst>
              <a:gd name="adj1" fmla="val 9569"/>
              <a:gd name="adj2" fmla="val -1496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这是一个拟人句。“进攻”和“撤退”两个词表现写作意图：隐喻两种势力的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1T06:01:03Z</dcterms:created>
  <dc:creator>Administrator</dc:creator>
  <dc:description/>
  <dc:language>en-US</dc:language>
  <cp:lastModifiedBy/>
  <dcterms:modified xsi:type="dcterms:W3CDTF">2015-08-11T06:03:42Z</dcterms:modified>
  <cp:revision>1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NXTAG2">
    <vt:lpwstr>0008004004000000000001024120</vt:lpwstr>
  </property>
  <property fmtid="{D5CDD505-2E9C-101B-9397-08002B2CF9AE}" pid="4" name="Version">
    <vt:r8>1</vt:r8>
  </property>
</Properties>
</file>