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2C86-4447-478A-90DC-4FF53FEA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7CB9-FD53-419F-A4AA-BA45A4CB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4A6-563B-4F7B-9C5C-2AF3AD54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9186-2DCF-455C-94E1-AF86C23B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5BD6-7F3D-4746-BAFE-2E73618B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1CD-C4B8-4363-9AE1-ECBA42A0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B49D-DC2E-4CAF-ADFB-EC02FEE5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F93B-B30E-42CD-AA9D-92C2916A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170-B91E-49DF-AEF6-A6C01866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BA08-A16D-4EA1-A33F-6EBFB266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B19-89A9-4258-A12A-521D25A7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656-1B5A-40BC-8BBC-6CF6FAD0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D06A-6265-4E59-B039-4272986B7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3798"/>
          <a:stretch/>
        </p:blipFill>
        <p:spPr>
          <a:xfrm>
            <a:off x="1547640" y="1989000"/>
            <a:ext cx="6264360" cy="4697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40000" y="836640"/>
            <a:ext cx="51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第一朵杏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197000"/>
            <a:ext cx="84978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走近杏树数了数，已经有四朵不同程度地绽开了花瓣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“爷爷，您又看花啦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竺爷爷弯下腰来，习惯地问，“你知道杏花是哪天开放的吗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“我是问第一朵是哪天开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1197000"/>
            <a:ext cx="431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是啊，杏花开了。”说着，竺爷爷弯下腰来，习惯地问：“你知道杏花是哪天开放的吗？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981000"/>
            <a:ext cx="2089440" cy="1224000"/>
          </a:xfrm>
          <a:prstGeom prst="wedgeRoundRectCallout">
            <a:avLst>
              <a:gd name="adj1" fmla="val -119754"/>
              <a:gd name="adj2" fmla="val 8631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易近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蔼可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慈祥和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197000"/>
            <a:ext cx="431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是啊，杏花开了。”说着，竺爷爷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弯下腰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，习惯地问：“你知道杏花是哪天开放的吗？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197000"/>
            <a:ext cx="431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是啊，杏花开了。”说着，竺爷爷弯下腰来，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习惯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问：“你知道杏花是哪天开放的吗？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3141720"/>
            <a:ext cx="2089080" cy="1224000"/>
          </a:xfrm>
          <a:prstGeom prst="wedgeRoundRectCallout">
            <a:avLst>
              <a:gd name="adj1" fmla="val -104333"/>
              <a:gd name="adj2" fmla="val -6310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动探索科学的行为已经成了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522936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从对话中找一找，还有哪些地方你知道竺爷爷不止一次的观察过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836640"/>
            <a:ext cx="79930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走近杏树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数了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已经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四朵不同程度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绽开了花瓣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“爷爷，您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看花啦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竺爷爷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弯下腰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习惯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问，“你知道杏花是哪天开放的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“我是问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一朵是哪天开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读一读，说一说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: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从这些红色的词句，你读懂了什么？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907920"/>
            <a:ext cx="813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用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划去括号内不正确的读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竺可桢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zhēn   zhēn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绽放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zhàn   dìn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兴冲冲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ìnɡ   xīn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郑重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zhèn   zhèn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读拼音，写汉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颜六色的花儿开了，有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zhū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）白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à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）红的玫瑰开得特别鲜艳，花朵有孩子的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zhǎn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）那么大，引来无数蜜蜂、蝴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iān piān qǐ w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     ），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què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）惹人喜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189000"/>
            <a:ext cx="1584360" cy="62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79640" y="907920"/>
            <a:ext cx="51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第一朵杏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35280" y="2637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第二课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189000"/>
            <a:ext cx="8064720" cy="6118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98100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404640"/>
            <a:ext cx="799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次（学习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-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然段，写了哪几种景物？为什么选择这四种景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指导理解排比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708280"/>
            <a:ext cx="82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朗读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段，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圈画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景物，并组内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点出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段话中的动词，说一说好在什么地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仿照课文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说一说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秋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有感情地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朗读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课文，尝试给人物对话加上提示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2492280"/>
            <a:ext cx="79930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69228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时间像飞箭，转眼又是一年。春风吹醒了柳梢，吹绿了小草，吹皱了河水，吹鼓了杏树的花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2852640"/>
            <a:ext cx="2376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圈画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景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1268280"/>
            <a:ext cx="1081080" cy="7923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6360" y="1268280"/>
            <a:ext cx="1081080" cy="7923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1916280"/>
            <a:ext cx="1081080" cy="7920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1989000"/>
            <a:ext cx="1081080" cy="7923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573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春天来了，柳梢发芽了，小草泛绿了，河里的冰融化了，杏树要开花了。这四种景物能反映出春天的到来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87640" y="4508640"/>
            <a:ext cx="2376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点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动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1989000"/>
            <a:ext cx="93672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3280" y="1989000"/>
            <a:ext cx="93672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96360" y="1989000"/>
            <a:ext cx="50472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2637000"/>
            <a:ext cx="57636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3640" y="2637000"/>
            <a:ext cx="93672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5229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这四个动词生动、形象，把四种景物写得活泼可爱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33336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时间像飞箭，转眼又是一年。春风吹醒了柳梢，吹绿了小草，吹皱了河水，吹鼓了杏树的花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3812"/>
          <a:stretch/>
        </p:blipFill>
        <p:spPr>
          <a:xfrm>
            <a:off x="108000" y="4292640"/>
            <a:ext cx="3995640" cy="2527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40360" y="4292640"/>
            <a:ext cx="5040000" cy="252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2708280"/>
            <a:ext cx="8353440" cy="15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秋天有哪些明显的特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该使用哪些贴切的动词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试着说一说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话举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△时间像飞箭，转眼又是一年。秋风吹黄了稻子，吹走了大雁，吹落了树叶，吹红了满山的枫叶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△时间像飞箭，转眼又是一年。寒风吹枯了小草，吹冻了小河，吹白了芦花，吹开了芳香扑鼻的腊梅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4149720"/>
            <a:ext cx="1584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4149720"/>
            <a:ext cx="1584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56360" y="4149720"/>
            <a:ext cx="79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4653000"/>
            <a:ext cx="2808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58920" y="2637000"/>
            <a:ext cx="865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2708280"/>
            <a:ext cx="7923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56360" y="2637000"/>
            <a:ext cx="720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3141720"/>
            <a:ext cx="79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5280" y="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由地读一读课文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节，看看哪些话是孩子说的？哪些是竺可桢爷爷说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76720" y="1628640"/>
            <a:ext cx="49672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竺爷爷！竺爷爷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什么事情啊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竺爷爷，杏花开啦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什么时候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刚才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第一朵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700280"/>
            <a:ext cx="46432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窗外一个小孩急切地叫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竺爷爷（        ）地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小孩子（        ）地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竺爷爷（         ）地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小孩子（         ）地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竺爷爷（         ）地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小孩子（         ）地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03280" y="2276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关心 奇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76360" y="2924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兴奋 高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3500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激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4149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肯定 自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76360" y="4869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半信半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19280" y="544500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毫不犹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肯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90792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为了让表达更流畅，我们可以变换提示语的位置。试一试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360360"/>
            <a:ext cx="8459640" cy="265356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习作业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用一两句话写出图中的人物（按在文中的重要性由次要到重要排序），及他们与杏花的关系，他们的性格及品质（要以文中语句为依据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这幅插图是课文中两次观察杏花的哪一次的？结合课文，从图中找出若干理由？（提示：理由很多，要尽可能全面具体。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为全文划分段落，最后一段能不能划分到“第二次观察杏花”中？为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细读课文的基础上，填空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竺可桢爷爷。可以用文中的话，可以自己概括，也可以引用资料里的词语，但要求：理解填进去的词语的意思，能与课文相关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9640" y="189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读一读课文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节，画出竺爷爷的动作、神态，说说你体会到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134136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竺爷爷</a:t>
            </a:r>
            <a:r>
              <a:rPr b="0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顷刻间像年轻了几十岁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立即</a:t>
            </a:r>
            <a:r>
              <a:rPr b="0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兴冲冲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快步走到前院。阳光下的杏树，捧出了第一朵盛开的杏花。多么美丽的杏花呀！竺爷爷走回书房，打开笔记本，郑重地记下了这个日子：清明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00720" y="981000"/>
            <a:ext cx="2843280" cy="1368360"/>
          </a:xfrm>
          <a:prstGeom prst="wedgeRoundRectCallout">
            <a:avLst>
              <a:gd name="adj1" fmla="val -66250"/>
              <a:gd name="adj2" fmla="val 295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竺爷爷得知第一朵杏花开放的准确时间时激动心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134136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竺爷爷</a:t>
            </a:r>
            <a:r>
              <a:rPr b="0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顷刻间像年轻了几十岁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立即</a:t>
            </a:r>
            <a:r>
              <a:rPr b="0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兴冲冲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快步走到前院。阳光下的杏树，捧出了第一朵盛开的杏花。多么美丽的杏花呀！竺爷爷走回书房，打开笔记本，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郑重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记下了这个日子：清明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32720" y="3213000"/>
            <a:ext cx="2195280" cy="2592360"/>
          </a:xfrm>
          <a:prstGeom prst="wedgeRoundRectCallout">
            <a:avLst>
              <a:gd name="adj1" fmla="val -96129"/>
              <a:gd name="adj2" fmla="val 1013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郑重”：严肃认真。可以看出竺可桢对科学研究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严谨认真、一丝不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态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55640" y="765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阳光下的杏树，捧出了第一朵盛开的杏花。”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”字用得真好，说说为什么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3213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“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捧”字赋予杏树人的动作，那阳光下盛开的第一朵杏花，仿佛是杏树特意献给竺爷爷的礼物。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11280" y="549360"/>
            <a:ext cx="8064360" cy="5686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692280"/>
            <a:ext cx="748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竺爷爷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顷刻间像年轻了几十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立即兴冲冲地快步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走到前院。阳光下的杏树，捧出了第一朵盛开的杏花。多么美丽的杏花呀！竺爷爷走回书房，打开笔记本，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郑重地记下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了这个日子：清明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　　　　　　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（读一读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11280" y="549360"/>
            <a:ext cx="8064360" cy="5686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600120"/>
            <a:ext cx="748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竺可桢爷爷曾不止一次地说过：“我需要的是精确的时间。搞科学研究，不能使用‘大概’‘也许’这些字眼，也不能用估计和推断来代替观察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 </a:t>
            </a:r>
            <a:r>
              <a:rPr b="0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（自由读一读竺爷爷的话，说说你读懂了什么？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Arial"/>
                <a:ea typeface="黑体"/>
              </a:rPr>
              <a:t>课文梳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小孩子为什么高兴？竺爷爷为什么高兴？课文中是怎么描写竺爷爷高兴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孩子是为自己终于完成了竺爷爷去年交给的任务而高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竺爷爷是为自己终于弄清了第一朵杏花开放的时间而兴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竺爷爷顷刻间象年轻了几十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立即兴冲冲地快步走到前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节，“郑重地记下”说明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郑重”的意思是严肃认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从“郑重地计下”可以看出竺可桢对科学研究严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丝不苟的态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竺爷爷作为一名物候学家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他的成就是怎么得来的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你找到原因了没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需要的是精确的时间。搞科学研究，不能使用‘大概’‘也许’这些字眼，也不能用估计和推断代替观察。”即一丝不苟的科学态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Arial"/>
                <a:ea typeface="黑体"/>
              </a:rPr>
              <a:t>课文梳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杏花哪天开放”，为什么一定要知道“第一朵杏花哪天开放的？”第二朵、第三朵为什么不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为第一朵杏花对竺爷爷的研究有用处，他需要的是杏花开放的精确时间，第一朵杏花开放时间就是杏花开放的精确时间，这正如他自己所说的：搞科学研究绝对不能使用“大概、也许”这些字眼，也不能用估计和推断代替观察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通读全文，归纳本文的主要内容和中心思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篇课文讲述了我国著名科学家竺可桢研究物候学的一个小故事，赞扬了竺可桢一丝不苟的科学态度，说明只有通过精确、细致的观察，才能掌握事物变化的规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26920" y="1341360"/>
            <a:ext cx="7620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2565360"/>
            <a:ext cx="7543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3716280"/>
            <a:ext cx="7620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5013360"/>
            <a:ext cx="7543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6165720"/>
            <a:ext cx="7620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371600"/>
            <a:ext cx="0" cy="4800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458200" y="1371600"/>
            <a:ext cx="0" cy="4800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38880" y="1676520"/>
            <a:ext cx="30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事     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16002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得到的启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2611440"/>
            <a:ext cx="46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到北海公园观察物候；钢笔式的温度表磨坏了多少外衣口袋的盖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396252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岁还到野外考察；临终前一天，还作气候记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510552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是亲自观察所得，他还注明“局报”二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1371600"/>
            <a:ext cx="0" cy="4800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4000" y="765000"/>
            <a:ext cx="820872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几十年对大自然的观察，练就了竺可桢一双敏锐的眼睛。他能从千树万枝中发现长出的第一片绿叶，从喧闹的城市噪音中听出第一声蛙鸣，透过空中密如蛛网的电线看到第一只燕子，从春风中辨认出第一丝柳絮……。他把看到的都记录在大自然日记里：“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，北海冰融。”“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，山桃始花。”“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，杏树始花。”“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，紫丁香始花。”“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，燕始见。”“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，柳絮飞。”“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，布谷鸟初鸣”冰融花放，絮飞鸟来，都是物候学的信号，它们同气候的变化关系十分密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9480" y="3762360"/>
            <a:ext cx="1514520" cy="3095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竺可桢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137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竺可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189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74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国气象学家、地理学家，中国近代气象学的创始人之一。字藕舫，浙江绍兴人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1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考取我国第二批赴美留学公费生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获美国哈佛大学气象学博士学位，同年回国，从事气象学研究和教学工作。　　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4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前，曾任浙江大学校长；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4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后任中国科学院副院长、全国科协副主席、中国地理学会理事长等职。有“品格和学问的伟人”之美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竺可桢长期大范围地依据复杂的古代资料，应用现代的理论和方法，作出了古代气候变化定量分析的重大研究成果。——《中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气候变迁研究》。这项研究无论在深度或广度上，在国际上都是罕见的，深受国内外学术界的推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9079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自读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1700280"/>
            <a:ext cx="69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自读要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借助拼音读准田字格中的生字，利用熟字自学生字和书写方法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2)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读通课文，不掉字，漏字，读错字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8000" cy="1438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971640" y="3213000"/>
            <a:ext cx="165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楷体"/>
              </a:rPr>
              <a:t>一株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14560" y="1341360"/>
            <a:ext cx="165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楷体"/>
              </a:rPr>
              <a:t>明媚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00000" y="4941720"/>
            <a:ext cx="165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楷体"/>
              </a:rPr>
              <a:t>掌握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154560" y="4941720"/>
            <a:ext cx="165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楷体"/>
              </a:rPr>
              <a:t>竺可桢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54560" y="3213000"/>
            <a:ext cx="165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楷体"/>
              </a:rPr>
              <a:t>估计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706920" y="1268280"/>
            <a:ext cx="165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楷体"/>
              </a:rPr>
              <a:t>绽开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156360" y="1268280"/>
            <a:ext cx="165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楷体"/>
              </a:rPr>
              <a:t>花瓣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62200" y="4941720"/>
            <a:ext cx="165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楷体"/>
              </a:rPr>
              <a:t>泛出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64000" y="3213000"/>
            <a:ext cx="165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楷体"/>
              </a:rPr>
              <a:t>仰着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86320" y="692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zhàn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908000" y="263700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zhū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492360" y="2708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yǎnɡ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300720" y="27082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Arial"/>
              </a:rPr>
              <a:t>gū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4360" y="441180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zhǎnɡ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635280" y="443700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fàn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12000" y="443700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zhú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113600" y="4437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zhēn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8000" cy="1438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116000" y="3933720"/>
            <a:ext cx="165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楷体"/>
              </a:rPr>
              <a:t>曾经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778200" y="3860640"/>
            <a:ext cx="165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楷体"/>
              </a:rPr>
              <a:t>精确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16000" y="1557360"/>
            <a:ext cx="165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楷体"/>
              </a:rPr>
              <a:t>规律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372360" y="1484280"/>
            <a:ext cx="165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楷体"/>
              </a:rPr>
              <a:t>大概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372360" y="3860640"/>
            <a:ext cx="165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楷体"/>
              </a:rPr>
              <a:t>郑重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51280" y="1484280"/>
            <a:ext cx="165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楷体"/>
              </a:rPr>
              <a:t>吹皱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156360" y="335772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zhènɡ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308720" y="98100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ɡài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0" y="981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zhòu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3213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qu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328464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é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读书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自由读文中较难读的句子和段落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62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默读课文，想一想，根据时间的变化课文可以分成几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14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最后一段在文中起什么作用？能不能独立成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90792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段：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-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写竺可桢爷爷问孩子第一朵杏花是什么时候开的，孩子答不上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段：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-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学第二年春天，孩子告诉竺可桢爷爷第一朵杏花开花了，竺可桢爷爷郑重地记下了这个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段：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写竺可桢爷爷正是通过常年精确、细致的观察才掌握了气候变化的规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1844640"/>
            <a:ext cx="754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自由地读一读课文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小节，画一画，说一说：竺可桢爷爷看杏花和别人有什么不同？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7650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次（学习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-5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然段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2:07:17Z</dcterms:created>
  <dc:creator>Administrator</dc:creator>
  <dc:description/>
  <dc:language>en-US</dc:language>
  <cp:lastModifiedBy/>
  <dcterms:modified xsi:type="dcterms:W3CDTF">2016-04-26T02:07:3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