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7C00-256C-4B50-8F71-449FB5742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5C3F-25D2-43B9-8747-8CCEEB0B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4540-5C6A-48BE-8950-7C4E65E89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250-877C-4ECF-ACBA-19C67006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D51F-636C-47DC-B204-5FA5541E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4B40-EADF-4467-BC9A-AAB8349B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2F64-1CE2-4B3D-A620-C088B9BD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B80D-0FF5-420A-9152-58581ED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AE48-0709-4927-8D62-43E11EB2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3110-F22E-4B1F-89BB-B7D2DBB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9CFF-767F-46AB-A456-1B5C07A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BB4-D207-4117-8D53-79942C12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CF59-B5F2-44EB-B50B-9DB475CC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F9F5-1D64-4F00-8B78-CC2903C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27F2-685E-4B63-AD12-ED75E22C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1020-E0CD-4F14-824D-5D084171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BD21-F89B-4BCE-B062-FF9A41C0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F38-93C7-4E7C-BA7A-89F41756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B9A2-01C0-4BB5-9891-12A6189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74A-4E16-4DEF-B75C-1BC49147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6E4-F0C8-4D68-B88D-61BC7DB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7C9D-2B20-468F-AF7B-A08D0461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BB5-337D-4B8D-9C0B-041FE5F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715-1DDD-41BB-A675-4B02F3F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7CAB-8754-4B80-BA72-465A24D666EE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29B7-E8C8-4294-B71E-37AAA929F28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479840" y="2987640"/>
            <a:ext cx="3826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77240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05084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去菜场差不多总是中午，这时摊上没什么人，那位年轻的父亲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拉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女孩的手，在面前各种蔬菜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来回抚摸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耐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说：“这是黄瓜，长长的，皮上有刺；豆角呢，扁扁的，光滑点；番茄很好看，圆圆的……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838080"/>
            <a:ext cx="73911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明一面用手摸一面笑：“真的吗？太阳像番茄吗？那我就叫它番茄太阳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590920"/>
            <a:ext cx="7925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着她的笑脸，觉得那就是最美的“番茄太阳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4114800"/>
            <a:ext cx="807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红的“番茄太阳”一直挂在我的心中，温暖着我的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明明心中的太阳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5257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63868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00"/>
                </a:solidFill>
                <a:latin typeface="Arial"/>
              </a:rPr>
              <a:t>找出文中描写明明笑的语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3267000"/>
            <a:ext cx="9144000" cy="8905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9280" y="0"/>
            <a:ext cx="89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38736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看着她的笑脸，觉得那就是最</a:t>
            </a:r>
            <a:r>
              <a:rPr b="1" i="1" lang="zh-CN" sz="4000" spc="-1" strike="noStrike">
                <a:solidFill>
                  <a:srgbClr val="ff0000"/>
                </a:solidFill>
                <a:latin typeface="Verdana"/>
              </a:rPr>
              <a:t>美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番茄太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6858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4880" y="162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86600" y="6248520"/>
            <a:ext cx="285840" cy="271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8001000" y="6248520"/>
            <a:ext cx="285840" cy="271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391520" y="6248520"/>
            <a:ext cx="285480" cy="271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696080" y="6248520"/>
            <a:ext cx="285840" cy="271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8305920" y="6248520"/>
            <a:ext cx="28548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182880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每次从菜场经过都能看到那家人：夫妻俩忙碌，女孩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安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地坐着，说话声音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细细柔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特别爱笑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28584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2133720"/>
            <a:ext cx="71625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女孩一面用手摸，一面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咯咯地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妈妈也在旁边笑。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28584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24280" y="914400"/>
            <a:ext cx="4114800" cy="5105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295280"/>
            <a:ext cx="426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如果不是盲童，明明挺漂亮的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乌黑的头发，象牙色的皮肤，精致的眉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，笑起来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像个天使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28548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09480" y="1523880"/>
            <a:ext cx="7467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明明一面用手摸一面笑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真的吗？太阳像番茄吗？那我就叫它番茄太阳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明明咯咯的笑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银铃样清脆，一串一串地追着人走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28584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8580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4880" y="162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女孩一面用手摸，一面咯咯地笑，妈妈也在旁边笑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30481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不是盲童，明明挺漂亮的：乌黑的头发，象牙色的皮肤，精致的眉毛，笑起来像个天使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4267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明一面用手摸一面笑：“真的吗？太阳像番茄吗？那我就叫它番茄太阳。”明明咯咯的笑声银铃样清脆，一串一串地追着人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次从菜场经过都能看到那家人：夫妻俩忙碌，女孩安静地坐着，说话声音细细柔柔，特别爱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285840" cy="2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4920" y="14479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看着她的笑脸，觉得那就是最美的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番茄太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410080" y="304812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4724280" y="6586560"/>
            <a:ext cx="285840" cy="271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105520" y="6586560"/>
            <a:ext cx="285480" cy="2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479840" y="2987640"/>
            <a:ext cx="3826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91440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</a:t>
            </a: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番茄太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0102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838080"/>
            <a:ext cx="73911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明一面用手摸一面笑：“真的吗？太阳像番茄吗？那我就叫它番茄太阳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590920"/>
            <a:ext cx="7925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着她的笑脸，觉得那就是最美的“番茄太阳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4114800"/>
            <a:ext cx="80773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红的“番茄太阳”一直挂在我的心中，温暖着我的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18288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明明心中的太阳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1240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明明的笑脸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9920" y="5257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29200" y="4648320"/>
            <a:ext cx="30481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3360" y="8377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600"/>
                </a:solidFill>
                <a:uFillTx/>
                <a:latin typeface="Arial"/>
              </a:rPr>
              <a:t>快速阅读课文，思考：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5406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与盲童明明相处时，心情改变了吗？有了怎样的改变？找出相关语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1371600"/>
            <a:ext cx="558468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很艰难，心情灰暗无比。</a:t>
            </a:r>
            <a:r>
              <a:rPr b="0" lang="zh-CN" sz="2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2209680"/>
            <a:ext cx="6629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看到这一幕，我的心就觉得温暖起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3276720"/>
            <a:ext cx="6782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明像小屋里的光线，带给了我许多快乐。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4267080"/>
            <a:ext cx="6629400" cy="9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她的小嘴呼出的温热气息拂过我的面颊，我的泪哗地一下子流了下来。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62320" y="1295280"/>
            <a:ext cx="671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灰暗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62320" y="2209680"/>
            <a:ext cx="671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温暖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762320" y="3276720"/>
            <a:ext cx="671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快乐</a:t>
            </a:r>
            <a:r>
              <a:rPr b="0" lang="zh-CN" sz="2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62320" y="4267080"/>
            <a:ext cx="671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感动</a:t>
            </a:r>
            <a:r>
              <a:rPr b="0" lang="zh-CN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285840" cy="2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167652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阿姨，妈妈说我的眼睛是好心人给我的。等我好了，等我长大了，我把我的腿给你，好不好？”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3733920"/>
            <a:ext cx="6019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434340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宋体"/>
              </a:rPr>
              <a:t>热爱生活    关爱他人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019920" y="5257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33520" y="838080"/>
            <a:ext cx="8153280" cy="5084280"/>
            <a:chOff x="533520" y="838080"/>
            <a:chExt cx="8153280" cy="5084280"/>
          </a:xfrm>
        </p:grpSpPr>
        <p:sp>
          <p:nvSpPr>
            <p:cNvPr id="162" name=""/>
            <p:cNvSpPr/>
            <p:nvPr/>
          </p:nvSpPr>
          <p:spPr>
            <a:xfrm>
              <a:off x="533520" y="838080"/>
              <a:ext cx="739116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000" bIns="540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明明一面用手摸一面笑：“真的吗？太阳像番茄吗？那我就叫它番茄太阳。”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2590920"/>
              <a:ext cx="792504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000" bIns="540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看着她的笑脸，觉得那就是最美的番茄太阳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4114800"/>
              <a:ext cx="8077320" cy="59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360" rIns="108360" tIns="54000" bIns="540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Arial"/>
                </a:rPr>
                <a:t>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红红的“番茄太阳”一直挂在我的心中，温暖着我的心。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880" y="1828800"/>
              <a:ext cx="3733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明明心中的太阳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312408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明明的笑脸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29200" y="4648320"/>
              <a:ext cx="3048120" cy="127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（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5257800" y="55627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5334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明明善良、美好的心灵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4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的小嘴呼出的温热气息拂过我的面颊，我的泪哗的一下字流了下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743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明虽然自己先天性双目失明了，可她坚强、乐观，当她知道别人为她捐献了眼角膜时，她想到的是像好心人一样，长大了要把自己的腿“送”给“我”。明明的话令“我”感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590920"/>
            <a:ext cx="30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80520" y="1219320"/>
            <a:ext cx="854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红红的“番茄太阳”一直挂在我的心中，温暖着我的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590920"/>
            <a:ext cx="3047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04812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明虽然与“我”分别了，可她那活泼开朗、纯真善良的心灵，就像她所摸到的“番茄太阳”那么美丽，那么温暖，永远留在“我”的心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666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此时，你想说些什么呢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99072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说我说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79840" y="2987640"/>
            <a:ext cx="38260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914400"/>
            <a:ext cx="670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12</a:t>
            </a:r>
            <a:r>
              <a:rPr b="1" lang="zh-CN" sz="60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、“番茄太阳”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1981080"/>
            <a:ext cx="7010280" cy="446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自由读课文，要求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读准字音，读通句子，不理解的地方多读两遍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思考：文中一共出现了几次“番茄太阳”，用线画出来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我会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租住  灰暗   摊位   忙碌   抚摸   耐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咯咯  眼角膜  精致  一愣   拐杖  隐隐心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盲童  清脆  拂过   面颊   浮现  碧空如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捐献  亲戚  蔬菜   番茄   复明  细细柔柔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1295280"/>
            <a:ext cx="82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去菜场差不多总是中午，这时摊上没什么人，那位年轻的父亲拉着小女孩的手，在面前各种蔬菜上来回抚摸，耐心地说：“这是黄瓜，长长的，皮上有刺；豆角呢，扁扁的，光滑点；番茄很好看，圆圆的……”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85840" y="152280"/>
            <a:ext cx="44197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作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痛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与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自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                        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  <a:ea typeface="仿宋_GB2312"/>
              </a:rPr>
              <a:t>卑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260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1600200"/>
            <a:ext cx="358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作者为什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么到中午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才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菜市场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144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，生平第一次被抬进医院，就再也没能走着回来——我的腿，在那场意外的车祸中瘫痪了 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，还是不谙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ā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世事的年龄，从来没有想过，生命会以这种惨烈的方式让我刻骨铭心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岁，赌气从家里搬了出来。生活很艰难，付了房租，生活费所剩无几。稿子投出去，又多半音信杳无，我遥遥无期地等待着，心情灰暗无比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97488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去菜场差不多总是中午，这时摊上没什么人，那位年轻的父亲拉着小女孩的手，在面前各种蔬菜上来回抚摸，耐心地说：“这是黄瓜，长长的，皮上有刺；豆角呢，扁扁的，光滑点；番茄很好看，圆圆的……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5-05-05T06:29:2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