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412-B7E5-4B89-AA1D-16EDC13D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48D-4500-48B8-8057-53C154D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D41-1FCB-42FD-99C7-9580BC50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8A5-2BFE-4004-820B-666225C5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A22-42F3-4658-A572-7CE6F1BC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1C5-78D1-474F-B8D4-C6665E19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10B-7DDD-4EA2-92DA-ABD1F43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CE9-CD54-4361-8B2E-2BA4792F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5A1-EEE3-43E1-8BA1-CA867E4F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B7D-FCF2-4D19-AD36-0E3942B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27F-83C8-4552-80A4-ACFC214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F94-19EF-4A2C-99C6-C3E189C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5748-FC94-46FA-9EE1-5E205C1E08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413000"/>
            <a:ext cx="720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父母心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稍</a:t>
            </a: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微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嗣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788000" y="6165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ce1"/>
                </a:solidFill>
                <a:latin typeface="Arial"/>
              </a:rPr>
              <a:t>本课涉及到的几个日本的地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00000" y="1268280"/>
            <a:ext cx="70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</a:rPr>
              <a:t>濑户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268280"/>
            <a:ext cx="10476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0000"/>
                </a:solidFill>
                <a:latin typeface="Arial"/>
              </a:rPr>
              <a:t>北海道函馆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54936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</a:rPr>
              <a:t>相模滩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907920"/>
            <a:ext cx="9144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eece1"/>
                </a:solidFill>
                <a:latin typeface="Arial"/>
              </a:rPr>
              <a:t>1.</a:t>
            </a:r>
            <a:r>
              <a:rPr b="1" lang="zh-CN" sz="7200" spc="-1" strike="noStrike">
                <a:solidFill>
                  <a:srgbClr val="eeece1"/>
                </a:solidFill>
                <a:latin typeface="Arial"/>
              </a:rPr>
              <a:t>认读理解本课字词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读课文。思考写了一件什么事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eece1"/>
                </a:solidFill>
                <a:latin typeface="Arial"/>
              </a:rPr>
              <a:t>3. </a:t>
            </a:r>
            <a:r>
              <a:rPr b="1" lang="zh-CN" sz="7200" spc="-1" strike="noStrike">
                <a:solidFill>
                  <a:srgbClr val="eeece1"/>
                </a:solidFill>
                <a:latin typeface="Arial"/>
              </a:rPr>
              <a:t>你都读懂了什么？还有什么疑问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2411280" y="333360"/>
            <a:ext cx="376416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预习作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907920"/>
            <a:ext cx="9144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eece1"/>
                </a:solidFill>
                <a:latin typeface="Arial"/>
              </a:rPr>
              <a:t>1.</a:t>
            </a:r>
            <a:r>
              <a:rPr b="1" lang="zh-CN" sz="7200" spc="-1" strike="noStrike">
                <a:solidFill>
                  <a:srgbClr val="eeece1"/>
                </a:solidFill>
                <a:latin typeface="Arial"/>
              </a:rPr>
              <a:t>认读理解本课字词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eeece1"/>
                </a:solidFill>
                <a:latin typeface="Arial"/>
              </a:rPr>
              <a:t>2.</a:t>
            </a:r>
            <a:r>
              <a:rPr b="1" lang="zh-CN" sz="7200" spc="-1" strike="noStrike">
                <a:solidFill>
                  <a:srgbClr val="eeece1"/>
                </a:solidFill>
                <a:latin typeface="Arial"/>
              </a:rPr>
              <a:t>熟读课文。思考写了一件什么事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你还读懂了什么？还有什么疑问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2411280" y="333360"/>
            <a:ext cx="376416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预习作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-1440" y="0"/>
            <a:ext cx="914544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穷父母为什么要把孩子送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为什么几次调换，最后却不送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504d"/>
                </a:solidFill>
                <a:latin typeface="Arial"/>
              </a:rPr>
              <a:t>方法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504d"/>
                </a:solidFill>
                <a:latin typeface="Arial"/>
              </a:rPr>
              <a:t>品读课文，画出相关词句，标注出你的体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第二天清晨，当船驶过房总半岛，父亲拉着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岁的二儿子又来到贵夫人的客舱。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　 “</a:t>
            </a:r>
            <a:r>
              <a:rPr b="1" lang="zh-CN" sz="4500" spc="-1" strike="noStrike">
                <a:solidFill>
                  <a:srgbClr val="c0504d"/>
                </a:solidFill>
                <a:latin typeface="Arial"/>
              </a:rPr>
              <a:t>昨晚，我们仔细地考虑了好久，不管家里多穷，我们也该留着大儿子继承家业。把长子送人，怎么说都是不合适的。如果允许，我们想用二儿子换回大儿子！”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　“完全可以。”贵夫人愉快地回答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天傍晚，母亲又领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的女儿到了贵夫人的客舱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很为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按理说，我们不应该再给您添麻烦了。我二儿子的长相极像他死去的奶奶。把他送给您，总觉得像是抛弃了婆婆似的。再说，孩子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岁了，他会记得是我们抛弃他的，这太可怜了。如果您允许，我想用女儿换回他。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贵夫人一听是想用女孩儿换走男孩儿，稍有点不高兴，但看见孩子的母亲难过的样子，也只好同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907920"/>
            <a:ext cx="9144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认读理解本课字词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熟读课文。思考写了一件什么事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你都读懂了什么？还有什么疑问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2411280" y="333360"/>
            <a:ext cx="376416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预习作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89000"/>
            <a:ext cx="8970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天上午，轮船快接近北海道的时候，夫妻俩又出现在贵夫人的客舱里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什么话还没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放声大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“你们怎么了？”贵夫人问了好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父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抽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说：“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对不起。昨晚我们一夜没合眼，女儿太小了，真舍不得她。把不懂事的孩子送给别人，我们做父母的心太狠了。我们愿意把钱还给您，请您把孩子还给我们。与其把孩子送给别人，还不如全家一起挨饿</a:t>
            </a: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89000"/>
            <a:ext cx="8970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父亲：“</a:t>
            </a:r>
            <a:r>
              <a:rPr b="1" lang="zh-CN" sz="3000" spc="-1" strike="noStrike">
                <a:solidFill>
                  <a:srgbClr val="c0504d"/>
                </a:solidFill>
                <a:latin typeface="Arial"/>
              </a:rPr>
              <a:t>昨晚，我们仔细地考虑了好久，不管家里多穷，我们也该留着大儿子继承家业。把长子送人，怎么说都是不合适的。如果允许，我们想用二儿子换回大儿子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母亲很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为难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地说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000" spc="-1" strike="noStrike">
                <a:solidFill>
                  <a:srgbClr val="c0504d"/>
                </a:solidFill>
                <a:latin typeface="Arial"/>
              </a:rPr>
              <a:t>按理说，我们不应该再给您添麻烦了。我二儿子的长相极像他死去的奶奶。把他送给您，总觉得像是抛弃了婆婆似的。再说，孩子</a:t>
            </a:r>
            <a:r>
              <a:rPr b="1" lang="en-US" sz="3000" spc="-1" strike="noStrike">
                <a:solidFill>
                  <a:srgbClr val="c0504d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c0504d"/>
                </a:solidFill>
                <a:latin typeface="Arial"/>
              </a:rPr>
              <a:t>岁了，他会记得是我们抛弃他的，这太可怜了。如果您允许，我想用女儿换回他。”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父亲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抽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地说：“</a:t>
            </a:r>
            <a:r>
              <a:rPr b="1" lang="zh-CN" sz="3000" spc="-1" strike="noStrike">
                <a:solidFill>
                  <a:srgbClr val="c0504d"/>
                </a:solidFill>
                <a:latin typeface="Arial"/>
              </a:rPr>
              <a:t>对不起。昨晚我们一夜没合眼，女儿太小了，真舍不得她。把不懂事的孩子送给别人，我们做父母的心太狠了。我们愿意把钱还给您，请您把孩子还给我们。与其把孩子送给别人，还不如全家一起挨饿</a:t>
            </a:r>
            <a:r>
              <a:rPr b="1" lang="en-US" sz="3000" spc="-1" strike="noStrike">
                <a:solidFill>
                  <a:srgbClr val="c0504d"/>
                </a:solidFill>
                <a:latin typeface="Arial"/>
              </a:rPr>
              <a:t>…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8964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</a:rPr>
              <a:t>贵夫人听了他们的话，流下了同情的眼泪，她说</a:t>
            </a:r>
            <a:r>
              <a:rPr b="1" lang="zh-CN" sz="5200" spc="-1" strike="noStrike">
                <a:solidFill>
                  <a:srgbClr val="c0504d"/>
                </a:solidFill>
                <a:latin typeface="Arial"/>
              </a:rPr>
              <a:t>：“都是我不好。我虽然没有孩子，可理解做父母的心。我真羡慕你们。孩子应该还给你们，可这钱要请你们收下，这是对你们父母心的酬谢，当做你们在北海道做生意的本钱吧！”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-17136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539640" y="1773360"/>
            <a:ext cx="806472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谁言寸草心  报得三春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826920" y="836640"/>
            <a:ext cx="73454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字音我能读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侍</a:t>
            </a: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嘀</a:t>
            </a: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咕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抽</a:t>
            </a: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泣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酬</a:t>
            </a: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谢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60760" y="663480"/>
            <a:ext cx="5301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00"/>
                </a:solidFill>
                <a:latin typeface="Arial"/>
              </a:rPr>
              <a:t>搭</a:t>
            </a:r>
            <a:r>
              <a:rPr b="1" lang="zh-CN" sz="33600" spc="-1" strike="noStrike">
                <a:solidFill>
                  <a:srgbClr val="ff0000"/>
                </a:solidFill>
                <a:latin typeface="Arial"/>
              </a:rPr>
              <a:t>讪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0"/>
            <a:ext cx="9144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700" spc="-1" strike="noStrike">
                <a:solidFill>
                  <a:srgbClr val="000000"/>
                </a:solidFill>
                <a:latin typeface="Arial"/>
              </a:rPr>
              <a:t>后来，她在老女佣耳边嘀咕了一阵，女佣就走到那个穷人身旁</a:t>
            </a:r>
            <a:r>
              <a:rPr b="1" lang="zh-CN" sz="7700" spc="-1" strike="noStrike">
                <a:solidFill>
                  <a:srgbClr val="ff0000"/>
                </a:solidFill>
                <a:latin typeface="Arial"/>
              </a:rPr>
              <a:t>搭讪</a:t>
            </a:r>
            <a:r>
              <a:rPr b="1" lang="zh-CN" sz="7700" spc="-1" strike="noStrike">
                <a:solidFill>
                  <a:srgbClr val="000000"/>
                </a:solidFill>
                <a:latin typeface="Arial"/>
              </a:rPr>
              <a:t>起来。“孩子多，真快乐啊！”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2:51:29Z</dcterms:created>
  <dc:creator/>
  <dc:description/>
  <cp:keywords/>
  <dc:language>en-US</dc:language>
  <cp:lastModifiedBy>Administrator</cp:lastModifiedBy>
  <dcterms:modified xsi:type="dcterms:W3CDTF">2015-04-07T07:42:43Z</dcterms:modified>
  <cp:revision>25</cp:revision>
  <dc:subject/>
  <dc:title>幻灯片 1</dc:title>
</cp:coreProperties>
</file>