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jpeg" ContentType="image/jpeg"/>
  <Override PartName="/ppt/media/image10.png" ContentType="image/png"/>
  <Override PartName="/ppt/media/image1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chimes.wav" ContentType="audio/x-wav"/>
  <Override PartName="/ppt/media/drumroll.wav" ContentType="audio/x-wav"/>
  <Override PartName="/ppt/media/projctor.wav" ContentType="audio/x-wav"/>
  <Override PartName="/ppt/media/image9.jpeg" ContentType="image/jpeg"/>
  <Override PartName="/ppt/media/image3.wmf" ContentType="image/x-wmf"/>
  <Override PartName="/ppt/media/image8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1B0-97B8-4A4C-AF41-4BC4D466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70D-32E7-4ADD-924C-34920CD3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E88-6B02-4669-8C8C-84DD6D8B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AC7-20A1-437B-9438-AAD79D1A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F37-7CE5-4410-9071-D561DF62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C4A-5D8D-4C86-86EE-3E76D35A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FEA-99FE-4688-9C8F-F757358B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AF3-3CD4-4D68-8802-99A72C47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C8D-230D-45A9-9DA9-2B8C2319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B4D-89F6-463B-99D7-91833AB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197-BABD-404E-9DC0-AD804F36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EFA-FE4D-42DA-8AD8-543C5325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D0EC-38A6-4399-8243-28B45BE909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古 诗 四 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野径云俱黑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江船火独明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晓看红湿处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花重锦官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76984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野径：田野小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俱：全，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火：渔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晓：天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红湿：指花朵上沾满雨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花重：指花沾满了雨水显得饱满沉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锦官城，指成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02192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放眼望去野外阴云密布，一片漆黑，只有江船上的灯火发出星星点点的光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天亮的时候去看雨露滋润的花朵，鲜艳欲滴，整个锦官城将汇成花的海洋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六月二十七日望湖楼醉书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　（宋）苏　轼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黑云翻墨未遮山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白雨跳珠乱入船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卷地风来忽吹散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望湖楼下水如天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【注释】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六月二十七日：宋熙宁五年（１０７２年）六月二十七日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望湖楼：在杭州西湖边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黑云翻墨：乌黑的云像打翻的墨汁。墨，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ò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未遮山：还没把群山遮住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白雨跳珠：白色的雨点就像珍珠般跳落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黑云：乌云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翻墨：比喻乌云翻滚好像打翻了墨汁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白雨：骤降之雨，短时间内雨量很大，落在湖面上泛着白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黑云翻墨未遮山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白雨跳珠乱入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107520"/>
            <a:ext cx="846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乌云汹涌翻滚，像打翻的墨汁一样黑，但还没把青山遮住。晶莹洁白的雨点好像珍珠，纷纷跳入游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卷地风来忽吹散，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望湖楼下水如天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580560"/>
            <a:ext cx="842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忽然一阵大风席卷而来，吹散了乌云，望湖楼下的湖面平静清澈得如同蓝天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11280" y="1916280"/>
            <a:ext cx="45626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题临安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南宋林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1355760"/>
            <a:ext cx="5334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题临安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宋）林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山外青山楼外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西湖歌舞几时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暖风熏得游人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直把杭州作汴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31251"/>
          <a:stretch/>
        </p:blipFill>
        <p:spPr>
          <a:xfrm>
            <a:off x="4191120" y="380880"/>
            <a:ext cx="4876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202680"/>
            <a:ext cx="899172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公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12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，金人攻陷北宋首都汴梁，俘虏了徽宗、钦宗两个皇帝，中原国土全被金人侵占。赵构逃到江南，在临安即位，史称南宋。南宋小朝廷并没有接受北宋亡国的惨痛教训而发愤图强，当政者不思收复中原失地，只求苟且偷安，对外屈膝投降，对内残酷迫害岳飞等爱国人士；政治上腐败无能，达官显贵一味纵情声色，寻欢作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11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17243" b="0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53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18000" y="260280"/>
            <a:ext cx="4168800" cy="6140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191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3989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滁  州  西  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9280" y="2708280"/>
            <a:ext cx="48243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唐  韦应物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blinds dir="horz"/>
    <p:sndAc>
      <p:stSnd>
        <p:snd r:embed="rId2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1640" y="141300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360" y="1371240"/>
            <a:ext cx="8820360" cy="43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邸：高级官员的住所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休：停止、罢休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直：简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汴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biàn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）州：古时又称汴梁、汴京，今河南省开封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⑤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暖风：这里不仅指自然界和煦的风，还指由歌舞所带来的令人痴迷的“暖风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⑥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临安：南宋的京城，即今浙江省杭州市。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-15840"/>
            <a:ext cx="8915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意思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山外青山楼外楼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青山之外还有青山，高楼之外还有高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西湖歌舞几时休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湖中的游客都是达官贵人，他们通宵达旦与歌女一起寻欢作乐，这种情况不知何时才能停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暖风熏得游人醉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暖洋洋的春风把游人吹得醉醺醺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直把杭州作汴州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他们忘乎所以，只图偷安宴乐于西湖，竟把杭州当成了汴州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60880" y="150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拓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6360" y="1916280"/>
            <a:ext cx="68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面对醉生梦死的南宋权贵，你想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76320"/>
            <a:ext cx="5410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满江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   （宋）岳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怒发冲冠，凭栏处潇潇雨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抬望眼，仰天长啸，壮怀激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十功名尘与土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八千里路云和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莫等闲白了少年头，空悲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靖康耻，犹未雪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臣子恨，何时灭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驾长车踏破贺兰山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壮志饥餐胡虏肉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笑谈渴饮匈奴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待从头收拾旧山河，朝天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3760" y="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2128680"/>
            <a:ext cx="59374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独怜幽草涧边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上有黄鹂深树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春潮带雨晚来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野渡无人舟自横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152280"/>
            <a:ext cx="51818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滁州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西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唐）韦应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vert"/>
    <p:sndAc>
      <p:stSnd>
        <p:snd r:embed="rId1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61920"/>
            <a:ext cx="86104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【注解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州：今安徽省滁州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西涧：滁州城西郊的一条小溪，有人称上马河。即今天的西涧湖（原城西水库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怜：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春潮：春天上涨的河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野渡：郊外的渡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横：指随意飘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涧：夹在两山间的水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黄鹂：鸟名，也叫黄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zoom dir="in"/>
    <p:sndAc>
      <p:stSnd>
        <p:snd r:embed="rId1" name="drumroll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【译文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偏爱那涧边幽深之处的花草，黄鹂在枝叶繁茂的树林深处婉转鸣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本来就上涨的河水，晚潮加上春雨，水势更急；郊外渡口静寂无人，只有空的渡船悠然泊于岸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ShockwaveFlash2"/>
          <p:cNvGraphicFramePr/>
          <p:nvPr/>
        </p:nvGraphicFramePr>
        <p:xfrm>
          <a:off x="0" y="304920"/>
          <a:ext cx="9144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32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ShockwaveFlash1"/>
          <p:cNvGraphicFramePr/>
          <p:nvPr/>
        </p:nvGraphicFramePr>
        <p:xfrm>
          <a:off x="1187280" y="2349360"/>
          <a:ext cx="604872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6048720" cy="3672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50760" y="11048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3040" y="1417680"/>
            <a:ext cx="479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好 雨 知 时 节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当 春 乃 发 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27080" y="261936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随 风 潜 入 夜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润 物 细 无 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36440" y="3862440"/>
            <a:ext cx="26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野 径 云 俱 黑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江 船 火 独 明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9680" y="5165640"/>
            <a:ext cx="26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晓 看 红 湿 处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花 重 锦 官 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春夜喜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唐）杜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【注释】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乃：就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潜：悄悄地，无声无息地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野径：田野间的小路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俱：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都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红湿：指花朵上带着雨露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　锦官城：指成都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好雨知道应该下雨的时节，正当春天万物萌发生长的时候，它在夜里随风降临了，不声不响地滋润着万物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63760" y="456480"/>
            <a:ext cx="2009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好雨知时节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当春乃发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随风潜入夜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润物细无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95560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好雨：春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知时节：雨下得正是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当：在……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乃：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潜：悄悄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润：滋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14T11:36:0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