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camera.wav" ContentType="audio/x-wav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9E2-207E-4E28-ABD6-6863DE43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B40-8A73-4085-97B8-AB608E3E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67B-4205-403B-AEA4-EEDDB2CA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126-6B7E-4148-959A-BAE25D2B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2668-B990-423B-AF13-5932A23A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A3DA-4EF9-4A5D-9D98-ED2488D6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E832-B029-4A98-B28F-C2306E80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BFFB-E27A-4CE1-9453-7658075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107C-7579-4547-8E02-7DB05618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8342-E6FE-4B36-AA89-80322063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1388-727B-4A26-890F-CE458D8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6DE-11F1-4DF7-8BCD-C46B634E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35FB-A62E-4C7F-8839-4E5CCCB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748F-C80F-4FB9-9354-9B28CC82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06B4-DD46-4DF0-AF8D-181C301A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C359-6D70-4E5D-81F4-D5393906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442C-2A63-4B0A-B84A-47752814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B7D-C795-48C4-A18B-BFC2889B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6DD-A036-49FD-B341-F869020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CBE-0B5A-434B-ABF2-2797E348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CF6-121C-4074-AA65-CF341F7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89E-8675-451B-BE17-7233EDB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3F6-F857-4ABD-8916-C2C1C6F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1BC-D43E-49F8-A0D7-DFF1464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9442-1884-4C98-8E8C-570CE55256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B2BA-17D8-4664-AD23-81133A5AE1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4820450803[1]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1633680" y="223056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43960" y="-1343880"/>
            <a:ext cx="1399320" cy="9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卖火柴的小女孩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468360" y="333360"/>
            <a:ext cx="748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和奶奶在一起的日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一个满头金发，穿着妈妈的围裙，围裙兜里揣着几盒火柴，她，就是那个穷苦的小女孩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在她很小的时候，爸爸妈妈就去世了，只有她和奶奶住在一起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有一天，小女孩趴在窗户往下看。突然，她看见一个富人孩子手里拿着个布娃娃，心里很是羡慕。到了傍晚，小女孩的奶奶从富人家里干完活回来了，小女孩便撒娇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奶奶，奶奶，我想要布娃娃！我想要布娃娃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奶奶听了，心里非常难受，我们连饭都吃饱，哪有钱买布娃娃？但是奶奶并没有说，不行，咱家穷，买不起。而是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好，奶奶会给你一个布娃娃的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小女孩听了，很开心，乐得直拍手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一晃，几个月过去了，到圣诞节了，家家都洋溢在欢乐之中。这天晚上，奶奶很早就回来了，一进家门，奶奶的手就一直背在身后，使小女孩很好奇。奶奶将小女孩叫道屋里，然后将手往前一伸，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宝贝儿，圣诞快乐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小女孩看见了朝思暮想的布娃娃，开心极了，搂住奶奶的脖子，亲了奶奶两下，奶奶的眼睛立刻眯成了月牙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而在之前，小女孩的奶奶是多么的辛苦，把富人丢弃了的布和纽扣偷偷地揣在口袋里，晚上回家夜深人静的时候，托着疲惫的身体，一针一线地做起布娃娃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不久，小女孩的奶奶因贫困潦倒，无钱医病，飞到了天堂，而小女孩也在几年后的大年夜，饥寒交迫，带着美丽的幻觉，飞到了天堂，找到了奶奶。从此以后，和奶奶一起过着幸福快乐的生活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4360" y="83664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卖火柴的小女孩和奶奶在一起的时候，非常幸福，因为奶奶对她的爱是没有人能比的。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有一天，小女孩正在睡午觉，而奶奶却在那里织毛衣。奶奶的毛衣织完 时，小女孩也醒了。奶奶把毛衣拿到小女孩的面前，小女孩非常高兴，奶奶把毛衣帮小女孩穿上，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虽然这些毛线与针是从外面捡回来的，但是我已经把毛线洗干净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小女孩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就算是不干净的毛衣，我也很高兴，因为它是奶奶亲手织的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小女孩跑到外面蹦啊跳啊，奶奶在屋里笑眯眯的拍起手来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一天夜里，小女孩做了一个可怕的梦，吓得她急忙跑到奶奶的屋子里。奶奶温柔的安慰着她，还给小女孩讲她爱听的故事。就这样，小女孩的脸上露出了甜美的笑容，慢慢睡着了。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一天上午，温暖的阳光照射在小女孩和奶奶的身上。小女孩正在和奶奶一起采野花，突然，奶奶让她闭上眼睛，给她戴上了自己亲手编的花环。这时， 真漂亮，比我在商店橱窗里看到的还要漂亮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小女孩在草地上欢快的奔跑着，小鸟飞来了，蝴蝶飞来了，它们似乎在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小女孩，你可真漂亮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奶奶在旁边温柔地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孙女，你是世界上最漂亮的天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和奶奶在一起的时候，小女孩是那么幸福，那么快乐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4.avi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"/>
          <p:cNvSpPr txBox="1"/>
          <p:nvPr/>
        </p:nvSpPr>
        <p:spPr>
          <a:xfrm>
            <a:off x="2195640" y="260280"/>
            <a:ext cx="4465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火炉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57146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多么温暖多么明亮的火焰啊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5.avi" descr=""/>
          <p:cNvPicPr/>
          <p:nvPr/>
        </p:nvPicPr>
        <p:blipFill>
          <a:blip r:embed="rId1"/>
          <a:srcRect l="5906" t="0" r="0" b="0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2987640" y="0"/>
            <a:ext cx="2664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烤鹅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53680" y="0"/>
            <a:ext cx="729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香喷喷的烤鹅一直向小女孩走来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7.avi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3"/>
          <p:cNvSpPr txBox="1"/>
          <p:nvPr/>
        </p:nvSpPr>
        <p:spPr>
          <a:xfrm>
            <a:off x="2916360" y="0"/>
            <a:ext cx="259236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奶奶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6021360"/>
            <a:ext cx="640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奶奶，请把我带走吧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飞走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8317080" y="836640"/>
            <a:ext cx="358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回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奶奶抱着小女孩一起飞走了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7.avi" descr=""/>
          <p:cNvPicPr/>
          <p:nvPr/>
        </p:nvPicPr>
        <p:blipFill>
          <a:blip r:embed="rId2"/>
          <a:srcRect l="7482" t="0" r="35835" b="40689"/>
          <a:stretch/>
        </p:blipFill>
        <p:spPr>
          <a:xfrm>
            <a:off x="1619280" y="2060640"/>
            <a:ext cx="6264360" cy="42656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395280" y="692280"/>
            <a:ext cx="77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华文彩云"/>
              </a:rPr>
              <a:t>和奶奶在一起的时候</a:t>
            </a:r>
            <a:endParaRPr b="1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-316440"/>
            <a:ext cx="7696080" cy="69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556272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403280" y="1584360"/>
            <a:ext cx="8172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写作要求：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奶奶在一起的时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题目。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根据课文展开合情合理的想像。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注意故事的完整。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写出自己的独特感受。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写出对小女孩的同情和关心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692360" y="59500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95280" y="404640"/>
            <a:ext cx="22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华文行楷"/>
              </a:rPr>
              <a:t>想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华文行楷"/>
              <a:ea typeface="华文行楷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4427640" y="404640"/>
            <a:ext cx="22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华文行楷"/>
              </a:rPr>
              <a:t>迁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1116000" y="170028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把句子改通顺，注意不写错别字，正确使用标点符号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0:19:53Z</dcterms:created>
  <dc:creator>微软中国</dc:creator>
  <dc:description/>
  <dc:language>en-US</dc:language>
  <cp:lastModifiedBy>dreamsummit</cp:lastModifiedBy>
  <dcterms:modified xsi:type="dcterms:W3CDTF">2015-04-29T06:44:31Z</dcterms:modified>
  <cp:revision>55</cp:revision>
  <dc:subject/>
  <dc:title>幻灯片 1</dc:title>
</cp:coreProperties>
</file>