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882-930B-4361-83E0-66705246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C0B-0644-4995-8BE8-ED53A4A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9EE-82B9-46FF-BE18-C7BA8A6D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9056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2880"/>
            <a:ext cx="264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D07-834B-44EF-B8B7-EBE0F978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68A-0EE6-4AF8-A825-FE20258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4CA-4869-4A18-8897-5196332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A27-7D3E-4DF9-B34F-9B90CAA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3FF-DBA3-4137-A751-F8BAFBB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34A-C15C-4EA7-8F75-25D682B3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C47-8119-4AD4-B25E-DB78F4D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288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DE7-026C-40C7-A578-E23A1C7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90560"/>
            <a:ext cx="40158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761-B298-4F84-A0EB-32E56FB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325-3B9E-4A03-AC29-355769953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2286000"/>
            <a:ext cx="36860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花之咏</a:t>
            </a:r>
            <a:endParaRPr b="1" lang="en-US" sz="96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447920" y="3352680"/>
            <a:ext cx="1600200" cy="1407960"/>
            <a:chOff x="1447920" y="3352680"/>
            <a:chExt cx="1600200" cy="1407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47920" y="335268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862640" y="34290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赠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3352680"/>
            <a:ext cx="1600200" cy="1407960"/>
            <a:chOff x="3124080" y="3352680"/>
            <a:chExt cx="1600200" cy="1407960"/>
          </a:xfrm>
        </p:grpSpPr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3124080" y="335268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538800" y="34290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吁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00600" y="3352680"/>
            <a:ext cx="1600200" cy="1407960"/>
            <a:chOff x="4800600" y="3352680"/>
            <a:chExt cx="1600200" cy="14079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4800600" y="335268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15320" y="33526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聆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477120" y="3352680"/>
            <a:ext cx="1600200" cy="1407960"/>
            <a:chOff x="6477120" y="3352680"/>
            <a:chExt cx="1600200" cy="1407960"/>
          </a:xfrm>
        </p:grpSpPr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6477120" y="335268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891840" y="33526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眠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47920" y="2514600"/>
            <a:ext cx="167616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zè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51460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x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51460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l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514600"/>
            <a:ext cx="160020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mi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066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形近字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2590920"/>
            <a:ext cx="2819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曾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增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赠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895480"/>
            <a:ext cx="381240" cy="19051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590920"/>
            <a:ext cx="2133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幕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暮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慕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895480"/>
            <a:ext cx="380880" cy="1905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1702080" y="838080"/>
            <a:ext cx="529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  <a:ea typeface="楷体_GB2312"/>
              </a:rPr>
              <a:t>是一句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大自然把我吐了出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又把我收了回去，藏在她的心室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541160" y="243828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一段中“我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370760" y="3048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答：是一句话，是大自然的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93640" y="380988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说大自然是把“我”吐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573000" y="449568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答：这里运用拟人的手法，花是大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孩子，大自然孕育了花的生命，花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终又回到大自然的怀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730160" y="914400"/>
            <a:ext cx="541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  <a:ea typeface="楷体_GB2312"/>
              </a:rPr>
              <a:t>是一颗星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从湛蓝的天幕坠落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碧绿的地毯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43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325880" y="3048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”是什么？把花比喻成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8116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答：是一颗星星，把花比喻成从天上坠落的美丽繁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80880" y="30492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  <a:ea typeface="楷体_GB2312"/>
              </a:rPr>
              <a:t>是大地的女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冬天把我孕育，春天把我降生，夏天把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抚养，秋天催我入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586520" y="2590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冬天——春天——夏天——秋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04920" y="3809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孕育——降生——抚养——入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83808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449568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632448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72320" y="47689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写了花的一生，一个轮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/>
          <p:cNvSpPr/>
          <p:nvPr/>
        </p:nvSpPr>
        <p:spPr>
          <a:xfrm>
            <a:off x="247680" y="228600"/>
            <a:ext cx="53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一句话，大自然把我吐了出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把我收了回去，藏在她的心室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一颗星星，从湛蓝的天幕坠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碧绿的地毯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大地的女儿，冬天把我孕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把我降生，夏天把我抚养，秋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我入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右大括号 6"/>
          <p:cNvSpPr/>
          <p:nvPr/>
        </p:nvSpPr>
        <p:spPr>
          <a:xfrm>
            <a:off x="5551560" y="380880"/>
            <a:ext cx="620640" cy="2743200"/>
          </a:xfrm>
          <a:custGeom>
            <a:avLst/>
            <a:gdLst>
              <a:gd name="textAreaLeft" fmla="*/ 0 w 620640"/>
              <a:gd name="textAreaRight" fmla="*/ 223920 w 620640"/>
              <a:gd name="textAreaTop" fmla="*/ 218520 h 2743200"/>
              <a:gd name="textAreaBottom" fmla="*/ 25246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53"/>
                  <a:pt x="10800" y="5505"/>
                </a:cubicBezTo>
                <a:lnTo>
                  <a:pt x="10800" y="5295"/>
                </a:lnTo>
                <a:cubicBezTo>
                  <a:pt x="10800" y="8048"/>
                  <a:pt x="16200" y="10800"/>
                  <a:pt x="21600" y="10800"/>
                </a:cubicBezTo>
                <a:cubicBezTo>
                  <a:pt x="16200" y="10800"/>
                  <a:pt x="10800" y="13553"/>
                  <a:pt x="10800" y="16305"/>
                </a:cubicBezTo>
                <a:lnTo>
                  <a:pt x="10800" y="16095"/>
                </a:lnTo>
                <a:cubicBezTo>
                  <a:pt x="10800" y="1884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6172200" y="152388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大括号 8"/>
          <p:cNvSpPr/>
          <p:nvPr/>
        </p:nvSpPr>
        <p:spPr>
          <a:xfrm>
            <a:off x="5856120" y="1743120"/>
            <a:ext cx="777960" cy="677880"/>
          </a:xfrm>
          <a:custGeom>
            <a:avLst/>
            <a:gdLst>
              <a:gd name="textAreaLeft" fmla="*/ 0 w 777960"/>
              <a:gd name="textAreaRight" fmla="*/ 280800 w 777960"/>
              <a:gd name="textAreaTop" fmla="*/ 17640 h 677880"/>
              <a:gd name="textAreaBottom" fmla="*/ 660240 h 6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右大括号 9"/>
          <p:cNvSpPr/>
          <p:nvPr/>
        </p:nvSpPr>
        <p:spPr>
          <a:xfrm>
            <a:off x="5467320" y="457200"/>
            <a:ext cx="388800" cy="2133720"/>
          </a:xfrm>
          <a:custGeom>
            <a:avLst/>
            <a:gdLst>
              <a:gd name="textAreaLeft" fmla="*/ 0 w 388800"/>
              <a:gd name="textAreaRight" fmla="*/ 140400 w 388800"/>
              <a:gd name="textAreaTop" fmla="*/ 10080 h 2133720"/>
              <a:gd name="textAreaBottom" fmla="*/ 2123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右大括号 10"/>
          <p:cNvSpPr/>
          <p:nvPr/>
        </p:nvSpPr>
        <p:spPr>
          <a:xfrm flipV="1">
            <a:off x="5506920" y="825120"/>
            <a:ext cx="1600200" cy="2819520"/>
          </a:xfrm>
          <a:custGeom>
            <a:avLst/>
            <a:gdLst>
              <a:gd name="textAreaLeft" fmla="*/ 0 w 1600200"/>
              <a:gd name="textAreaRight" fmla="*/ 577800 w 1600200"/>
              <a:gd name="textAreaTop" fmla="*/ 41400 h 2819520"/>
              <a:gd name="textAreaBottom" fmla="*/ 277812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1"/>
                  <a:pt x="10800" y="1022"/>
                </a:cubicBezTo>
                <a:lnTo>
                  <a:pt x="10800" y="9778"/>
                </a:lnTo>
                <a:cubicBezTo>
                  <a:pt x="10800" y="10289"/>
                  <a:pt x="16200" y="10800"/>
                  <a:pt x="21600" y="10800"/>
                </a:cubicBezTo>
                <a:cubicBezTo>
                  <a:pt x="16200" y="10800"/>
                  <a:pt x="10800" y="11311"/>
                  <a:pt x="10800" y="11822"/>
                </a:cubicBezTo>
                <a:lnTo>
                  <a:pt x="10800" y="20578"/>
                </a:lnTo>
                <a:cubicBezTo>
                  <a:pt x="10800" y="21089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右大括号 11"/>
          <p:cNvSpPr/>
          <p:nvPr/>
        </p:nvSpPr>
        <p:spPr>
          <a:xfrm>
            <a:off x="6477120" y="228600"/>
            <a:ext cx="1958760" cy="2288520"/>
          </a:xfrm>
          <a:custGeom>
            <a:avLst/>
            <a:gdLst>
              <a:gd name="textAreaLeft" fmla="*/ 0 w 1958760"/>
              <a:gd name="textAreaRight" fmla="*/ 707400 w 1958760"/>
              <a:gd name="textAreaTop" fmla="*/ 0 h 2288520"/>
              <a:gd name="textAreaBottom" fmla="*/ 2288880 h 228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的成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大括号 12"/>
          <p:cNvSpPr/>
          <p:nvPr/>
        </p:nvSpPr>
        <p:spPr>
          <a:xfrm>
            <a:off x="5796000" y="457200"/>
            <a:ext cx="511200" cy="3048120"/>
          </a:xfrm>
          <a:custGeom>
            <a:avLst/>
            <a:gdLst>
              <a:gd name="textAreaLeft" fmla="*/ 0 w 511200"/>
              <a:gd name="textAreaRight" fmla="*/ 184680 w 511200"/>
              <a:gd name="textAreaTop" fmla="*/ 13320 h 3048120"/>
              <a:gd name="textAreaBottom" fmla="*/ 30348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2"/>
                </a:cubicBezTo>
                <a:lnTo>
                  <a:pt x="10800" y="10498"/>
                </a:lnTo>
                <a:cubicBezTo>
                  <a:pt x="10800" y="10649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2"/>
                </a:cubicBezTo>
                <a:lnTo>
                  <a:pt x="10800" y="21298"/>
                </a:lnTo>
                <a:cubicBezTo>
                  <a:pt x="10800" y="21449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右大括号 13"/>
          <p:cNvSpPr/>
          <p:nvPr/>
        </p:nvSpPr>
        <p:spPr>
          <a:xfrm>
            <a:off x="5661000" y="457200"/>
            <a:ext cx="46080" cy="152280"/>
          </a:xfrm>
          <a:custGeom>
            <a:avLst/>
            <a:gdLst>
              <a:gd name="textAreaLeft" fmla="*/ 0 w 46080"/>
              <a:gd name="textAreaRight" fmla="*/ 16560 w 46080"/>
              <a:gd name="textAreaTop" fmla="*/ 1080 h 152280"/>
              <a:gd name="textAreaBottom" fmla="*/ 1512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"/>
          <p:cNvSpPr/>
          <p:nvPr/>
        </p:nvSpPr>
        <p:spPr>
          <a:xfrm>
            <a:off x="355680" y="228600"/>
            <a:ext cx="840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朋友间的一份礼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新娘出嫁时头上的一顶彩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也是生者致以死者的一件赠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miqi\Desktop\花之咏\2011119114610634.jpg"/>
          <p:cNvPicPr/>
          <p:nvPr/>
        </p:nvPicPr>
        <p:blipFill>
          <a:blip r:embed="rId2"/>
          <a:stretch/>
        </p:blipFill>
        <p:spPr>
          <a:xfrm>
            <a:off x="1401840" y="3129120"/>
            <a:ext cx="1600200" cy="33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miqi\Desktop\花之咏\151154JC-1.jpg"/>
          <p:cNvPicPr/>
          <p:nvPr/>
        </p:nvPicPr>
        <p:blipFill>
          <a:blip r:embed="rId3"/>
          <a:srcRect l="0" t="0" r="-4657" b="30628"/>
          <a:stretch/>
        </p:blipFill>
        <p:spPr>
          <a:xfrm>
            <a:off x="3165480" y="3429000"/>
            <a:ext cx="1836720" cy="126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ql17_6"/>
          <p:cNvPicPr/>
          <p:nvPr/>
        </p:nvPicPr>
        <p:blipFill>
          <a:blip r:embed="rId4"/>
          <a:srcRect l="0" t="0" r="-6712" b="12178"/>
          <a:stretch/>
        </p:blipFill>
        <p:spPr>
          <a:xfrm>
            <a:off x="5334120" y="3166920"/>
            <a:ext cx="1906560" cy="2840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20094314111078617s"/>
          <p:cNvPicPr/>
          <p:nvPr/>
        </p:nvPicPr>
        <p:blipFill>
          <a:blip r:embed="rId5"/>
          <a:stretch/>
        </p:blipFill>
        <p:spPr>
          <a:xfrm>
            <a:off x="7391520" y="3738600"/>
            <a:ext cx="15364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442880" y="685800"/>
            <a:ext cx="6325200" cy="2288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草原上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舞姿轻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为她打扮；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里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叹吁呼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是她芳香四溢。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醉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大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黑夜便眨着无数只眼睛看着我；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招徕白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为的是让她用眼睛观看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69960" y="3139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547280" y="3276720"/>
            <a:ext cx="57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啜饮露水的琼浆，聆听鸟儿的歌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着青草的拍子起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永远仰目朝天，不为看到我的幻想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为了看到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905120" y="7621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质疑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7040"/>
            <a:ext cx="701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楷体_GB2312"/>
              </a:rPr>
              <a:t>我啜饮露水的琼浆，聆听鸟儿的歌唱，合着青草的拍子起舞。”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我永远仰目朝天，不为看到我的幻想，而是为了看到光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怎么理解这句话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32880" y="41148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表面写花，实为写人，借花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569960"/>
            <a:ext cx="8229600" cy="1418400"/>
            <a:chOff x="228600" y="1569960"/>
            <a:chExt cx="8229600" cy="1418400"/>
          </a:xfrm>
        </p:grpSpPr>
        <p:sp>
          <p:nvSpPr>
            <p:cNvPr id="135" name=""/>
            <p:cNvSpPr/>
            <p:nvPr/>
          </p:nvSpPr>
          <p:spPr>
            <a:xfrm>
              <a:off x="228600" y="167544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en-US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追求光明”是花的崇高理想，也是作者的追求。这一节总结全文，借花表达了自己对美丽和光明的追求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13720" y="1569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200692153530204"/>
          <p:cNvPicPr/>
          <p:nvPr/>
        </p:nvPicPr>
        <p:blipFill>
          <a:blip r:embed="rId2"/>
          <a:stretch/>
        </p:blipFill>
        <p:spPr>
          <a:xfrm>
            <a:off x="533520" y="304920"/>
            <a:ext cx="8127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81080" y="7621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聚焦情境 评价反思</a:t>
            </a:r>
            <a:endParaRPr b="0" lang="en-US" sz="1800" spc="-1" strike="noStrike">
              <a:ln w="9360">
                <a:solidFill>
                  <a:srgbClr val="3333ff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在我们回看课题，如果把课文的题目换成《咏花》可以吗？谈谈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79640" y="2987640"/>
            <a:ext cx="695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79640" y="2987640"/>
            <a:ext cx="695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84360" y="878040"/>
            <a:ext cx="580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35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课文是用第一人称拟人的手法写出了花的心声，这是花在自我歌唱，作者与花融为一体了，花的理想与追求就是作者的理想与追求，因此，题目“花之咏”――“花的歌唱”是与课文内容吻合的。而题目“咏花”，就是作者站在旁观者的立场上客观地歌咏花，这与课文内容是不相符的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40" y="22860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240" y="330372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83808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拓展情境 当堂训练</a:t>
            </a:r>
            <a:endParaRPr b="0" lang="en-US" sz="1800" spc="-1" strike="noStrike">
              <a:ln w="9360">
                <a:solidFill>
                  <a:srgbClr val="3333ff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26668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现在请同学们用第一人称拟人的手法，根据前四段的结构特点，试着仿写一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358056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楷体_GB2312"/>
              </a:rPr>
              <a:t>学习了纪伯伦的《花之咏》，我们从花儿的自我歌唱中，不但感受到花儿的美丽，而且体会到作者的崇高理想与追求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62520" y="175248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总结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9900"/>
                </a:solidFill>
                <a:latin typeface="Arial"/>
                <a:ea typeface="楷体_GB2312"/>
              </a:rPr>
              <a:t>                   </a:t>
            </a:r>
            <a:r>
              <a:rPr b="1" lang="zh-CN" sz="5400" spc="-1" strike="noStrike">
                <a:solidFill>
                  <a:srgbClr val="cc9900"/>
                </a:solidFill>
                <a:latin typeface="Arial"/>
                <a:ea typeface="楷体_GB2312"/>
              </a:rPr>
              <a:t>作  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到大自然中去观赏花草，想办法用花草来打扮我们的教室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平时收集花儿的图片，写明花名，特点等，办一期“百花”图片展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miqi\Desktop\花之咏\dadd8c492bd93f98d0c86a93.jpg"/>
          <p:cNvPicPr/>
          <p:nvPr/>
        </p:nvPicPr>
        <p:blipFill>
          <a:blip r:embed="rId2"/>
          <a:stretch/>
        </p:blipFill>
        <p:spPr>
          <a:xfrm>
            <a:off x="609480" y="685800"/>
            <a:ext cx="7621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0788492"/>
          <p:cNvPicPr/>
          <p:nvPr/>
        </p:nvPicPr>
        <p:blipFill>
          <a:blip r:embed="rId2"/>
          <a:stretch/>
        </p:blipFill>
        <p:spPr>
          <a:xfrm>
            <a:off x="457200" y="5335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14e6dd6ff2466c0a144dff9"/>
          <p:cNvPicPr/>
          <p:nvPr/>
        </p:nvPicPr>
        <p:blipFill>
          <a:blip r:embed="rId2"/>
          <a:stretch/>
        </p:blipFill>
        <p:spPr>
          <a:xfrm>
            <a:off x="609480" y="533520"/>
            <a:ext cx="78501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785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572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者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纪伯伦出生在黎巴嫩北部山区的一个农家。十二岁因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堪忍受奥斯曼帝国的残暴统治，随母亲迁往美国波士顿，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五岁只身返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纪伯伦是位热爱祖国，热爱全人类的艺术家。在生命的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岁月写下了《朦胧中的祖国》，他讴歌毕生苦恋的祖国“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我们灵魂中——是火，是光：您在我的胸膛里——是我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动的心脏。”他反对愚昧和陈腐，热爱自由，崇尚正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东方文学史上，纪伯伦的艺术风格独树一帜，既有理性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考的严谨，又有咏叹式的浪漫与抒情。他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世纪伟大的文学家，代表作有《先知》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泪与笑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3720" y="91440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创设情境 设疑立标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2730600"/>
            <a:ext cx="8001000" cy="1721160"/>
            <a:chOff x="1143000" y="2730600"/>
            <a:chExt cx="8001000" cy="1721160"/>
          </a:xfrm>
        </p:grpSpPr>
        <p:sp>
          <p:nvSpPr>
            <p:cNvPr id="53" name=""/>
            <p:cNvSpPr/>
            <p:nvPr/>
          </p:nvSpPr>
          <p:spPr>
            <a:xfrm>
              <a:off x="1143000" y="2730600"/>
              <a:ext cx="80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、查字典，说说“咏”是什么意思？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9160" y="3748320"/>
              <a:ext cx="528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、想一想“花之咏”是什么意思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5800" y="4724280"/>
            <a:ext cx="7021080" cy="703440"/>
            <a:chOff x="685800" y="4724280"/>
            <a:chExt cx="7021080" cy="703440"/>
          </a:xfrm>
        </p:grpSpPr>
        <p:sp>
          <p:nvSpPr>
            <p:cNvPr id="56" name=""/>
            <p:cNvSpPr/>
            <p:nvPr/>
          </p:nvSpPr>
          <p:spPr>
            <a:xfrm>
              <a:off x="1146600" y="4724280"/>
              <a:ext cx="656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、花在唱什么歌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4895640"/>
              <a:ext cx="186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371600" y="3884760"/>
            <a:ext cx="1600200" cy="1409040"/>
            <a:chOff x="1371600" y="3884760"/>
            <a:chExt cx="1600200" cy="140904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371600" y="388584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862640" y="38847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湛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048120" y="3886200"/>
            <a:ext cx="1600200" cy="1407960"/>
            <a:chOff x="3048120" y="3886200"/>
            <a:chExt cx="1600200" cy="14079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048120" y="388620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353040" y="3886200"/>
              <a:ext cx="110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幕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3886200"/>
            <a:ext cx="1600200" cy="1407960"/>
            <a:chOff x="4724280" y="3886200"/>
            <a:chExt cx="1600200" cy="140796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4724280" y="388620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39000" y="38862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毯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400800" y="3886200"/>
            <a:ext cx="1600200" cy="1407960"/>
            <a:chOff x="6400800" y="3886200"/>
            <a:chExt cx="1600200" cy="140796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400800" y="3886200"/>
              <a:ext cx="16002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815520" y="38862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9900"/>
                  </a:solidFill>
                  <a:latin typeface="Arial"/>
                  <a:ea typeface="楷体_GB2312"/>
                </a:rPr>
                <a:t>抚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71600" y="312408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zh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12408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m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124080"/>
            <a:ext cx="167616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t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3124080"/>
            <a:ext cx="16765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宋体"/>
              </a:rPr>
              <a:t>f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371600" y="1828800"/>
            <a:ext cx="4471920" cy="109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09680" y="533520"/>
            <a:ext cx="5486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凭借情境 解疑构建</a:t>
            </a:r>
            <a:endParaRPr b="0" lang="en-US" sz="1800" spc="-1" strike="noStrike">
              <a:ln w="9360">
                <a:solidFill>
                  <a:srgbClr val="3333ff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05:50:37Z</dcterms:created>
  <dc:creator>Administrator</dc:creator>
  <dc:description/>
  <dc:language>en-US</dc:language>
  <cp:lastModifiedBy/>
  <dcterms:modified xsi:type="dcterms:W3CDTF">2015-08-11T05:53:08Z</dcterms:modified>
  <cp:revision>3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