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AEEF-1A84-4A3A-9C96-3C5DD301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583-ECBC-4445-B2FB-4098E848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C009-E7CB-4E5F-8E82-BB19F0D0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12C9-B572-40DA-80B4-C43F22C0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B7B7-C610-41C8-B418-2CF48157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CA47-AF6D-4191-B976-592B0DF6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298C-FD6D-43BA-ACD8-85E9E48C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740D-2CA9-4753-8665-1C36CEA1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23B8-B06D-47F4-90D8-E6BD0EE2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0C92-E6D2-4421-8519-7719DBEC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E5BD-C5ED-40C1-89FD-1F7FEF9F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E320-EDD2-4336-86A8-9B569B4B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EF1C-9388-4982-8C35-3909076B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918D-7402-45E5-9598-7D0A2A3F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944B-4806-4AE9-97C9-B1A1A0F8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593F-B189-4589-BCAE-E96A3EA5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5619-3983-4E96-A7BA-DBD4ED23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8C43-07B5-4448-8A32-76A25009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5526-040F-4754-9F33-1905550F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E9B4-1D9D-49C8-9847-1951DE32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14F4-7948-4FB0-B696-D0F47C4D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253-8961-42E4-93D3-1885DF3F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9C0B-E034-4A6B-8E9A-BE73BE0B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1F21-4ED3-4418-A429-AD7F9BCC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7090-98AD-4E6F-B99D-DAACB84C22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1F70-BE09-487F-80C0-6A7E4AF7E27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4EF1-D5CF-41B8-90CC-DF700C8362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图片6"/>
          <p:cNvPicPr/>
          <p:nvPr/>
        </p:nvPicPr>
        <p:blipFill>
          <a:blip r:embed="rId2"/>
          <a:stretch/>
        </p:blipFill>
        <p:spPr>
          <a:xfrm>
            <a:off x="0" y="0"/>
            <a:ext cx="9534600" cy="72626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1189080" y="102888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97080" y="27306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986400" y="4762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湘教版四年级下册第八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WordArt 8" descr=""/>
          <p:cNvPicPr/>
          <p:nvPr/>
        </p:nvPicPr>
        <p:blipFill>
          <a:blip r:embed="rId3"/>
          <a:stretch/>
        </p:blipFill>
        <p:spPr>
          <a:xfrm>
            <a:off x="957240" y="1962000"/>
            <a:ext cx="613872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5"/>
          <p:cNvSpPr/>
          <p:nvPr/>
        </p:nvSpPr>
        <p:spPr>
          <a:xfrm>
            <a:off x="4356000" y="6453360"/>
            <a:ext cx="76320" cy="14436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图片2"/>
          <p:cNvPicPr/>
          <p:nvPr/>
        </p:nvPicPr>
        <p:blipFill>
          <a:blip r:embed="rId1"/>
          <a:stretch/>
        </p:blipFill>
        <p:spPr>
          <a:xfrm>
            <a:off x="0" y="47520"/>
            <a:ext cx="4429080" cy="6767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7960" y="47160"/>
            <a:ext cx="446076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Calibri"/>
              </a:rPr>
              <a:t>爸爸指着湖中一座翡翠似的小山说：“你看那小山，犹如白银盘中的青螺，这就是著名的君山。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/>
          <p:cNvSpPr/>
          <p:nvPr/>
        </p:nvSpPr>
        <p:spPr>
          <a:xfrm>
            <a:off x="7236000" y="6524640"/>
            <a:ext cx="144360" cy="14436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500" spc="-1" strike="noStrike">
                <a:solidFill>
                  <a:srgbClr val="3399ff"/>
                </a:solidFill>
                <a:latin typeface="Calibri"/>
              </a:rPr>
              <a:t>思考：</a:t>
            </a:r>
            <a:br>
              <a:rPr sz="6500"/>
            </a:br>
            <a:r>
              <a:rPr b="0" lang="zh-CN" sz="6500" spc="-1" strike="noStrike">
                <a:solidFill>
                  <a:srgbClr val="3399ff"/>
                </a:solidFill>
                <a:latin typeface="Calibri"/>
              </a:rPr>
              <a:t>     作者是按照什么顺序参观岳阳楼的，请大家在课文中把有关的词语画出来。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51912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353240" y="2221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作者的游览顺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0" y="923760"/>
            <a:ext cx="738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4200" spc="-1" strike="noStrike" u="sng">
                <a:solidFill>
                  <a:srgbClr val="3333cc"/>
                </a:solidFill>
                <a:uFillTx/>
                <a:latin typeface="Arial"/>
              </a:rPr>
              <a:t>沿着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弯曲的小路，</a:t>
            </a:r>
            <a:r>
              <a:rPr b="0" lang="zh-CN" sz="4200" spc="-1" strike="noStrike" u="sng">
                <a:solidFill>
                  <a:srgbClr val="3333cc"/>
                </a:solidFill>
                <a:uFillTx/>
                <a:latin typeface="Arial"/>
              </a:rPr>
              <a:t>穿过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一座牌楼，</a:t>
            </a:r>
            <a:r>
              <a:rPr b="0" lang="zh-CN" sz="4200" spc="-1" strike="noStrike" u="sng">
                <a:solidFill>
                  <a:srgbClr val="3333cc"/>
                </a:solidFill>
                <a:uFillTx/>
                <a:latin typeface="Arial"/>
              </a:rPr>
              <a:t>来到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了宽阔的平台，绿荫丛中三座金碧辉煌的楼阁，品字形排列在我们面前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4200" spc="-1" strike="noStrike" u="sng">
                <a:solidFill>
                  <a:srgbClr val="800080"/>
                </a:solidFill>
                <a:uFillTx/>
                <a:latin typeface="Arial"/>
              </a:rPr>
              <a:t>踏进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岳阳楼大门，迎面是</a:t>
            </a:r>
            <a:r>
              <a:rPr b="0" lang="zh-CN" sz="4200" spc="-1" strike="noStrike">
                <a:solidFill>
                  <a:srgbClr val="000000"/>
                </a:solidFill>
                <a:latin typeface="DFKai-SB"/>
                <a:ea typeface="DFKai-SB"/>
              </a:rPr>
              <a:t>…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DFKai-SB"/>
              </a:rPr>
              <a:t>3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바탕"/>
              </a:rPr>
              <a:t>、</a:t>
            </a:r>
            <a:r>
              <a:rPr b="0" lang="zh-CN" sz="4200" spc="-1" strike="noStrike" u="sng">
                <a:solidFill>
                  <a:srgbClr val="800080"/>
                </a:solidFill>
                <a:uFillTx/>
                <a:latin typeface="Arial"/>
                <a:ea typeface="바탕"/>
              </a:rPr>
              <a:t>从屏风后的楼梯登楼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바탕"/>
              </a:rPr>
              <a:t>，就看到</a:t>
            </a:r>
            <a:r>
              <a:rPr b="0" lang="zh-CN" sz="4200" spc="-1" strike="noStrike">
                <a:solidFill>
                  <a:srgbClr val="000000"/>
                </a:solidFill>
                <a:latin typeface="바탕"/>
                <a:ea typeface="바탕"/>
              </a:rPr>
              <a:t>……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바탕"/>
              </a:rPr>
              <a:t>凭栏远眺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课堂练习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5236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填一填，读一读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（             ）的平台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（             ）的色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（             ）的楼阁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（             ）的诗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（             ）的洞庭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（             ）的传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"/>
          <p:cNvSpPr/>
          <p:nvPr/>
        </p:nvSpPr>
        <p:spPr>
          <a:xfrm>
            <a:off x="1510560" y="5493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拓展实践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044720" y="1484280"/>
            <a:ext cx="7643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学习课文抓住事物特点、按游览顺序的方法，写写家乡的一处风景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读一读，谁能读正确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牌楼     金碧辉煌      宋代      忧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一副      传诵          范仲淹     犹如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湘水      娥皇          仙梅亭     君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图片6"/>
          <p:cNvPicPr/>
          <p:nvPr/>
        </p:nvPicPr>
        <p:blipFill>
          <a:blip r:embed="rId2"/>
          <a:stretch/>
        </p:blipFill>
        <p:spPr>
          <a:xfrm>
            <a:off x="0" y="0"/>
            <a:ext cx="9144000" cy="72626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612720" y="352440"/>
            <a:ext cx="72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听课文朗读，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Arial"/>
              </a:rPr>
              <a:t>为什么人们称岳阳楼为“江南第一楼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Arial"/>
              </a:rPr>
              <a:t>课文哪一段进行了概括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57200" y="288144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96720" y="2708280"/>
            <a:ext cx="87472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ff"/>
                </a:solidFill>
                <a:latin typeface="Arial"/>
                <a:ea typeface="楷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바탕"/>
              </a:rPr>
              <a:t>浩翰的洞庭，壮美的楼阁，加上不朽的诗文，动人的传说，岳阳楼啊，我明白了，为什么人们称你为</a:t>
            </a:r>
            <a:r>
              <a:rPr b="0" lang="zh-CN" sz="3600" spc="-1" strike="noStrike">
                <a:solidFill>
                  <a:srgbClr val="333399"/>
                </a:solidFill>
                <a:latin typeface="바탕"/>
                <a:ea typeface="바탕"/>
              </a:rPr>
              <a:t>“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바탕"/>
              </a:rPr>
              <a:t>江南第一楼</a:t>
            </a:r>
            <a:r>
              <a:rPr b="0" lang="zh-CN" sz="3600" spc="-1" strike="noStrike">
                <a:solidFill>
                  <a:srgbClr val="333399"/>
                </a:solidFill>
                <a:latin typeface="바탕"/>
                <a:ea typeface="바탕"/>
              </a:rPr>
              <a:t>”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바탕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750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小组讨论：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这一段中分别写得是课文中的那一段的内容？把你喜欢的段落记下来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2000" y="2707920"/>
            <a:ext cx="777708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Calibri"/>
                <a:ea typeface="바탕"/>
              </a:rPr>
              <a:t>浩翰的洞庭，壮美的楼阁，加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Calibri"/>
                <a:ea typeface="바탕"/>
              </a:rPr>
              <a:t>不朽的诗文，动人的传说，岳阳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Calibri"/>
                <a:ea typeface="바탕"/>
              </a:rPr>
              <a:t>啊，我明白了，为什么人们称你为</a:t>
            </a:r>
            <a:r>
              <a:rPr b="0" lang="zh-CN" sz="3600" spc="-1" strike="noStrike">
                <a:solidFill>
                  <a:srgbClr val="333399"/>
                </a:solidFill>
                <a:latin typeface="바탕"/>
                <a:ea typeface="바탕"/>
              </a:rPr>
              <a:t>“</a:t>
            </a:r>
            <a:r>
              <a:rPr b="0" lang="zh-CN" sz="3600" spc="-1" strike="noStrike">
                <a:solidFill>
                  <a:srgbClr val="333399"/>
                </a:solidFill>
                <a:latin typeface="Calibri"/>
                <a:ea typeface="바탕"/>
              </a:rPr>
              <a:t>江南第一楼</a:t>
            </a:r>
            <a:r>
              <a:rPr b="0" lang="zh-CN" sz="3600" spc="-1" strike="noStrike">
                <a:solidFill>
                  <a:srgbClr val="333399"/>
                </a:solidFill>
                <a:latin typeface="바탕"/>
                <a:ea typeface="바탕"/>
              </a:rPr>
              <a:t>”</a:t>
            </a:r>
            <a:r>
              <a:rPr b="0" lang="zh-CN" sz="3600" spc="-1" strike="noStrike">
                <a:solidFill>
                  <a:srgbClr val="333399"/>
                </a:solidFill>
                <a:latin typeface="Calibri"/>
                <a:ea typeface="바탕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4">
            <a:hlinkClick r:id="rId1" action="ppaction://hlinksldjump"/>
          </p:cNvPr>
          <p:cNvSpPr/>
          <p:nvPr/>
        </p:nvSpPr>
        <p:spPr>
          <a:xfrm flipV="1">
            <a:off x="2627280" y="3281400"/>
            <a:ext cx="76320" cy="7632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>
            <a:hlinkClick r:id="rId2" action="ppaction://hlinksldjump"/>
          </p:cNvPr>
          <p:cNvSpPr/>
          <p:nvPr/>
        </p:nvSpPr>
        <p:spPr>
          <a:xfrm>
            <a:off x="5435640" y="3281400"/>
            <a:ext cx="76320" cy="7632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 flipH="1" flipV="1">
            <a:off x="2627280" y="3929040"/>
            <a:ext cx="76320" cy="7632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 flipH="1">
            <a:off x="5435640" y="3929040"/>
            <a:ext cx="76320" cy="7632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8"/>
          <p:cNvPicPr/>
          <p:nvPr/>
        </p:nvPicPr>
        <p:blipFill>
          <a:blip r:embed="rId1"/>
          <a:stretch/>
        </p:blipFill>
        <p:spPr>
          <a:xfrm>
            <a:off x="36360" y="-93600"/>
            <a:ext cx="4896000" cy="6951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76360" y="-92520"/>
            <a:ext cx="3745080" cy="54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沿着弯曲的小路，穿过一座牌楼，来到了宽阔的平台，绿阴丛中三座金碧辉煌的楼阁，品字形排列在我们面前。左右是副楼，一座叫“仙梅亭”，一座叫“三醉楼”。中间是主楼，正上方一块大匾，刻着“岳阳楼”</a:t>
            </a:r>
            <a:r>
              <a:rPr b="1" lang="zh-CN" sz="2800" spc="-1" strike="noStrike">
                <a:solidFill>
                  <a:srgbClr val="333399"/>
                </a:solidFill>
                <a:latin typeface="Calibri"/>
              </a:rPr>
              <a:t>三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字。建筑呈正方形，</a:t>
            </a:r>
            <a:r>
              <a:rPr b="1" lang="zh-CN" sz="2800" spc="-1" strike="noStrike">
                <a:solidFill>
                  <a:srgbClr val="cc3300"/>
                </a:solidFill>
                <a:latin typeface="Calibri"/>
              </a:rPr>
              <a:t>三层三檐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，用</a:t>
            </a:r>
            <a:r>
              <a:rPr b="1" lang="zh-CN" sz="2800" spc="-1" strike="noStrike">
                <a:solidFill>
                  <a:srgbClr val="ff0066"/>
                </a:solidFill>
                <a:latin typeface="Calibri"/>
              </a:rPr>
              <a:t>四根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大柱支撑，</a:t>
            </a:r>
            <a:r>
              <a:rPr b="1" lang="zh-CN" sz="2800" spc="-1" strike="noStrike">
                <a:solidFill>
                  <a:srgbClr val="ff0066"/>
                </a:solidFill>
                <a:latin typeface="Calibri"/>
              </a:rPr>
              <a:t>十二个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琉璃瓦飞檐高高翘起，好似飞凤展翅，闪烁着金色的光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5940360" y="6524640"/>
            <a:ext cx="76320" cy="7632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111"/>
          <p:cNvPicPr/>
          <p:nvPr/>
        </p:nvPicPr>
        <p:blipFill>
          <a:blip r:embed="rId1"/>
          <a:stretch/>
        </p:blipFill>
        <p:spPr>
          <a:xfrm>
            <a:off x="0" y="88920"/>
            <a:ext cx="5037120" cy="6724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7120" y="274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Calibri"/>
              </a:rPr>
              <a:t>踏进岳阳楼大门，迎面是用十二块紫檀木拼成的巨幅屏风，上面刻着宋代范仲淹的《岳阳记》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4861080" y="6308640"/>
            <a:ext cx="74520" cy="7632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先天下之忧而忧，后天下之乐而乐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            ——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范仲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4"/>
          <p:cNvSpPr/>
          <p:nvPr/>
        </p:nvSpPr>
        <p:spPr>
          <a:xfrm flipH="1">
            <a:off x="6727680" y="2708280"/>
            <a:ext cx="76320" cy="7632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11"/>
          <p:cNvPicPr/>
          <p:nvPr/>
        </p:nvPicPr>
        <p:blipFill>
          <a:blip r:embed="rId1"/>
          <a:stretch/>
        </p:blipFill>
        <p:spPr>
          <a:xfrm>
            <a:off x="0" y="88920"/>
            <a:ext cx="5037120" cy="67262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7120" y="8892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504d"/>
                </a:solidFill>
                <a:latin typeface="Calibri"/>
              </a:rPr>
              <a:t>从屏风后的楼梯登楼，就看到四面窗格上都是雕着各种花卉图案，十分精美。楼四周回廊环绕，凭栏远眺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1113"/>
          <p:cNvPicPr/>
          <p:nvPr/>
        </p:nvPicPr>
        <p:blipFill>
          <a:blip r:embed="rId1"/>
          <a:stretch/>
        </p:blipFill>
        <p:spPr>
          <a:xfrm>
            <a:off x="36360" y="87480"/>
            <a:ext cx="4464360" cy="67262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洞庭湖水天一色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/>
  <dc:language>en-US</dc:language>
  <cp:lastModifiedBy>Administrator</cp:lastModifiedBy>
  <dcterms:modified xsi:type="dcterms:W3CDTF">2015-04-07T07:48:05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05</vt:lpwstr>
  </property>
</Properties>
</file>