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breeze.wav" ContentType="audio/x-wav"/>
  <Override PartName="/ppt/media/applause.wav" ContentType="audio/x-wav"/>
  <Override PartName="/ppt/media/image9.png" ContentType="image/png"/>
  <Override PartName="/ppt/media/image8.jpeg" ContentType="image/jpeg"/>
  <Override PartName="/ppt/media/image10.wmf" ContentType="image/x-wmf"/>
  <Override PartName="/ppt/media/image4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png" ContentType="image/png"/>
  <Override PartName="/ppt/media/image12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9B5-D373-4048-AA30-2F096143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270-625D-4256-B455-4D1A2BCC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7B383-BA75-49D0-BC7A-0221BE8A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DD9504-BFC0-4BDD-A0CC-DA71ABB0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127159-4DC8-42EB-98C5-9DFC8CBE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9E1909-46CD-4579-B7E2-B50997AD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A5D941-DAA9-4C59-AA3C-F3EBC459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2B97CB-2BBF-474E-B269-935F9AD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E66850-6094-4390-AA9D-D7BB76CA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FAC8B4-A9E3-4601-B23A-6E02FC2B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BBBE55-F763-495A-9927-39B8CC21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6FCBF-109F-47FF-8457-279032DA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A79-1F3C-4B07-8CE5-458CD479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DCEA6-4E72-4848-B363-3845D7E6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A88B8-9D39-4136-9036-F2009763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98A3F-7CDE-4C97-9C1C-F1ED38B4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C47A2-1451-42AF-B6AB-6434208B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73D26-FC4D-4E5E-BCB7-C55CFDE7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02289-A71D-4C38-90E4-28A17FD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ABFAC-952B-4559-AF9E-A94EEEA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EAC0C-8E53-454D-9332-FEFF2475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B4E91-9CBA-48F2-9071-C4BD6B95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FDB23-BA01-42C4-9C3E-16A21E95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B3C-9E81-4224-8DC7-FD91D0DB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C6AE7-5996-4446-B291-26D69573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D2A58-565B-49D8-B325-69A80C75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35337-EABB-4362-8CDA-B322EC52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5101D-A5AB-4276-BF59-D86234DE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3A98C-51FD-44E0-9A1A-E63786F4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B91DB-A06E-4866-AE70-4EE68DB8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F93C9-D4BC-4638-9AF5-655E439E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D510D-F0BC-441C-8316-CBD0BC52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82429-F016-41CB-B76D-BADF7A26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DEDCF-1F15-4E2C-9BB0-60CAEB0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8B71-5501-4CE7-9172-3AA1E7DF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77A20-07E4-4E42-8FB6-FEC2D714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B3C8C-4E76-4580-9915-E7DBAEE9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EC2CC-D87D-42BF-867A-39721C3B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0D5C2-FC8A-44FD-888D-7541AD14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3FBD5-8CBD-4AB7-8DD8-19F5E55B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6DDEF-1E2A-430E-978A-A1BBCBDC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074E3-1367-4EC5-8B9A-35510800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2FFDD-CEB4-45A4-AD84-698E82F5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DE140-E71B-4802-AA7A-160DBB6F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0363C-3D7D-4347-BA51-61F3DA09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ED6B-7AC5-40AE-9D75-47311979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04145-39AA-4729-8667-57E986A1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BC5C4-49E0-4A8F-8E64-9D99FBE1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93257-4880-4116-B10B-E9BA4F72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9B799-C577-4674-AF9D-CB01B2A0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64328-B85A-4051-AA60-41283622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61821-F0DD-4737-B3B6-3678AD5A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30EF6-4112-4F5D-A3D3-82C25E8A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910E6-480D-4F36-84E1-D09B5459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E82EB-30C1-4C29-9D46-A89281B2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BD0EF-8594-4254-9CD9-51095377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01FA-5D71-4B82-A63F-C0883EED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E76CE-1B93-44F6-9F93-1576D6A0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70767-86E8-4C98-A362-D1653086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44EFE-5035-457F-A5FE-6BA8C909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AFDC4-9AB1-4CE0-85D1-2AB72093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2DC70-1D87-44F7-9CFA-E8540BC6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1CE15-D0B1-4809-96C5-4645CFE0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A54AA-56AF-4620-A733-B498711A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A0BF0-C8BF-411D-BCF7-5E07B605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D601B-2B80-465C-90E1-671A9A83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150D2-4B75-4F03-91B3-66DE4B71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D523-5D67-44CB-9E80-A7483CB1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909B5-DF6E-4A5D-B3FA-C946DA83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FE7B6-056D-4DFB-A769-9D94CBE0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48136-5824-4E86-8C4B-303FF02F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33EB3-093F-42FF-BF6F-AF512654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372CC-FB8E-4201-9091-8982CD75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CEC71-255C-4AAC-8F58-15EDE403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C7443-74FB-4B87-A3B5-401A19F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153AC-33CE-4380-88D3-A80FBBBD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9BA25-E838-4239-A2AB-0C7A7067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6CD27-EAB3-4EDE-A6EF-1F528537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2E47-4C63-41A6-865D-EA716EB6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4D9DA-C389-4A73-B3D9-988A6557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5EBD8-79CF-4252-ABBB-217F044D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57C09-E5BC-49B2-853F-53454904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19A91-56B0-4102-A14A-C18B3811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9B385-E10C-4D74-BC96-E7D2A06E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BF831-4C48-4753-86D5-B5D5BCEF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00295-2366-4A04-B1DD-7558AE94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64547-047D-4123-9BF8-279DD92D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E9A7B0-6EE8-4C8E-866C-8E3E906E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632A5-C13B-4955-888C-E0147CED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67D2-0BC7-43AC-9724-2F8D98BF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CD7B7-1D88-4842-92AE-4B58A590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6FAC3F-8647-4D6E-A3F7-BD120026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6B0E3-EF19-4FD3-A69D-20E3673E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E5DA6-C5B7-4C44-A7EE-4EF110DE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A8E7D-34AF-4C25-99BC-6B37C322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221FD-9BA6-4520-B89B-5F075069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641B81-BB82-4919-BADE-F055D2F6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FF065-1FC4-496F-BE4C-0F6AE9A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46F20-B084-4C02-BD76-E93C290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60760-0EA9-4E7E-AE2C-8124F400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55FA-BFB2-4D91-9308-26AB0A7A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8B0E72-FAF7-46D5-9DDA-0C90D603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059A9-37F9-4703-8DE2-B4AE3CD9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77E70-235B-4EA2-9EB9-DEA13158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01A7C2-9CCC-42B2-99BB-F9E91F33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E5A37F-B5D0-4EC1-8F62-1EBD25D0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560DF7-020E-40A7-B269-AE3398F2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D41101-1BE3-4B95-9A34-59A80404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5993E6-AC9F-4014-9404-88AB780A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EC92F9-0506-4B89-A860-BA3698F9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DE5540-E9FD-498E-ACDE-BAF7513D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971-0E47-4B7F-8B20-16529056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A032-3B77-43DB-A04D-B4A84BA1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0D0574-E45B-4E7D-A099-7B0C103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B2D590-ABC1-4F3C-B060-E079F7D4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042338-5B3A-4CE4-95A3-676F376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B57D97E-ABC5-4EFA-90A4-E91EE3B1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4F4ED5-7FE6-47B4-B17E-15AD9A49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E263-5C2D-4EFA-A533-92E996CD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BC70-266A-4D5B-AC56-A317E58D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D335-1854-4F60-B477-C952FDAC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D29E-4561-4913-9C25-C73861A2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614B-F1A2-4D81-AF7B-FC30FA4D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89FE-BFED-4D57-8D22-834DE07E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44D3-505E-4305-9644-0A04D5F9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3ECF-64AF-4379-9228-7D4B9AF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1FE7-3058-46C9-8B5A-5A569E51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282-543C-4F2A-885B-5F45D3D4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00BE-C3B6-4E30-A038-D589BCD1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8FC4-5006-46C3-BE9A-99604ED8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0B7EC-B282-4492-B9A5-4591D940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9AC2-8DBC-4B4F-A971-1F740474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7699B-218F-4918-AFD5-8F3184F1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5D3E-306B-4A54-825E-6DA7DE71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05146-572A-4128-A3A9-DBA9063A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D71D-D6EC-4300-BAA9-BBBCF221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37A8-43D6-4948-B4C7-4A21F3C6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BEAAA-E0D3-44BC-9DCB-EA6A9F94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AC9-A7C6-4D72-8DA6-90EA5B71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744E6-8A6E-4013-B8A1-60879488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342DA-74B0-451C-B101-891C3076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BC3DD-828C-403C-A269-9C8A830D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84A2-E7EC-4B2A-BB2F-3D275894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C5D3B-CC2D-43F5-92AF-5990DCDD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C9ED-A59A-4052-A99E-6CD92A84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484DC-844D-4243-B1C2-36E90782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6034-4F7A-403C-90A7-DBC91F14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0B4C2-DDDB-49BD-96A9-37F91C6B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B62AD-187B-4A82-82BE-CF99B784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2EE-2A50-433D-8F63-045A1F0F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D4EEA-00ED-4FC6-97B8-83BADE10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8A865-AAAB-45AB-BABD-875B85A5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44F8B-5258-46C2-844F-1AEFA1D2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9C81-0750-4117-8404-563A79D8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6F113-B6BE-47F2-88BC-9535C868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21520-8F61-4A20-926E-888D085C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8DD47-CB80-4703-8C2E-CFB3F952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D380D-1C16-4CC8-9027-0BE45F27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9A48D-F03A-406B-A75E-D0F8FD1E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FE772-7B0B-4276-B5F3-6AB05952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BC9-35E5-4AEA-A5EF-4CDABA55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7D91F-D3C9-4B93-9B6C-E75421F0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8B713-E7C6-4811-B359-AE543BB3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E380F-BEC2-4B59-B136-EB4FE358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2825D-6066-438F-91F5-E7E6B783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7F20B-415D-4DE3-8142-AFE7076A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E0DB1-F222-4FEB-ADC9-795DB7D4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BEB90-43DE-41A7-B03D-7A5604EA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A6BB1-0A2E-4456-ABE6-BE76CCF8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5C37E-E08B-42D7-8626-232A5D7E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3E16E-C400-4B04-A0BD-44FD21F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BAD-17C0-433B-9CC5-496693F8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2F3F7-B91B-448B-BFB4-B28610CB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698B5-973F-4EE6-9D8C-9F25DCA4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B626A-4D14-4E02-A609-127BAE71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4E201-A77D-4254-80D1-FF686200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5945C-0DF5-4624-ACC6-1AD7F49B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C9669-DE1C-44AA-BFBC-CA056B42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15A6B-90E8-4733-A355-DC683FE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B5DCC-6B6A-4AF3-854D-55654C55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8E704-ADCC-4A2F-91FD-1837A01D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AA987-15C2-427D-9776-77226E4F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57E-F31B-4E19-BC38-180D7C09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CC196-FEF0-4EF8-99C6-3F11D29B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FA27C-B81F-4B03-9B59-C6E56112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02AEE-2612-460E-A78E-CBA6FE68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B0046-63C8-47E8-860B-C40FB46D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56454-6A0A-42B4-B07D-D6345E50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102C3-2DF3-4792-9B12-6D68096B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EE575-27E3-4078-85AD-7A6565BE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1ABF6-EFD5-49C9-87CD-4A3E8BE2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9507-A549-4F6E-B934-B96990E4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09D19-5E79-4E34-8474-B2286254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192-929C-46ED-85A1-4BB6B3FA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05D7B-8429-4CCA-B91B-1EB91920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27F34-A1FE-4258-A2C7-C7F76256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D6B16-A209-4BD9-A439-5DF69818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20DB8-3571-425B-8AAE-0C150F87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D33BC-471D-4C4F-94F4-AA26ED50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4AF62-EB30-4DC6-87CD-1729F889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F4D8A-3023-443D-B1EA-C767F097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B290EA-F084-42D0-872E-A4DBA8E3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676D74-7D3B-4503-9928-7B272AF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99ED96-7FA7-4602-B184-AD5F0C61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D7C5-6816-415A-8C67-205191DBCB9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37DB-187D-4662-A7C0-EBEC987D31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DB88-7434-4F2F-9075-A8F908C511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0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0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1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5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91E2-4E2B-4412-B981-9DC4211D91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1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1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2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4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6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3ECD-017B-485F-BFC2-58F27ECB44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1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813D-2A75-4DFA-85CC-3B41BD21CED1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7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A83E-2315-41F9-A7BC-42EBF579FCD7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4A11-1426-4791-9A11-3C2AE68211D0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2CDE-BC46-4C77-8509-218A130CCD50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CD00-BE3A-43AC-90C8-1BBF074C30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EA63-B455-41D2-9CF1-8B590F5757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FB14-4691-4DE8-A30D-0EB5952880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8582-BE0D-4936-8354-62197AA130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A36D-9F8C-4473-AEAC-7F65CED032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0F2B-7F31-48E4-8888-44FB340C0C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0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0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82EB-CBB4-4BD7-B803-A05EB4DD0B2B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661F-D7B3-4C06-9741-19F47A16CB30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file:///usr/lib/libreoffice/share/gallery/sounds/applause.wav" TargetMode="External"/><Relationship Id="rId4" Type="http://schemas.microsoft.com/office/2007/relationships/media" Target="file:///usr/lib/libreoffice/share/gallery/sounds/applause.wav" TargetMode="External"/><Relationship Id="rId5" Type="http://schemas.openxmlformats.org/officeDocument/2006/relationships/image" Target="../media/image9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2050920" y="1052640"/>
            <a:ext cx="51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华文彩云"/>
              </a:rPr>
              <a:t>《江畔独步寻花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84360" y="2205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zh-CN" sz="2000" spc="-1" strike="noStrike">
                <a:solidFill>
                  <a:srgbClr val="00ff00"/>
                </a:solidFill>
                <a:latin typeface="Arial"/>
                <a:ea typeface="宋体"/>
              </a:rPr>
              <a:t>北师大版第八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0436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015" fill="hold"/>
                                        <p:tgtEl>
                                          <p:spTgt spid="9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-304920" y="-471600"/>
            <a:ext cx="9753840" cy="780120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5292720" y="981000"/>
            <a:ext cx="4032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惠崇春江晓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宋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苏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竹外桃花三两枝，    春江水暖鸭先知。 萎蒿满地芦芽短， 正是河豚欲上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2124000" y="2060640"/>
            <a:ext cx="5040360" cy="21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843280" y="33336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ff"/>
                </a:solidFill>
                <a:latin typeface="Arial"/>
                <a:ea typeface="宋体-方正超大字符集"/>
              </a:rPr>
              <a:t>教学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042920" y="1700280"/>
            <a:ext cx="2305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ea typeface="幼圆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42920" y="2492280"/>
            <a:ext cx="2519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ea typeface="幼圆"/>
              </a:rPr>
              <a:t>朗诵古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42920" y="3284640"/>
            <a:ext cx="3313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ea typeface="幼圆"/>
              </a:rPr>
              <a:t>作者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042920" y="4005360"/>
            <a:ext cx="3384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ea typeface="幼圆"/>
              </a:rPr>
              <a:t>课文注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042920" y="4653000"/>
            <a:ext cx="2808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ea typeface="幼圆"/>
              </a:rPr>
              <a:t>古诗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042920" y="5445000"/>
            <a:ext cx="3313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ea typeface="幼圆"/>
              </a:rPr>
              <a:t>课后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43560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2916360" y="476280"/>
            <a:ext cx="35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ff"/>
                </a:solidFill>
                <a:latin typeface="Arial"/>
                <a:ea typeface="华文彩云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-324000" y="1989000"/>
            <a:ext cx="712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24000" y="1844640"/>
            <a:ext cx="8569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cc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幼圆"/>
              </a:rPr>
              <a:t>正确、流利地朗读古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cc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幼圆"/>
              </a:rPr>
              <a:t>了解诗句的意思，想象诗句描绘的景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cc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幼圆"/>
              </a:rPr>
              <a:t>体会诗人喜爱大自然的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cc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幼圆"/>
              </a:rPr>
              <a:t>背诵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7704000" y="52293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611280" y="6093000"/>
            <a:ext cx="1439640" cy="765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826920" y="6308640"/>
            <a:ext cx="10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66"/>
                </a:solidFill>
                <a:uFillTx/>
                <a:latin typeface="Arial"/>
                <a:ea typeface="宋体"/>
              </a:rPr>
              <a:t>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2050920" y="692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江畔独步寻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51280" y="1484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唐 杜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35280" y="234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黄四娘家花满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835280" y="3573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千朵万朵压枝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835280" y="472428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留连戏蝶时时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908000" y="573408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在娇莺恰恰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804000" y="5445000"/>
            <a:ext cx="1871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236000" y="595008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</a:rPr>
              <a:t>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39528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3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30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30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30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78236" fill="hold"/>
                                        <p:tgtEl>
                                          <p:spTgt spid="9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1042920" y="981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6d"/>
                </a:solidFill>
                <a:latin typeface="Arial"/>
                <a:ea typeface="黑体"/>
              </a:rPr>
              <a:t>作者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68360" y="198900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杜甫：唐代大诗人，字子美。其诗有“诗史”之称，本人也被尊为“诗圣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6300720" y="3645000"/>
            <a:ext cx="2843280" cy="32130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611280" y="5516640"/>
            <a:ext cx="158436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26920" y="5661000"/>
            <a:ext cx="936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cc"/>
                </a:solidFill>
                <a:uFillTx/>
                <a:latin typeface="Arial"/>
                <a:ea typeface="宋体"/>
              </a:rPr>
              <a:t>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826920" y="549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-方正超大字符集"/>
              </a:rPr>
              <a:t>注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17002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华文彩云"/>
              </a:rPr>
              <a:t>江畔：江边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826920" y="2421000"/>
            <a:ext cx="85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华文彩云"/>
              </a:rPr>
              <a:t>独步寻花：独自一人一边散步，一边赏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26920" y="321300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华文彩云"/>
              </a:rPr>
              <a:t>蹊：小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55640" y="4076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华文彩云"/>
              </a:rPr>
              <a:t>留连：舍不得离开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55640" y="5013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华文彩云"/>
              </a:rPr>
              <a:t>恰恰：这里形容声音和谐动和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659640" y="765000"/>
            <a:ext cx="1942920" cy="574920"/>
          </a:xfrm>
          <a:prstGeom prst="ellipse">
            <a:avLst/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948360" y="907920"/>
            <a:ext cx="936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6450120" y="3860640"/>
            <a:ext cx="2693880" cy="299736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/>
          <p:nvPr/>
        </p:nvSpPr>
        <p:spPr>
          <a:xfrm>
            <a:off x="684360" y="57340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自在：自由自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2484360" y="18900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江畔独步寻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8360" y="981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黄四娘家花满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268360" y="17002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宋体"/>
              </a:rPr>
              <a:t>黄四娘家园子里开满了美丽的花朵，把路都盖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195640" y="2421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千朵万朵压枝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68360" y="306864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宋体"/>
              </a:rPr>
              <a:t>千万朵花儿花儿把花枝都压低了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8360" y="3645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留连戏蝶时时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268360" y="450864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宋体"/>
              </a:rPr>
              <a:t>欢快的蝴蝶舍不得离开时时起舞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268360" y="5084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自在娇莺恰恰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268360" y="59500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宋体"/>
              </a:rPr>
              <a:t>自由自在的黄莺恰恰啼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588000" y="981000"/>
            <a:ext cx="1441440" cy="505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948360" y="98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732720" y="2492280"/>
            <a:ext cx="1295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020000" y="256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659640" y="3789360"/>
            <a:ext cx="1511280" cy="574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093080" y="386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732720" y="5229360"/>
            <a:ext cx="129528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877080" y="530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95280" y="5877000"/>
            <a:ext cx="1297080" cy="981000"/>
          </a:xfrm>
          <a:custGeom>
            <a:avLst/>
            <a:gdLst>
              <a:gd name="textAreaLeft" fmla="*/ 304920 w 1297080"/>
              <a:gd name="textAreaRight" fmla="*/ 991440 w 1297080"/>
              <a:gd name="textAreaTop" fmla="*/ 115200 h 981000"/>
              <a:gd name="textAreaBottom" fmla="*/ 615240 h 981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39640" y="6093000"/>
            <a:ext cx="100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99"/>
                </a:solidFill>
                <a:uFillTx/>
                <a:latin typeface="Arial"/>
                <a:ea typeface="宋体"/>
              </a:rPr>
              <a:t>上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Next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9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96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96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evt="onNext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8" dur="1" fill="hold"/>
                                  <p:tgtEl>
                                    <p:spTgt spid="9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Next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7" dur="1" fill="hold"/>
                                  <p:tgtEl>
                                    <p:spTgt spid="9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evt="onNext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6" dur="1" fill="hold"/>
                                  <p:tgtEl>
                                    <p:spTgt spid="9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68360" y="692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。背诵这首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68360" y="184464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2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。课后搜集杜甫的诗，下节课朗诵给同学们听。看谁读的最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Cloud"/>
          <p:cNvSpPr/>
          <p:nvPr/>
        </p:nvSpPr>
        <p:spPr>
          <a:xfrm>
            <a:off x="5003640" y="4078440"/>
            <a:ext cx="3816360" cy="2557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796000" y="4724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彩云"/>
              </a:rPr>
              <a:t>比一比，看谁做得最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1979640" y="333360"/>
            <a:ext cx="583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绝 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[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唐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]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杜甫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迟日江山丽，春风花草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泥融飞燕子，沙暖睡鸳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9:36:00Z</dcterms:created>
  <dc:creator>WwW.YlmF.CoM</dc:creator>
  <dc:description/>
  <dc:language>en-US</dc:language>
  <cp:lastModifiedBy>微软用户</cp:lastModifiedBy>
  <dcterms:modified xsi:type="dcterms:W3CDTF">2013-12-15T11:59:53Z</dcterms:modified>
  <cp:revision>16</cp:revision>
  <dc:subject/>
  <dc:title>幻灯片 1</dc:title>
</cp:coreProperties>
</file>