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1C3F-104F-4F29-9251-821ECB93D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4F7E-C9EA-4236-942D-4DD7ED5AB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E162-3248-498B-B7F6-C91B3590C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7A41-38B3-40FB-89CD-6675BFBDD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0C95-AFDD-4C1A-81CD-69CD4249F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C7F3-4F3C-4757-BA89-4AB27E299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1329-8AF4-4529-9623-29B99DF6F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63A8-5A72-44DD-9DEC-2E536E57F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1144-7792-440F-B38D-59B6DBAB3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89EF-1D07-4A85-8136-9F14F8A89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6C98-729A-4536-AE16-6C6CC3742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324A-BDB5-4FF3-9625-F3025C46F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46463-3AB2-48B6-BE02-CEF25F5637D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2647080" y="457200"/>
            <a:ext cx="384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en-US" sz="36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﹡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 老师读作文的时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807480" y="4724280"/>
            <a:ext cx="677520" cy="10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  <a:hlinkClick r:id="rId2" action="ppaction://hlinksldjump"/>
              </a:rPr>
              <a:t>●</a:t>
            </a:r>
            <a:r>
              <a:rPr b="0" lang="zh-CN" sz="20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  <a:hlinkClick r:id="rId3" action="ppaction://hlinksldjump"/>
              </a:rPr>
              <a:t>识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●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●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练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525600" y="457200"/>
            <a:ext cx="8092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作文每两周讲评一次，所以，每到这时候，我的心里就像揣着一块石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怎么办呢？我想到的第一个办法是：挺随意地写，随大流，让作文平平淡淡。不久，老师找我了，说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的作文退步了，是不是骄傲了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老师苦口婆心地开导我，我想不能这样下去了，我不应该拿学习来赌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于是我又开始认认真真地写作文。我知道同学们并不是讨厌我的作文，老师念作文时大伙儿听得津津有味，不时还发出会意的笑声。也许，大家只是不喜欢老师反反复复只提一个名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525600" y="2505240"/>
            <a:ext cx="8092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一个冬天的中午，我走进老师办公室。屋里炉火烧得很旺，炉台上水壶的热气飘飘袅袅。我小心翼翼地说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师，我的作文有进步吗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噢，下午我还要读你的作文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师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有一个小小的请求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战战兢兢地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说好了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师的眼睛注视着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想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您念我的作文的时候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不是可以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念我的名字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鼓足勇气说完在心中蕴藏许久的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好吧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师想了想，答应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3"/>
          <p:cNvSpPr/>
          <p:nvPr/>
        </p:nvSpPr>
        <p:spPr>
          <a:xfrm>
            <a:off x="1219320" y="4343400"/>
            <a:ext cx="56386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4"/>
          <p:cNvSpPr/>
          <p:nvPr/>
        </p:nvSpPr>
        <p:spPr>
          <a:xfrm>
            <a:off x="685800" y="457200"/>
            <a:ext cx="2819520" cy="1828800"/>
          </a:xfrm>
          <a:prstGeom prst="cloudCallout">
            <a:avLst>
              <a:gd name="adj1" fmla="val -43916"/>
              <a:gd name="adj2" fmla="val 699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小作者为什么会“战战兢兢”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525600" y="933480"/>
            <a:ext cx="8092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那天下午的情形，正如我预料的，同学们充满了好奇，发言比平日热烈得多。下课以后，我和大伙儿快活地跳橡皮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嗨！今天念的范文是你写的吧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人问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我只笑不回答。问急了，我就答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猜是你写的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从此以后，我的作文越写越好，和同学们也玩得越来越好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3"/>
          <p:cNvSpPr/>
          <p:nvPr/>
        </p:nvSpPr>
        <p:spPr>
          <a:xfrm>
            <a:off x="7315200" y="3200400"/>
            <a:ext cx="12193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4"/>
          <p:cNvSpPr/>
          <p:nvPr/>
        </p:nvSpPr>
        <p:spPr>
          <a:xfrm>
            <a:off x="609480" y="3581280"/>
            <a:ext cx="9144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2712960" y="160020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念名字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5075280" y="160020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感到孤独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2712960" y="243828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省名字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5075280" y="243828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快活玩耍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3398760" y="4210200"/>
            <a:ext cx="2238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谦虚谨慎，处好关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7"/>
          <p:cNvSpPr/>
          <p:nvPr/>
        </p:nvSpPr>
        <p:spPr>
          <a:xfrm>
            <a:off x="3124080" y="3200400"/>
            <a:ext cx="60984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8"/>
          <p:cNvSpPr/>
          <p:nvPr/>
        </p:nvSpPr>
        <p:spPr>
          <a:xfrm flipH="1">
            <a:off x="5181480" y="3200400"/>
            <a:ext cx="60984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1890720" y="1828800"/>
            <a:ext cx="5362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图钉　　橡皮筋　揣着　　骄傲　　赌气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1967040" y="3733920"/>
            <a:ext cx="520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飘飘袅袅　　战战兢兢　　蕴藏　　范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练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1539720" y="2651040"/>
            <a:ext cx="3381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平平淡淡      认认真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"/>
          <p:cNvSpPr/>
          <p:nvPr/>
        </p:nvSpPr>
        <p:spPr>
          <a:xfrm>
            <a:off x="7391520" y="3124080"/>
            <a:ext cx="1371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6"/>
          <p:cNvSpPr/>
          <p:nvPr/>
        </p:nvSpPr>
        <p:spPr>
          <a:xfrm>
            <a:off x="5486400" y="3108240"/>
            <a:ext cx="1371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1539720" y="4038480"/>
            <a:ext cx="3381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战战兢兢      飘飘袅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8"/>
          <p:cNvSpPr/>
          <p:nvPr/>
        </p:nvSpPr>
        <p:spPr>
          <a:xfrm>
            <a:off x="7391520" y="4511520"/>
            <a:ext cx="1371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9"/>
          <p:cNvSpPr/>
          <p:nvPr/>
        </p:nvSpPr>
        <p:spPr>
          <a:xfrm>
            <a:off x="5486400" y="4495680"/>
            <a:ext cx="1371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宋体"/>
              </a:rPr>
              <a:t>dīnɡ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5" descr="tianzigez"/>
          <p:cNvPicPr/>
          <p:nvPr/>
        </p:nvPicPr>
        <p:blipFill>
          <a:blip r:embed="rId2"/>
          <a:stretch/>
        </p:blipFill>
        <p:spPr>
          <a:xfrm>
            <a:off x="2878200" y="1523880"/>
            <a:ext cx="3370320" cy="3370320"/>
          </a:xfrm>
          <a:prstGeom prst="rect">
            <a:avLst/>
          </a:prstGeom>
          <a:ln w="0">
            <a:noFill/>
          </a:ln>
        </p:spPr>
      </p:pic>
      <p:sp>
        <p:nvSpPr>
          <p:cNvPr id="86" name="Text Box 6"/>
          <p:cNvSpPr/>
          <p:nvPr/>
        </p:nvSpPr>
        <p:spPr>
          <a:xfrm>
            <a:off x="3500640" y="1219320"/>
            <a:ext cx="193320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0" spc="-1" strike="noStrike">
                <a:solidFill>
                  <a:srgbClr val="000000"/>
                </a:solidFill>
                <a:latin typeface="Verdana"/>
                <a:ea typeface="楷体_GB2312"/>
              </a:rPr>
              <a:t>钉</a:t>
            </a:r>
            <a:endParaRPr b="0" lang="en-US" sz="2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ShockwaveFlash1"/>
          <p:cNvGraphicFramePr/>
          <p:nvPr/>
        </p:nvGraphicFramePr>
        <p:xfrm>
          <a:off x="6477120" y="990720"/>
          <a:ext cx="53316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" name="ShockwaveFlash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77120" y="990720"/>
                    <a:ext cx="533160" cy="4572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宋体"/>
              </a:rPr>
              <a:t>jīn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3" descr="tianzigez"/>
          <p:cNvPicPr/>
          <p:nvPr/>
        </p:nvPicPr>
        <p:blipFill>
          <a:blip r:embed="rId2"/>
          <a:stretch/>
        </p:blipFill>
        <p:spPr>
          <a:xfrm>
            <a:off x="2878200" y="1523880"/>
            <a:ext cx="3370320" cy="3370320"/>
          </a:xfrm>
          <a:prstGeom prst="rect">
            <a:avLst/>
          </a:prstGeom>
          <a:ln w="0">
            <a:noFill/>
          </a:ln>
        </p:spPr>
      </p:pic>
      <p:sp>
        <p:nvSpPr>
          <p:cNvPr id="91" name="Text Box 4"/>
          <p:cNvSpPr/>
          <p:nvPr/>
        </p:nvSpPr>
        <p:spPr>
          <a:xfrm>
            <a:off x="3557520" y="1279440"/>
            <a:ext cx="193320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0" spc="-1" strike="noStrike">
                <a:solidFill>
                  <a:srgbClr val="000000"/>
                </a:solidFill>
                <a:latin typeface="Verdana"/>
                <a:ea typeface="楷体_GB2312"/>
              </a:rPr>
              <a:t>筋</a:t>
            </a:r>
            <a:endParaRPr b="0" lang="en-US" sz="2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ShockwaveFlash1"/>
          <p:cNvGraphicFramePr/>
          <p:nvPr/>
        </p:nvGraphicFramePr>
        <p:xfrm>
          <a:off x="6477120" y="990720"/>
          <a:ext cx="53316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ShockwaveFlash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77120" y="990720"/>
                    <a:ext cx="533160" cy="4572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宋体"/>
              </a:rPr>
              <a:t>chuāi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3" descr="tianzigez"/>
          <p:cNvPicPr/>
          <p:nvPr/>
        </p:nvPicPr>
        <p:blipFill>
          <a:blip r:embed="rId2"/>
          <a:stretch/>
        </p:blipFill>
        <p:spPr>
          <a:xfrm>
            <a:off x="2878200" y="1523880"/>
            <a:ext cx="3370320" cy="3370320"/>
          </a:xfrm>
          <a:prstGeom prst="rect">
            <a:avLst/>
          </a:prstGeom>
          <a:ln w="0">
            <a:noFill/>
          </a:ln>
        </p:spPr>
      </p:pic>
      <p:sp>
        <p:nvSpPr>
          <p:cNvPr id="96" name="Text Box 4"/>
          <p:cNvSpPr/>
          <p:nvPr/>
        </p:nvSpPr>
        <p:spPr>
          <a:xfrm>
            <a:off x="3633840" y="1279440"/>
            <a:ext cx="193320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0" spc="-1" strike="noStrike">
                <a:solidFill>
                  <a:srgbClr val="000000"/>
                </a:solidFill>
                <a:latin typeface="Verdana"/>
                <a:ea typeface="楷体_GB2312"/>
              </a:rPr>
              <a:t>揣</a:t>
            </a:r>
            <a:endParaRPr b="0" lang="en-US" sz="2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ShockwaveFlash1"/>
          <p:cNvGraphicFramePr/>
          <p:nvPr/>
        </p:nvGraphicFramePr>
        <p:xfrm>
          <a:off x="6477120" y="990720"/>
          <a:ext cx="53316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" name="ShockwaveFlash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77120" y="990720"/>
                    <a:ext cx="533160" cy="4572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宋体"/>
              </a:rPr>
              <a:t>jiāo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3" descr="tianzigez"/>
          <p:cNvPicPr/>
          <p:nvPr/>
        </p:nvPicPr>
        <p:blipFill>
          <a:blip r:embed="rId2"/>
          <a:stretch/>
        </p:blipFill>
        <p:spPr>
          <a:xfrm>
            <a:off x="2878200" y="1523880"/>
            <a:ext cx="3370320" cy="33703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4"/>
          <p:cNvSpPr/>
          <p:nvPr/>
        </p:nvSpPr>
        <p:spPr>
          <a:xfrm>
            <a:off x="3633840" y="1279440"/>
            <a:ext cx="193320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0" spc="-1" strike="noStrike">
                <a:solidFill>
                  <a:srgbClr val="000000"/>
                </a:solidFill>
                <a:latin typeface="Verdana"/>
                <a:ea typeface="楷体_GB2312"/>
              </a:rPr>
              <a:t>骄</a:t>
            </a:r>
            <a:endParaRPr b="0" lang="en-US" sz="2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ShockwaveFlash1"/>
          <p:cNvGraphicFramePr/>
          <p:nvPr/>
        </p:nvGraphicFramePr>
        <p:xfrm>
          <a:off x="6477120" y="990720"/>
          <a:ext cx="53316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" name="ShockwaveFlash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77120" y="990720"/>
                    <a:ext cx="533160" cy="4572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525600" y="2505240"/>
            <a:ext cx="8092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念小学的时候，老师往往给我的作文写上很好的评语，还常在课堂上读我的作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当老师读作文的时候，我的心情像一颗怪味豆。最初当然是甜的了，哪个学生不愿意受到老师的夸奖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后来，因常被老师夸奖，听到那些表扬的话，仿佛椅子上堆满了图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钉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dīnɡ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，叫人不敢坐踏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[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tā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]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实了。我总觉得同学们望着我，神情怪怪的。平日里，我个子高，橡皮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筋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jīn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跳得好，大伙儿都抢着跟我一拨呢！可这会儿，同学们见了我好像故意扭身走开。看着他们说说笑笑玩在一起，我感到孤独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2668680" y="838080"/>
            <a:ext cx="2009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师读作文的时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识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宋体"/>
              </a:rPr>
              <a:t>dǔ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3" descr="tianzigez"/>
          <p:cNvPicPr/>
          <p:nvPr/>
        </p:nvPicPr>
        <p:blipFill>
          <a:blip r:embed="rId2"/>
          <a:stretch/>
        </p:blipFill>
        <p:spPr>
          <a:xfrm>
            <a:off x="2878200" y="1523880"/>
            <a:ext cx="3370320" cy="337032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4"/>
          <p:cNvSpPr/>
          <p:nvPr/>
        </p:nvSpPr>
        <p:spPr>
          <a:xfrm>
            <a:off x="3633840" y="1279440"/>
            <a:ext cx="193320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0" spc="-1" strike="noStrike">
                <a:solidFill>
                  <a:srgbClr val="000000"/>
                </a:solidFill>
                <a:latin typeface="Verdana"/>
                <a:ea typeface="楷体_GB2312"/>
              </a:rPr>
              <a:t>赌</a:t>
            </a:r>
            <a:endParaRPr b="0" lang="en-US" sz="2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ShockwaveFlash1"/>
          <p:cNvGraphicFramePr/>
          <p:nvPr/>
        </p:nvGraphicFramePr>
        <p:xfrm>
          <a:off x="6477120" y="990720"/>
          <a:ext cx="53316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ShockwaveFlash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77120" y="990720"/>
                    <a:ext cx="533160" cy="4572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宋体"/>
              </a:rPr>
              <a:t>niǎo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3" descr="tianzigez"/>
          <p:cNvPicPr/>
          <p:nvPr/>
        </p:nvPicPr>
        <p:blipFill>
          <a:blip r:embed="rId2"/>
          <a:stretch/>
        </p:blipFill>
        <p:spPr>
          <a:xfrm>
            <a:off x="2878200" y="1523880"/>
            <a:ext cx="3370320" cy="337032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4"/>
          <p:cNvSpPr/>
          <p:nvPr/>
        </p:nvSpPr>
        <p:spPr>
          <a:xfrm>
            <a:off x="3633840" y="1279440"/>
            <a:ext cx="193320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0" spc="-1" strike="noStrike">
                <a:solidFill>
                  <a:srgbClr val="000000"/>
                </a:solidFill>
                <a:latin typeface="Verdana"/>
                <a:ea typeface="楷体_GB2312"/>
              </a:rPr>
              <a:t>袅</a:t>
            </a:r>
            <a:endParaRPr b="0" lang="en-US" sz="2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ShockwaveFlash1"/>
          <p:cNvGraphicFramePr/>
          <p:nvPr/>
        </p:nvGraphicFramePr>
        <p:xfrm>
          <a:off x="6477120" y="990720"/>
          <a:ext cx="53316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ShockwaveFlash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77120" y="990720"/>
                    <a:ext cx="533160" cy="4572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宋体"/>
              </a:rPr>
              <a:t>jīnɡ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3" descr="tianzigez"/>
          <p:cNvPicPr/>
          <p:nvPr/>
        </p:nvPicPr>
        <p:blipFill>
          <a:blip r:embed="rId2"/>
          <a:stretch/>
        </p:blipFill>
        <p:spPr>
          <a:xfrm>
            <a:off x="2878200" y="1523880"/>
            <a:ext cx="3370320" cy="33703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4"/>
          <p:cNvSpPr/>
          <p:nvPr/>
        </p:nvSpPr>
        <p:spPr>
          <a:xfrm>
            <a:off x="3633840" y="1279440"/>
            <a:ext cx="193320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0" spc="-1" strike="noStrike">
                <a:solidFill>
                  <a:srgbClr val="000000"/>
                </a:solidFill>
                <a:latin typeface="Verdana"/>
                <a:ea typeface="楷体_GB2312"/>
              </a:rPr>
              <a:t>兢</a:t>
            </a:r>
            <a:endParaRPr b="0" lang="en-US" sz="2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ShockwaveFlash1"/>
          <p:cNvGraphicFramePr/>
          <p:nvPr/>
        </p:nvGraphicFramePr>
        <p:xfrm>
          <a:off x="6477120" y="990720"/>
          <a:ext cx="53316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ShockwaveFlash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77120" y="990720"/>
                    <a:ext cx="533160" cy="4572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宋体"/>
              </a:rPr>
              <a:t>yùn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3" descr="tianzigez"/>
          <p:cNvPicPr/>
          <p:nvPr/>
        </p:nvPicPr>
        <p:blipFill>
          <a:blip r:embed="rId2"/>
          <a:stretch/>
        </p:blipFill>
        <p:spPr>
          <a:xfrm>
            <a:off x="2878200" y="1523880"/>
            <a:ext cx="3370320" cy="337032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4"/>
          <p:cNvSpPr/>
          <p:nvPr/>
        </p:nvSpPr>
        <p:spPr>
          <a:xfrm>
            <a:off x="3633840" y="1279440"/>
            <a:ext cx="193320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0" spc="-1" strike="noStrike">
                <a:solidFill>
                  <a:srgbClr val="000000"/>
                </a:solidFill>
                <a:latin typeface="Verdana"/>
                <a:ea typeface="楷体_GB2312"/>
              </a:rPr>
              <a:t>蕴</a:t>
            </a:r>
            <a:endParaRPr b="0" lang="en-US" sz="2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ShockwaveFlash1"/>
          <p:cNvGraphicFramePr/>
          <p:nvPr/>
        </p:nvGraphicFramePr>
        <p:xfrm>
          <a:off x="6477120" y="990720"/>
          <a:ext cx="53316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ShockwaveFlash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77120" y="990720"/>
                    <a:ext cx="533160" cy="4572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宋体"/>
              </a:rPr>
              <a:t>fàn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3" descr="tianzigez"/>
          <p:cNvPicPr/>
          <p:nvPr/>
        </p:nvPicPr>
        <p:blipFill>
          <a:blip r:embed="rId2"/>
          <a:stretch/>
        </p:blipFill>
        <p:spPr>
          <a:xfrm>
            <a:off x="2878200" y="1523880"/>
            <a:ext cx="3370320" cy="337032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4"/>
          <p:cNvSpPr/>
          <p:nvPr/>
        </p:nvSpPr>
        <p:spPr>
          <a:xfrm>
            <a:off x="3633840" y="1279440"/>
            <a:ext cx="193320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0" spc="-1" strike="noStrike">
                <a:solidFill>
                  <a:srgbClr val="000000"/>
                </a:solidFill>
                <a:latin typeface="Verdana"/>
                <a:ea typeface="楷体_GB2312"/>
              </a:rPr>
              <a:t>范</a:t>
            </a:r>
            <a:endParaRPr b="0" lang="en-US" sz="2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ShockwaveFlash1"/>
          <p:cNvGraphicFramePr/>
          <p:nvPr/>
        </p:nvGraphicFramePr>
        <p:xfrm>
          <a:off x="6477120" y="990720"/>
          <a:ext cx="53316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ShockwaveFlash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77120" y="990720"/>
                    <a:ext cx="533160" cy="4572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c34b34a8e5a1c0bdcb130cd2"/>
          <p:cNvPicPr/>
          <p:nvPr/>
        </p:nvPicPr>
        <p:blipFill>
          <a:blip r:embed="rId1"/>
          <a:stretch/>
        </p:blipFill>
        <p:spPr>
          <a:xfrm>
            <a:off x="152280" y="1676520"/>
            <a:ext cx="3225960" cy="242064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6"/>
          <p:cNvSpPr/>
          <p:nvPr/>
        </p:nvSpPr>
        <p:spPr>
          <a:xfrm>
            <a:off x="3573360" y="2057400"/>
            <a:ext cx="534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　　毕淑敏，祖籍山东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95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年出生于新疆，国家一级作家，北京作家协会副主席，北师大文学硕士。著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毕淑敏文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八卷，长篇小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红处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》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血玲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》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拯救乳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76320" y="-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f497d"/>
                </a:solidFill>
                <a:latin typeface="Arial"/>
              </a:rPr>
              <a:t>参考资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3871800" y="19810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  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525600" y="457200"/>
            <a:ext cx="8092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作文每两周讲评一次，所以，每到这时候，我的心里就像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揣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huāi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着一块石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怎么办呢？我想到的第一个办法是：挺随意地写，随大流，让作文平平淡淡。不久，老师找我了，说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的作文退步了，是不是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骄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jiāo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傲了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老师苦口婆心地开导我，我想不能这样下去了，我不应该拿学习来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赌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d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于是我又开始认认真真地写作文。我知道同学们并不是讨厌我的作文，老师念作文时大伙儿听得津津有味，不时还发出会意的笑声。也许，大家只是不喜欢老师反反复复只提一个名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525600" y="2505240"/>
            <a:ext cx="8092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一个冬天的中午，我走进老师办公室。屋里炉火烧得很旺，炉台上水壶的热气飘飘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袅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niǎo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袅。我小心翼翼地说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师，我的作文有进步吗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噢，下午我还要读你的作文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师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有一个小小的请求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战战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兢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jīnɡ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兢地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说好了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师的眼睛注视着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想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您念我的作文的时候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不是可以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念我的名字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鼓足勇气说完在心中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蕴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yùn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藏许久的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好吧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师想了想，答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[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dā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]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525600" y="933480"/>
            <a:ext cx="8092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那天下午的情形，正如我预料的，同学们充满了好奇，发言比平日热烈得多。下课以后，我和大伙儿快活地跳橡皮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嗨！今天念的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范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àn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文是你写的吧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人问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我只笑不回答。问急了，我就答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猜是你写的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从此以后，我的作文越写越好，和同学们也玩得越来越好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525600" y="3429000"/>
            <a:ext cx="809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念小学的时候，老师往往给我的作文写上很好的评语，还常在课堂上读我的作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3398760" y="1050840"/>
            <a:ext cx="2009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师读作文的时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304920" y="1371600"/>
            <a:ext cx="3352680" cy="1828800"/>
          </a:xfrm>
          <a:prstGeom prst="cloudCallout">
            <a:avLst>
              <a:gd name="adj1" fmla="val -44884"/>
              <a:gd name="adj2" fmla="val 699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以“老师”，“我”和“同学”这三条线索来理解课文内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课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228600" y="45720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以三条线来理解课文内容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297000" y="1616040"/>
            <a:ext cx="877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　　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）从“老师”这条线看，老师前后发生了什么变化？从课文中找出相关段落读一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297000" y="2819520"/>
            <a:ext cx="877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　　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）从“我”这条线看，“我”的心情发生了怎样的变化？“我”又是怎样做的？谁来读读这些句子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297000" y="4038480"/>
            <a:ext cx="877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　　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）从“同学”的表现来看，他们前后又有什么变化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525600" y="2505240"/>
            <a:ext cx="809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当老师读作文的时候，我的心情像一颗怪味豆。最初当然是甜的了，哪个学生不愿意受到老师的夸奖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后来，因常被老师夸奖，听到那些表扬的话，仿佛椅子上堆满了图钉，叫人不敢坐踏实了。我总觉得同学们望着我，神情怪怪的。平日里，我个子高，橡皮筋跳得好，大伙儿都抢着跟我一拨呢！可这会儿，同学们见了我好像故意扭身走开。看着他们说说笑笑玩在一起，我感到孤独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5"/>
          <p:cNvSpPr/>
          <p:nvPr/>
        </p:nvSpPr>
        <p:spPr>
          <a:xfrm>
            <a:off x="7315200" y="5105520"/>
            <a:ext cx="12193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2712960" y="160020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念名字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5075280" y="160020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感到孤独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7C教育资源网www.7cxk.net</dc:creator>
  <dc:description>7C教育资源网www.7cxk.net</dc:description>
  <cp:keywords>7C教育资源网www.7cxk.net</cp:keywords>
  <dc:language>en-US</dc:language>
  <cp:lastModifiedBy>Administrator</cp:lastModifiedBy>
  <dcterms:modified xsi:type="dcterms:W3CDTF">2015-04-07T10:41:45Z</dcterms:modified>
  <cp:revision>69</cp:revision>
  <dc:subject>7C教育资源网www.7cxk.net</dc:subject>
  <dc:title>7C教育资源网www.7cxk.ne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