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gif" ContentType="image/gif"/>
  <Override PartName="/ppt/media/image5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AC4-9F97-45FB-8264-092966F8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0A1-AC0C-4654-8684-67A1510B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FAE-21E8-476A-BB92-CB507C3F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F98-A130-48B8-822B-246CC2C3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FBF-DA8C-470C-8FBE-1A9A5967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79E-103D-4982-AAB9-83108D6C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A3E-797D-49FD-94E8-73432065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EE0-AE9D-48E5-8168-F10DB9EA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772-8D23-4338-8C6D-CFDE74E1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604-F642-4263-8D62-75E33CF7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E9F-9649-40CE-ABAF-A1A30710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D34-B8E6-4727-9DBA-49F58D2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809A-1117-4F4B-9C68-33B7720E8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2293fefcbcbeea61d7887d24"/>
          <p:cNvPicPr/>
          <p:nvPr/>
        </p:nvPicPr>
        <p:blipFill>
          <a:blip r:embed="rId1"/>
          <a:srcRect l="3923" t="6958" r="-3916" b="26682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1003164418-2"/>
          <p:cNvPicPr/>
          <p:nvPr/>
        </p:nvPicPr>
        <p:blipFill>
          <a:blip r:embed="rId2"/>
          <a:stretch/>
        </p:blipFill>
        <p:spPr>
          <a:xfrm>
            <a:off x="1042920" y="1341360"/>
            <a:ext cx="756144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155_149542_0f09c5bfb752645"/>
          <p:cNvPicPr/>
          <p:nvPr/>
        </p:nvPicPr>
        <p:blipFill>
          <a:blip r:embed="rId3"/>
          <a:stretch/>
        </p:blipFill>
        <p:spPr>
          <a:xfrm>
            <a:off x="1042920" y="1341360"/>
            <a:ext cx="7561440" cy="484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123596105"/>
          <p:cNvPicPr/>
          <p:nvPr/>
        </p:nvPicPr>
        <p:blipFill>
          <a:blip r:embed="rId4"/>
          <a:stretch/>
        </p:blipFill>
        <p:spPr>
          <a:xfrm>
            <a:off x="1042920" y="1341360"/>
            <a:ext cx="4032360" cy="4861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09120719026712"/>
          <p:cNvPicPr/>
          <p:nvPr/>
        </p:nvPicPr>
        <p:blipFill>
          <a:blip r:embed="rId5"/>
          <a:srcRect l="13228" t="5544" r="0" b="8415"/>
          <a:stretch/>
        </p:blipFill>
        <p:spPr>
          <a:xfrm>
            <a:off x="5003640" y="1341360"/>
            <a:ext cx="3888000" cy="4897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09085255921"/>
          <p:cNvPicPr/>
          <p:nvPr/>
        </p:nvPicPr>
        <p:blipFill>
          <a:blip r:embed="rId6"/>
          <a:stretch/>
        </p:blipFill>
        <p:spPr>
          <a:xfrm>
            <a:off x="1042920" y="1341360"/>
            <a:ext cx="7561440" cy="48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2009831163728696"/>
          <p:cNvPicPr/>
          <p:nvPr/>
        </p:nvPicPr>
        <p:blipFill>
          <a:blip r:embed="rId7"/>
          <a:stretch/>
        </p:blipFill>
        <p:spPr>
          <a:xfrm>
            <a:off x="1042920" y="1341360"/>
            <a:ext cx="7777080" cy="4962600"/>
          </a:xfrm>
          <a:prstGeom prst="rect">
            <a:avLst/>
          </a:prstGeom>
          <a:ln w="0">
            <a:noFill/>
          </a:ln>
        </p:spPr>
      </p:pic>
      <p:pic>
        <p:nvPicPr>
          <p:cNvPr id="48" name="03抒情.wav" descr=""/>
          <p:cNvPicPr/>
          <p:nvPr/>
        </p:nvPicPr>
        <p:blipFill>
          <a:blip r:embed="rId8"/>
          <a:stretch/>
        </p:blipFill>
        <p:spPr>
          <a:xfrm>
            <a:off x="665964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201052162360017"/>
          <p:cNvPicPr/>
          <p:nvPr/>
        </p:nvPicPr>
        <p:blipFill>
          <a:blip r:embed="rId9"/>
          <a:stretch/>
        </p:blipFill>
        <p:spPr>
          <a:xfrm>
            <a:off x="0" y="0"/>
            <a:ext cx="231444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黑体"/>
                <a:ea typeface="黑体"/>
              </a:rPr>
              <a:t>28</a:t>
            </a:r>
            <a:r>
              <a:rPr b="1" lang="zh-CN" sz="4800" spc="-1" strike="noStrike">
                <a:solidFill>
                  <a:srgbClr val="009999"/>
                </a:solidFill>
                <a:latin typeface="黑体"/>
                <a:ea typeface="黑体"/>
              </a:rPr>
              <a:t>、列车上的“人造屏障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68515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6648d73df26013e69e3d6275"/>
          <p:cNvPicPr/>
          <p:nvPr/>
        </p:nvPicPr>
        <p:blipFill>
          <a:blip r:embed="rId1"/>
          <a:srcRect l="0" t="6368" r="-852" b="12268"/>
          <a:stretch/>
        </p:blipFill>
        <p:spPr>
          <a:xfrm>
            <a:off x="0" y="2033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6372360" y="62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500720" y="17733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屏障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像屏风那样遮挡着的东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肆虐（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üè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窃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qi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窃私语    告诫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ji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众目睽睽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ku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不谙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ā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扶老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xi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骚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s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ā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憋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bi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得面红耳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蓄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x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着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lu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ò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腮胡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466560" y="620640"/>
            <a:ext cx="813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墨尔本的轻轨铁路列车，看上去有点陈旧，但车厢内宽敞整洁，乘坐舒适快捷。这时是上班高峰，车上已是座无虚席。见我们一行扶老携幼，乘客们纷纷起来让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澳洲人习惯于在安静环境中生活。乘客们要么专心致志地阅读书报，要么闭目养神。偶尔有人交谈，也都压低嗓门，窃窃私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68360" y="620640"/>
            <a:ext cx="8137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墨尔本的轻轨铁路列车，看上去有点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陈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但车厢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宽敞整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乘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舒适快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时是上班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高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车上已是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座无虚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见我们一行扶老携幼，乘客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纷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让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澳洲人习惯于在安静环境中生活。乘客们要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心致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阅读书报，要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闭目养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偶尔有人交谈，也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压低嗓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窃窃私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68360" y="620640"/>
            <a:ext cx="813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墨尔本的轻轨铁路列车，看上去有点陈旧，但车厢内宽敞整洁，乘坐舒适快捷。这时是上班高峰，车上已是座无虚席。见我们一行扶老携幼，乘客们纷纷起来让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澳洲人习惯于在安静环境中生活。乘客们要么专心致志地阅读书报，要么闭目养神。偶尔有人交谈，也都压低嗓门，窃窃私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620640"/>
            <a:ext cx="8137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墨尔本的轻轨铁路列车，看上去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有点陈旧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车厢内宽敞整洁，乘坐舒适快捷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时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上班高峰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车上已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座无虚席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见我们一行扶老携幼，乘客们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纷纷起来让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澳洲人习惯于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在安静环境中生活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乘客们要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专心致志地阅读书报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要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闭目养神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偶尔有人交谈，也都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压低嗓门，窃窃私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wbgwallgreen2"/>
          <p:cNvPicPr/>
          <p:nvPr/>
        </p:nvPicPr>
        <p:blipFill>
          <a:blip r:embed="rId1"/>
          <a:stretch/>
        </p:blipFill>
        <p:spPr>
          <a:xfrm>
            <a:off x="0" y="3346560"/>
            <a:ext cx="9144000" cy="351144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826920" y="620640"/>
            <a:ext cx="40323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轻声读课文，思考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55640" y="1989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列车上的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人造屏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是指什么？用直线在书上划出有关句子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755640" y="3716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列车上为什么要竖起这样一道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人造屏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539640" y="620640"/>
            <a:ext cx="82821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月的墨尔本，正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老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肆虐的时候。为此，女儿备了不少饮料。我见小外孙上了列车后时不时地拉开易拉罐喝着，就告诫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这样喝个不停，万一小便怎么办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儿也提醒他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公说得对，轻轨列车上是没有厕所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70836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喝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97964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148360" y="407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厕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>
            <a:hlinkClick r:id="rId1" action="ppaction://hlinksldjump"/>
          </p:cNvPr>
          <p:cNvSpPr/>
          <p:nvPr/>
        </p:nvSpPr>
        <p:spPr>
          <a:xfrm>
            <a:off x="811080" y="4437000"/>
            <a:ext cx="82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月的墨尔本，正是“秋老虎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肆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时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>
            <a:hlinkClick r:id="rId2" action="ppaction://hlinksldjump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=3577497409,1603414841&amp;fm=0&amp;gp=16"/>
          <p:cNvPicPr/>
          <p:nvPr/>
        </p:nvPicPr>
        <p:blipFill>
          <a:blip r:embed="rId3"/>
          <a:stretch/>
        </p:blipFill>
        <p:spPr>
          <a:xfrm>
            <a:off x="611280" y="333360"/>
            <a:ext cx="2232000" cy="2303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3276720" y="907920"/>
            <a:ext cx="367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3771d"/>
                    </a:gs>
                    <a:gs pos="100000">
                      <a:srgbClr val="f41d0c"/>
                    </a:gs>
                  </a:gsLst>
                  <a:lin ang="5400000"/>
                </a:gradFill>
                <a:latin typeface="宋体"/>
              </a:rPr>
              <a:t>秋老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3771d"/>
                  </a:gs>
                  <a:gs pos="100000">
                    <a:srgbClr val="f41d0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258920" y="31417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秋老虎是指立秋以后短期回热天气。这时候天气晴朗、日射强烈，重新出现暑热天气，人们感到炎热难受，故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秋老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1476360" y="105264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79280" y="412920"/>
            <a:ext cx="889344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头他还强忍着，只是悄悄地对他母亲说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咪，我想撒尿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呀！你这个不争气的孩子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儿责备说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听老人言，吃苦在眼前。看你到哪里去小便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责备归责备，女儿看看表，还是用好言宽慰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乖孩子，熬一下，再过半个多小时就到终点站了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被小便憋得面红耳赤的小外孙，索性哭鼻子，耍脾气地高声嚷了起来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咪，我熬不住，我要撒尿啦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儿只好向大家道歉，说明小孩子因小便急了，吵着要撒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250920" y="0"/>
            <a:ext cx="88930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头他还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，只是悄悄地对他母亲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咪，我想撒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呀！你这个不争气的孩子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儿</a:t>
            </a:r>
            <a:r>
              <a:rPr b="1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责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听老人言，吃苦在眼前。看你到哪里去小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责备归责备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儿看看表，还是用好言</a:t>
            </a:r>
            <a:r>
              <a:rPr b="1" lang="zh-CN" sz="2800" spc="-1" strike="noStrike">
                <a:solidFill>
                  <a:srgbClr val="00cc00"/>
                </a:solidFill>
                <a:latin typeface="宋体"/>
              </a:rPr>
              <a:t>宽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“乖孩子，熬一下，再过半个多小时就到终点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被小便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面红耳赤的小外孙，索性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鼻子，耍脾气地高声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起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咪，我熬不住，我要撒尿啦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儿只好向大家</a:t>
            </a:r>
            <a:r>
              <a:rPr b="1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道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说明小孩子因小便急了，吵着要撒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>
            <a:hlinkClick r:id="rId1" action="ppaction://hlinksldjump"/>
          </p:cNvPr>
          <p:cNvSpPr/>
          <p:nvPr/>
        </p:nvSpPr>
        <p:spPr>
          <a:xfrm>
            <a:off x="3348000" y="692280"/>
            <a:ext cx="2160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395280" y="3141720"/>
            <a:ext cx="8280360" cy="574560"/>
            <a:chOff x="395280" y="3141720"/>
            <a:chExt cx="8280360" cy="574560"/>
          </a:xfrm>
        </p:grpSpPr>
        <p:sp>
          <p:nvSpPr>
            <p:cNvPr id="104" name="Line 8"/>
            <p:cNvSpPr/>
            <p:nvPr/>
          </p:nvSpPr>
          <p:spPr>
            <a:xfrm>
              <a:off x="6443640" y="31417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395280" y="3716280"/>
              <a:ext cx="604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1"/>
          <p:cNvSpPr/>
          <p:nvPr/>
        </p:nvSpPr>
        <p:spPr>
          <a:xfrm>
            <a:off x="7521840" y="3213000"/>
            <a:ext cx="103428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缓兵之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2851622989057239050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1"/>
          <p:cNvSpPr/>
          <p:nvPr/>
        </p:nvSpPr>
        <p:spPr>
          <a:xfrm>
            <a:off x="250920" y="242100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墨尔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68360" y="836640"/>
            <a:ext cx="791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这时是上班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高峰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，车上已是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座无虚席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17520" y="2409840"/>
            <a:ext cx="879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澳洲人习惯于在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安静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环境中生活。乘客们要么专心致志地阅读书报，要么闭目养神。偶尔有人交谈，也都压低嗓门，窃窃私语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52440" y="4076640"/>
            <a:ext cx="8791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见小外孙上了列车后时不时地拉开易拉罐喝着，就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告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说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这样喝个不停，万一小便怎么办？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女儿也提醒他说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外公说得对，轻轨列车上是没有厕所的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24000" y="1413000"/>
            <a:ext cx="9074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外孙对着空听子，不肯在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众目睽睽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车厢里撒尿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2819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孩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强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告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说）  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责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宽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憋  哭   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道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5508720" y="333360"/>
            <a:ext cx="2819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母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0" y="3289320"/>
            <a:ext cx="81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外孙的这声嚷嚷，犹如在平静的水面掷了一块石头，原本静悄悄的车厢，顿时掀起了一阵小小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骚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乘客们以为出了什么事，纷纷过来问长问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11280" y="1268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乘客们要么专心致志地阅读书报，要么闭目养神。偶尔有人交谈，也都压低嗓门，窃窃私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0" y="0"/>
            <a:ext cx="2376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安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-1620720" y="2852640"/>
            <a:ext cx="81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骚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0" y="4221000"/>
            <a:ext cx="97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专心致志地阅读书报的（               ），闭目养神的人（            ）。交谈的人（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688000" y="5761080"/>
            <a:ext cx="34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问长问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692280"/>
            <a:ext cx="8496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大家纷纷议论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车上没有厕所怎么办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一位金发女郎送上一只崭新的饼干听子，说她是急中生智，取出饼干，把空听子给孩子撒尿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24000" y="2565360"/>
            <a:ext cx="864072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外孙对着空听子，不肯在众目睽睽的车厢里撒尿，一位蓄着络腮胡子的长者也站出来帮忙，他说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孩子很懂事，知道在众人面前撒尿是不文明行为，我们大人应该尊重他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着发动了十几位乘客，在车厢的一角背靠背地站成了一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造屏障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然后，这位长者笑眯眯地招招手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，好孩子，你可以放心地在当中撒尿了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197520" y="26028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外孙的“撒尿危机”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牵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了满车厢乘客的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468360" y="2133720"/>
            <a:ext cx="8351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外孙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尿危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牵动了满车厢乘客的心。一位金发女郎（                            ）；一位蓄着络腮胡子的长者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835280" y="2637000"/>
            <a:ext cx="424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递给我们一个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崭新的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饼干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16000" y="3141720"/>
            <a:ext cx="8064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为了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尊重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孩子，发动乘客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背靠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围成了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圈“人造屏障”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1116000" y="2637000"/>
            <a:ext cx="633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539640" y="220500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几位乘客，在车厢一角背靠背地站成了一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造屏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755640" y="0"/>
            <a:ext cx="777564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乘客们站出的不仅仅是一圈“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造屏障”，他们站出了对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（     ）和（    ），站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了澳洲人的（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乘客们站出的不仅仅是一圈“人造屏障”，他们站出了对孩子的（     ）和（    ），站出了澳洲人的（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9541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关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003640" y="29541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尊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140360" y="3603600"/>
            <a:ext cx="15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热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51672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善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ff"/>
                </a:solidFill>
                <a:latin typeface="Arial"/>
                <a:ea typeface="微软雅黑"/>
              </a:rPr>
              <a:t>文明礼貌用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爱心让人高尚，善心给人快乐，真心使人美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8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"/>
                <a:ea typeface="楷体"/>
              </a:rPr>
              <a:t>“</a:t>
            </a:r>
            <a:r>
              <a:rPr b="1" lang="zh-CN" sz="5400" spc="-1" strike="noStrike">
                <a:solidFill>
                  <a:srgbClr val="008000"/>
                </a:solidFill>
                <a:latin typeface="楷体"/>
                <a:ea typeface="楷体"/>
              </a:rPr>
              <a:t>今天</a:t>
            </a:r>
            <a:r>
              <a:rPr b="1" lang="en-US" sz="5400" spc="-1" strike="noStrike">
                <a:solidFill>
                  <a:srgbClr val="008000"/>
                </a:solidFill>
                <a:latin typeface="楷体"/>
                <a:ea typeface="楷体"/>
              </a:rPr>
              <a:t>,</a:t>
            </a:r>
            <a:r>
              <a:rPr b="1" lang="zh-CN" sz="5400" spc="-1" strike="noStrike">
                <a:solidFill>
                  <a:srgbClr val="008000"/>
                </a:solidFill>
                <a:latin typeface="楷体"/>
                <a:ea typeface="楷体"/>
              </a:rPr>
              <a:t>你微笑了吗</a:t>
            </a:r>
            <a:r>
              <a:rPr b="1" lang="en-US" sz="5400" spc="-1" strike="noStrike">
                <a:solidFill>
                  <a:srgbClr val="008000"/>
                </a:solidFill>
                <a:latin typeface="楷体"/>
                <a:ea typeface="楷体"/>
              </a:rPr>
              <a:t>?</a:t>
            </a:r>
            <a:r>
              <a:rPr b="1" lang="zh-CN" sz="5400" spc="-1" strike="noStrike">
                <a:solidFill>
                  <a:srgbClr val="008000"/>
                </a:solidFill>
                <a:latin typeface="楷体"/>
                <a:ea typeface="楷体"/>
              </a:rPr>
              <a:t>你问候了吗</a:t>
            </a:r>
            <a:r>
              <a:rPr b="1" lang="en-US" sz="5400" spc="-1" strike="noStrike">
                <a:solidFill>
                  <a:srgbClr val="008000"/>
                </a:solidFill>
                <a:latin typeface="楷体"/>
                <a:ea typeface="楷体"/>
              </a:rPr>
              <a:t>?</a:t>
            </a:r>
            <a:r>
              <a:rPr b="1" lang="zh-CN" sz="5400" spc="-1" strike="noStrike">
                <a:solidFill>
                  <a:srgbClr val="008000"/>
                </a:solidFill>
                <a:latin typeface="楷体"/>
                <a:ea typeface="楷体"/>
              </a:rPr>
              <a:t>你礼让了吗</a:t>
            </a:r>
            <a:r>
              <a:rPr b="1" lang="en-US" sz="5400" spc="-1" strike="noStrike">
                <a:solidFill>
                  <a:srgbClr val="008000"/>
                </a:solidFill>
                <a:latin typeface="楷体"/>
                <a:ea typeface="楷体"/>
              </a:rPr>
              <a:t>?</a:t>
            </a:r>
            <a:r>
              <a:rPr b="1" lang="zh-CN" sz="5400" spc="-1" strike="noStrike">
                <a:solidFill>
                  <a:srgbClr val="008000"/>
                </a:solidFill>
                <a:latin typeface="楷体"/>
                <a:ea typeface="楷体"/>
              </a:rPr>
              <a:t>你帮助别人了吗</a:t>
            </a:r>
            <a:r>
              <a:rPr b="1" lang="en-US" sz="5400" spc="-1" strike="noStrike">
                <a:solidFill>
                  <a:srgbClr val="008000"/>
                </a:solidFill>
                <a:latin typeface="楷体"/>
                <a:ea typeface="楷体"/>
              </a:rPr>
              <a:t>?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_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2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黑体"/>
                <a:ea typeface="黑体"/>
              </a:rPr>
              <a:t>复述完整的故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求：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根据板书提示，简要复述故事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选择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外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孩子母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口吻来讲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1-amba.mp3" descr=""/>
          <p:cNvPicPr/>
          <p:nvPr/>
        </p:nvPicPr>
        <p:blipFill>
          <a:blip r:embed="rId1"/>
          <a:stretch/>
        </p:blipFill>
        <p:spPr>
          <a:xfrm>
            <a:off x="52927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BB1403945667E3C8B38AE65D8FFDE2A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A51CAE1232999D2975618E88BCF7F67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0B8C544662EC2F2562F4C8CFFCA00B05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3B5303B47BF67896F1F873E304747B5E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4399587_221450690398_2"/>
          <p:cNvPicPr/>
          <p:nvPr/>
        </p:nvPicPr>
        <p:blipFill>
          <a:blip r:embed="rId6"/>
          <a:srcRect l="2743" t="0" r="0" b="3897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图片2"/>
          <p:cNvPicPr/>
          <p:nvPr/>
        </p:nvPicPr>
        <p:blipFill>
          <a:blip r:embed="rId7"/>
          <a:srcRect l="0" t="0" r="0" b="69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图片3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图片1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00806261059326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513H052-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Track06.wav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fca1c0e9300c477f62d09f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009424161837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20100316094242_27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W0201003153254891350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6:45:04Z</dcterms:created>
  <dc:creator/>
  <dc:description/>
  <dc:language>en-US</dc:language>
  <cp:lastModifiedBy>dreamsummit</cp:lastModifiedBy>
  <dcterms:modified xsi:type="dcterms:W3CDTF">2015-03-02T09:09:20Z</dcterms:modified>
  <cp:revision>34</cp:revision>
  <dc:subject/>
  <dc:title>幻灯片 1</dc:title>
</cp:coreProperties>
</file>