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gif" ContentType="image/gif"/>
  <Override PartName="/ppt/media/image2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D3EBF-20FB-4A37-BC13-559D6DA474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E6673F-1C50-4D6E-A95E-EE44C44373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245-C5E6-4146-B46A-95FE55194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E21-E777-437C-918B-87E850EC6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E11-D75C-418F-8467-6B3E9D36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F78C-AA5E-4BCC-8574-898E9E90E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AB4E-DB1C-4906-83F1-0BB6192A5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9C9B-0930-48C4-BADE-9ADE7B61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C307-F085-4AA9-9B4E-A858EB14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8904-7237-42BC-B862-85020B5B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055B-228A-4F90-9907-A78AFD81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4C9-0D59-488B-8B47-59A0378B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884E-792C-43B0-A57E-6B9E5C0EF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598D-216B-41B1-B5D0-B11F03C29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AF3AF3-F45F-4811-9798-0680D517D76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3" descr=""/>
          <p:cNvPicPr/>
          <p:nvPr/>
        </p:nvPicPr>
        <p:blipFill>
          <a:blip r:embed="rId1"/>
          <a:stretch/>
        </p:blipFill>
        <p:spPr>
          <a:xfrm>
            <a:off x="2286000" y="2170080"/>
            <a:ext cx="4572000" cy="334008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0" descr="구름"/>
          <p:cNvPicPr/>
          <p:nvPr/>
        </p:nvPicPr>
        <p:blipFill>
          <a:blip r:embed="rId3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001880" y="5640480"/>
            <a:ext cx="7140240" cy="717480"/>
            <a:chOff x="1001880" y="5640480"/>
            <a:chExt cx="7140240" cy="717480"/>
          </a:xfrm>
        </p:grpSpPr>
        <p:pic>
          <p:nvPicPr>
            <p:cNvPr id="53" name="任意多边形 3" descr=""/>
            <p:cNvPicPr/>
            <p:nvPr/>
          </p:nvPicPr>
          <p:blipFill>
            <a:blip r:embed="rId4"/>
            <a:stretch/>
          </p:blipFill>
          <p:spPr>
            <a:xfrm>
              <a:off x="100188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6" descr=""/>
            <p:cNvPicPr/>
            <p:nvPr/>
          </p:nvPicPr>
          <p:blipFill>
            <a:blip r:embed="rId5"/>
            <a:stretch/>
          </p:blipFill>
          <p:spPr>
            <a:xfrm>
              <a:off x="274248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8" descr=""/>
            <p:cNvPicPr/>
            <p:nvPr/>
          </p:nvPicPr>
          <p:blipFill>
            <a:blip r:embed="rId6"/>
            <a:stretch/>
          </p:blipFill>
          <p:spPr>
            <a:xfrm>
              <a:off x="4489200" y="5640480"/>
              <a:ext cx="1894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任意多边形 19" descr=""/>
            <p:cNvPicPr/>
            <p:nvPr/>
          </p:nvPicPr>
          <p:blipFill>
            <a:blip r:embed="rId7"/>
            <a:stretch/>
          </p:blipFill>
          <p:spPr>
            <a:xfrm>
              <a:off x="6253560" y="5640480"/>
              <a:ext cx="188856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流程图: 摘录 25"/>
            <p:cNvSpPr/>
            <p:nvPr/>
          </p:nvSpPr>
          <p:spPr>
            <a:xfrm rot="5400000">
              <a:off x="275148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流程图: 摘录 40"/>
            <p:cNvSpPr/>
            <p:nvPr/>
          </p:nvSpPr>
          <p:spPr>
            <a:xfrm rot="5400000">
              <a:off x="448452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流程图: 摘录 41"/>
            <p:cNvSpPr/>
            <p:nvPr/>
          </p:nvSpPr>
          <p:spPr>
            <a:xfrm rot="5400000">
              <a:off x="6251760" y="5870160"/>
              <a:ext cx="151920" cy="21564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61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2" name="图片 46" descr="枫叶副本"/>
            <p:cNvPicPr/>
            <p:nvPr/>
          </p:nvPicPr>
          <p:blipFill>
            <a:blip r:embed="rId8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矩形 47" descr=""/>
            <p:cNvPicPr/>
            <p:nvPr/>
          </p:nvPicPr>
          <p:blipFill>
            <a:blip r:embed="rId9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" name="组合 13338"/>
          <p:cNvGrpSpPr/>
          <p:nvPr/>
        </p:nvGrpSpPr>
        <p:grpSpPr>
          <a:xfrm>
            <a:off x="2162160" y="905040"/>
            <a:ext cx="4819680" cy="1180800"/>
            <a:chOff x="2162160" y="905040"/>
            <a:chExt cx="4819680" cy="1180800"/>
          </a:xfrm>
        </p:grpSpPr>
        <p:sp>
          <p:nvSpPr>
            <p:cNvPr id="65" name="Text Box 2"/>
            <p:cNvSpPr/>
            <p:nvPr/>
          </p:nvSpPr>
          <p:spPr>
            <a:xfrm>
              <a:off x="3421080" y="1011240"/>
              <a:ext cx="35607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买椟还珠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" name="组合 13337"/>
            <p:cNvGrpSpPr/>
            <p:nvPr/>
          </p:nvGrpSpPr>
          <p:grpSpPr>
            <a:xfrm>
              <a:off x="2162160" y="905040"/>
              <a:ext cx="1180800" cy="1180800"/>
              <a:chOff x="2162160" y="905040"/>
              <a:chExt cx="1180800" cy="1180800"/>
            </a:xfrm>
          </p:grpSpPr>
          <p:sp>
            <p:nvSpPr>
              <p:cNvPr id="67" name="AutoShape 11"/>
              <p:cNvSpPr/>
              <p:nvPr/>
            </p:nvSpPr>
            <p:spPr>
              <a:xfrm>
                <a:off x="2162160" y="905040"/>
                <a:ext cx="1180800" cy="118080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" name="文本框 13"/>
              <p:cNvSpPr/>
              <p:nvPr/>
            </p:nvSpPr>
            <p:spPr>
              <a:xfrm>
                <a:off x="2385000" y="984960"/>
                <a:ext cx="637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6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内容占位符 2"/>
          <p:cNvSpPr/>
          <p:nvPr/>
        </p:nvSpPr>
        <p:spPr>
          <a:xfrm>
            <a:off x="635040" y="1940040"/>
            <a:ext cx="220356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Aft>
                <a:spcPts val="601"/>
              </a:spcAft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核心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矩形 1"/>
          <p:cNvSpPr/>
          <p:nvPr/>
        </p:nvSpPr>
        <p:spPr>
          <a:xfrm>
            <a:off x="977760" y="3486240"/>
            <a:ext cx="742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则寓言故事讲了一个郑国人看到装珠宝的盒子精美，就买下了盒子，把珍珠还给楚国商人的故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矩形 5"/>
          <p:cNvSpPr/>
          <p:nvPr/>
        </p:nvSpPr>
        <p:spPr>
          <a:xfrm>
            <a:off x="961920" y="2681280"/>
            <a:ext cx="742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课文讲述了一个怎样的故事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7" descr=""/>
          <p:cNvPicPr/>
          <p:nvPr/>
        </p:nvPicPr>
        <p:blipFill>
          <a:blip r:embed="rId1"/>
          <a:stretch/>
        </p:blipFill>
        <p:spPr>
          <a:xfrm>
            <a:off x="531720" y="1185840"/>
            <a:ext cx="551808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内容占位符 2"/>
          <p:cNvSpPr/>
          <p:nvPr/>
        </p:nvSpPr>
        <p:spPr>
          <a:xfrm>
            <a:off x="851040" y="2454120"/>
            <a:ext cx="764532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读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楚国人是如何装饰自己的盒子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1"/>
          <p:cNvSpPr/>
          <p:nvPr/>
        </p:nvSpPr>
        <p:spPr>
          <a:xfrm>
            <a:off x="1197000" y="3209760"/>
            <a:ext cx="725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70956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楚国的珠宝商用木兰树的木料制成装珍珠的盒子，用桂椒来熏，用精美的珠玉点缀其上，还用绿色的玉石装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内容占位符 2"/>
          <p:cNvSpPr/>
          <p:nvPr/>
        </p:nvSpPr>
        <p:spPr>
          <a:xfrm>
            <a:off x="635040" y="1733400"/>
            <a:ext cx="220356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c0000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串珠问题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内容占位符 2"/>
          <p:cNvSpPr/>
          <p:nvPr/>
        </p:nvSpPr>
        <p:spPr>
          <a:xfrm>
            <a:off x="625320" y="1947960"/>
            <a:ext cx="7847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二思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郑国人是怎样做的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1039680" y="279396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6220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郑国人的眼睛只盯着那只精美的盒子，结果却把真正有价值的珠宝还给了楚国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内容占位符 2"/>
          <p:cNvSpPr/>
          <p:nvPr/>
        </p:nvSpPr>
        <p:spPr>
          <a:xfrm>
            <a:off x="804960" y="1916280"/>
            <a:ext cx="764532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三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怎样看待郑人“买椟还珠”的举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1"/>
          <p:cNvSpPr/>
          <p:nvPr/>
        </p:nvSpPr>
        <p:spPr>
          <a:xfrm>
            <a:off x="1230480" y="2625840"/>
            <a:ext cx="70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郑国人被装饰精美的匣子所迷惑，丢掉了真正有价值的珍珠，说明了他只注重表面，不重视实质，主次不分，本末倒置，不能正确取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内容占位符 2"/>
          <p:cNvSpPr/>
          <p:nvPr/>
        </p:nvSpPr>
        <p:spPr>
          <a:xfrm>
            <a:off x="790560" y="1701720"/>
            <a:ext cx="7645320" cy="30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四品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则寓言给了我们哪些启示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1"/>
          <p:cNvSpPr/>
          <p:nvPr/>
        </p:nvSpPr>
        <p:spPr>
          <a:xfrm>
            <a:off x="1198440" y="2419200"/>
            <a:ext cx="72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80" indent="622440"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给我们的启示是：做什么事情都要分清主次，要分辨事物的不同价值以决定取舍，否则就会像这位“买椟还珠”的郑人那样做出舍本逐末、取舍不当的傻事，最终得不偿失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26"/>
          <p:cNvSpPr/>
          <p:nvPr/>
        </p:nvSpPr>
        <p:spPr>
          <a:xfrm>
            <a:off x="1188360" y="2433600"/>
            <a:ext cx="485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4"/>
          <p:cNvSpPr/>
          <p:nvPr/>
        </p:nvSpPr>
        <p:spPr>
          <a:xfrm>
            <a:off x="1882800" y="2378160"/>
            <a:ext cx="10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楚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左大括号 6"/>
          <p:cNvSpPr/>
          <p:nvPr/>
        </p:nvSpPr>
        <p:spPr>
          <a:xfrm>
            <a:off x="1692360" y="2378160"/>
            <a:ext cx="312480" cy="2747880"/>
          </a:xfrm>
          <a:custGeom>
            <a:avLst/>
            <a:gdLst>
              <a:gd name="textAreaLeft" fmla="*/ 199800 w 312480"/>
              <a:gd name="textAreaRight" fmla="*/ 312840 w 312480"/>
              <a:gd name="textAreaTop" fmla="*/ 7920 h 2747880"/>
              <a:gd name="textAreaBottom" fmla="*/ 273996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3"/>
                  <a:pt x="10800" y="205"/>
                </a:cubicBezTo>
                <a:lnTo>
                  <a:pt x="10800" y="10595"/>
                </a:lnTo>
                <a:cubicBezTo>
                  <a:pt x="10800" y="10698"/>
                  <a:pt x="5400" y="10800"/>
                  <a:pt x="0" y="10800"/>
                </a:cubicBezTo>
                <a:cubicBezTo>
                  <a:pt x="5400" y="10800"/>
                  <a:pt x="10800" y="10903"/>
                  <a:pt x="10800" y="11005"/>
                </a:cubicBezTo>
                <a:lnTo>
                  <a:pt x="10800" y="21395"/>
                </a:lnTo>
                <a:cubicBezTo>
                  <a:pt x="10800" y="21498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左大括号 24"/>
          <p:cNvSpPr/>
          <p:nvPr/>
        </p:nvSpPr>
        <p:spPr>
          <a:xfrm flipH="1">
            <a:off x="6249960" y="2378160"/>
            <a:ext cx="355680" cy="2747880"/>
          </a:xfrm>
          <a:custGeom>
            <a:avLst/>
            <a:gdLst>
              <a:gd name="textAreaLeft" fmla="*/ 227160 w 355680"/>
              <a:gd name="textAreaRight" fmla="*/ 356040 w 355680"/>
              <a:gd name="textAreaTop" fmla="*/ 9000 h 2747880"/>
              <a:gd name="textAreaBottom" fmla="*/ 2738880 h 274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7"/>
                  <a:pt x="10800" y="233"/>
                </a:cubicBezTo>
                <a:lnTo>
                  <a:pt x="10800" y="10567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7"/>
                  <a:pt x="10800" y="11033"/>
                </a:cubicBezTo>
                <a:lnTo>
                  <a:pt x="10800" y="21367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2725560" y="2268360"/>
            <a:ext cx="376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卖珍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用香木做盒子，薰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椒、缀珠玉、饰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瑰、辑翡翠（精美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8"/>
          <p:cNvSpPr/>
          <p:nvPr/>
        </p:nvSpPr>
        <p:spPr>
          <a:xfrm>
            <a:off x="2725560" y="4678200"/>
            <a:ext cx="31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——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买盒子 还珍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9"/>
          <p:cNvSpPr/>
          <p:nvPr/>
        </p:nvSpPr>
        <p:spPr>
          <a:xfrm>
            <a:off x="2014200" y="46656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965a"/>
                </a:solidFill>
                <a:latin typeface="黑体"/>
                <a:ea typeface="黑体"/>
              </a:rPr>
              <a:t>郑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26"/>
          <p:cNvSpPr/>
          <p:nvPr/>
        </p:nvSpPr>
        <p:spPr>
          <a:xfrm>
            <a:off x="6511320" y="234108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取舍不当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舍本逐末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6" descr="C:\Users\Administrator\Desktop\可改图标 - 副本\结构主旨22.png"/>
          <p:cNvPicPr/>
          <p:nvPr/>
        </p:nvPicPr>
        <p:blipFill>
          <a:blip r:embed="rId1"/>
          <a:stretch/>
        </p:blipFill>
        <p:spPr>
          <a:xfrm>
            <a:off x="3584520" y="326880"/>
            <a:ext cx="2406600" cy="631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1" name="圆角矩形 1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结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内容占位符 2"/>
          <p:cNvSpPr/>
          <p:nvPr/>
        </p:nvSpPr>
        <p:spPr>
          <a:xfrm>
            <a:off x="934920" y="2084400"/>
            <a:ext cx="741708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讲述了一个郑国人看到装珠宝的盒子特别漂亮，就买下了盒子，把珠宝退还给楚国商人的故事。人们借这个故事讽刺了那些没有眼力、只重外表、舍本逐末、取舍不当的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6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7" name="图片 5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课文主旨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图片 16" descr=""/>
          <p:cNvPicPr/>
          <p:nvPr/>
        </p:nvPicPr>
        <p:blipFill>
          <a:blip r:embed="rId1"/>
          <a:stretch/>
        </p:blipFill>
        <p:spPr>
          <a:xfrm>
            <a:off x="3284640" y="34308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30" name="组合 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31" name="圆角矩形 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32" name="图片 9" descr="book.gif"/>
            <p:cNvPicPr/>
            <p:nvPr/>
          </p:nvPicPr>
          <p:blipFill>
            <a:blip r:embed="rId2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推荐阅读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4" name="矩形 1"/>
          <p:cNvSpPr/>
          <p:nvPr/>
        </p:nvSpPr>
        <p:spPr>
          <a:xfrm>
            <a:off x="1166760" y="2254320"/>
            <a:ext cx="69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杨氏之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梁国杨氏子九岁，甚聪惠。孔君平诣其父，父不在，乃呼儿出。为设果，果有扬梅。孔指以示儿曰：“此是君家果。”儿应声答曰：“未闻孔雀是夫子家禽。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矩形 1"/>
          <p:cNvSpPr/>
          <p:nvPr/>
        </p:nvSpPr>
        <p:spPr>
          <a:xfrm>
            <a:off x="1308960" y="1808280"/>
            <a:ext cx="181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【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郑人买履的故事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矩形 2"/>
          <p:cNvSpPr/>
          <p:nvPr/>
        </p:nvSpPr>
        <p:spPr>
          <a:xfrm>
            <a:off x="828720" y="226224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有一个想要买鞋的郑国人，他先量好自己脚的尺码，然后把量好的尺码放在他的座位上。等到了集市，他才想起忘了带量好的尺码。他已经得到了鞋子，却说：“我忘记带量好的尺码了。”于是返回去取尺码。等到他返回集市的时候，集市已经散了，于是没有买到鞋。有人问：“为什么不用你的脚去试试鞋的大小呢？”他说：“我宁可相信量好的尺码，也不相信自己的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6"/>
          <p:cNvGrpSpPr/>
          <p:nvPr/>
        </p:nvGrpSpPr>
        <p:grpSpPr>
          <a:xfrm>
            <a:off x="558720" y="1095480"/>
            <a:ext cx="3849840" cy="666720"/>
            <a:chOff x="558720" y="1095480"/>
            <a:chExt cx="3849840" cy="666720"/>
          </a:xfrm>
        </p:grpSpPr>
        <p:sp>
          <p:nvSpPr>
            <p:cNvPr id="138" name="圆角矩形 7"/>
            <p:cNvSpPr/>
            <p:nvPr/>
          </p:nvSpPr>
          <p:spPr>
            <a:xfrm>
              <a:off x="1374480" y="1233360"/>
              <a:ext cx="3034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6"/>
            <p:cNvSpPr/>
            <p:nvPr/>
          </p:nvSpPr>
          <p:spPr>
            <a:xfrm>
              <a:off x="1634040" y="1252440"/>
              <a:ext cx="2774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走进中华传统文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0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095480"/>
              <a:ext cx="1087200" cy="666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1"/>
          <p:cNvSpPr/>
          <p:nvPr/>
        </p:nvSpPr>
        <p:spPr>
          <a:xfrm>
            <a:off x="949320" y="2419200"/>
            <a:ext cx="73803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这个郑国人眼睛只盯着精美的盒子，却丢掉了真正有价值的珠宝。这样“傻”的行为启示我们做事要分清主次，不要像“买椟还珠”的郑国人那样舍本逐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6"/>
          <p:cNvSpPr/>
          <p:nvPr/>
        </p:nvSpPr>
        <p:spPr>
          <a:xfrm>
            <a:off x="1166760" y="2886120"/>
            <a:ext cx="758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背诵课文。理解课文内容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能理解文中包含的寓意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难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图示 3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70"/>
          <p:cNvSpPr/>
          <p:nvPr/>
        </p:nvSpPr>
        <p:spPr>
          <a:xfrm>
            <a:off x="-3943440" y="714240"/>
            <a:ext cx="1895400" cy="18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72" descr=""/>
          <p:cNvPicPr/>
          <p:nvPr/>
        </p:nvPicPr>
        <p:blipFill>
          <a:blip r:embed="rId2"/>
          <a:stretch/>
        </p:blipFill>
        <p:spPr>
          <a:xfrm>
            <a:off x="-3943440" y="714240"/>
            <a:ext cx="18972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组合 1"/>
          <p:cNvGrpSpPr/>
          <p:nvPr/>
        </p:nvGrpSpPr>
        <p:grpSpPr>
          <a:xfrm>
            <a:off x="631800" y="1631880"/>
            <a:ext cx="7583400" cy="1191240"/>
            <a:chOff x="631800" y="1631880"/>
            <a:chExt cx="7583400" cy="1191240"/>
          </a:xfrm>
        </p:grpSpPr>
        <p:sp>
          <p:nvSpPr>
            <p:cNvPr id="144" name="矩形 12"/>
            <p:cNvSpPr/>
            <p:nvPr/>
          </p:nvSpPr>
          <p:spPr>
            <a:xfrm>
              <a:off x="1171440" y="1631880"/>
              <a:ext cx="70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思考与交流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郑人为什么会“买椟还珠”呢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5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631800" y="172692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146" name="Picture 7" descr=""/>
          <p:cNvPicPr/>
          <p:nvPr/>
        </p:nvPicPr>
        <p:blipFill>
          <a:blip r:embed="rId2"/>
          <a:stretch/>
        </p:blipFill>
        <p:spPr>
          <a:xfrm>
            <a:off x="-103320" y="768240"/>
            <a:ext cx="4303800" cy="12430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"/>
          <p:cNvSpPr/>
          <p:nvPr/>
        </p:nvSpPr>
        <p:spPr>
          <a:xfrm>
            <a:off x="1173240" y="2747880"/>
            <a:ext cx="715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“买椟还珠”是指郑人没有眼光，分不清主次，取舍不当。但从另外一个角度看，也可以说他眼光独到，很有鉴赏水平。珍珠没有什么艺术魅力，而装它的盒子却做工精美，独具匠心，是一件艺术珍品，所以他“买椟还珠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组合 1"/>
          <p:cNvGrpSpPr/>
          <p:nvPr/>
        </p:nvGrpSpPr>
        <p:grpSpPr>
          <a:xfrm>
            <a:off x="631800" y="1208160"/>
            <a:ext cx="7583400" cy="1191240"/>
            <a:chOff x="631800" y="1208160"/>
            <a:chExt cx="7583400" cy="1191240"/>
          </a:xfrm>
        </p:grpSpPr>
        <p:sp>
          <p:nvSpPr>
            <p:cNvPr id="149" name="矩形 12"/>
            <p:cNvSpPr/>
            <p:nvPr/>
          </p:nvSpPr>
          <p:spPr>
            <a:xfrm>
              <a:off x="1171440" y="1208160"/>
              <a:ext cx="70437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与应用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朝三暮四、相濡以沫、买椟还珠这几个成语都来源于古代寓言故事，请你在课外搜集这类成语，与班级同学交流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0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631800" y="1303200"/>
              <a:ext cx="471240" cy="52704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51" name="TextBox 2"/>
          <p:cNvSpPr/>
          <p:nvPr/>
        </p:nvSpPr>
        <p:spPr>
          <a:xfrm>
            <a:off x="1173240" y="3389400"/>
            <a:ext cx="715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可以上网查阅，可以在相关书籍上查阅，并做读书笔记，再与同学交流。交流时，先给同学讲一讲寓言故事，并说明寓意。再认真倾听同学搜集到的寓言故事，可以记在读书笔记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2"/>
          <p:cNvSpPr/>
          <p:nvPr/>
        </p:nvSpPr>
        <p:spPr>
          <a:xfrm>
            <a:off x="982800" y="1314360"/>
            <a:ext cx="7151400" cy="23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参考答案：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〔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对牛弹琴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〕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公明仪给牛弹奏古雅的清角调子的琴曲，牛依然如故，埋头吃草。并非牛没听见，而是因为这种曲调不适合它听啊！后来，公明仪改变了弹法，模仿蚊子、牛蝇的叫声，小牛犊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dú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寻找母牛的叫声，此时牛立即摇着尾巴，竖起耳朵，迈开脚步走来走去地倾听起来了。这则寓言故事比喻对不讲理的人讲道理，对外行人说内行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现在也用来讥笑说话的人不看对象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组合 6"/>
          <p:cNvGrpSpPr/>
          <p:nvPr/>
        </p:nvGrpSpPr>
        <p:grpSpPr>
          <a:xfrm>
            <a:off x="700200" y="1379520"/>
            <a:ext cx="7583400" cy="642600"/>
            <a:chOff x="700200" y="1379520"/>
            <a:chExt cx="7583400" cy="642600"/>
          </a:xfrm>
        </p:grpSpPr>
        <p:sp>
          <p:nvSpPr>
            <p:cNvPr id="154" name="矩形 7"/>
            <p:cNvSpPr/>
            <p:nvPr/>
          </p:nvSpPr>
          <p:spPr>
            <a:xfrm>
              <a:off x="1239840" y="1379520"/>
              <a:ext cx="7043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72880" indent="-272880"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积累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5" name="Picture 5" descr="E:\各版本共用文件\0未分类文件\图片\课件制作所需图片\四叶草.png"/>
            <p:cNvPicPr/>
            <p:nvPr/>
          </p:nvPicPr>
          <p:blipFill>
            <a:blip r:embed="rId1"/>
            <a:stretch/>
          </p:blipFill>
          <p:spPr>
            <a:xfrm>
              <a:off x="700200" y="1476360"/>
              <a:ext cx="471240" cy="525600"/>
            </a:xfrm>
            <a:prstGeom prst="rect">
              <a:avLst/>
            </a:prstGeom>
            <a:ln w="0">
              <a:noFill/>
            </a:ln>
            <a:effectLst>
              <a:outerShdw dist="38183" dir="13500000" blurRad="0" rotWithShape="0">
                <a:srgbClr val="000000">
                  <a:alpha val="40000"/>
                </a:srgbClr>
              </a:outerShdw>
            </a:effectLst>
          </p:spPr>
        </p:pic>
      </p:grpSp>
      <p:sp>
        <p:nvSpPr>
          <p:cNvPr id="156" name="TextBox 2"/>
          <p:cNvSpPr/>
          <p:nvPr/>
        </p:nvSpPr>
        <p:spPr>
          <a:xfrm>
            <a:off x="1184400" y="2625840"/>
            <a:ext cx="73310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Calibri"/>
              </a:rPr>
              <a:t>点拨：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先要熟读。背诵时要注意节奏，正确断句。背诵这则文言文时，可以利用比较整齐的句子来进行，如“薰以桂椒，缀以珠玉，饰以玫瑰，辑以翡翠”，都是“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以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……”</a:t>
            </a: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的句式，把握好这几个句子，背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就不成问题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766800" y="2016000"/>
            <a:ext cx="769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04960" indent="-80496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背诵课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矩形 3"/>
          <p:cNvSpPr/>
          <p:nvPr/>
        </p:nvSpPr>
        <p:spPr>
          <a:xfrm>
            <a:off x="762120" y="969840"/>
            <a:ext cx="784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一读，背一背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饮湖上初晴后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［宋］苏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水光潋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lià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滟（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yàn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）晴方好，山色空蒙雨亦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欲把西湖比西子，淡妆浓抹总相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注释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饮湖上初晴后雨：即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人与朋友在西湖饮酒游览，适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气由晴转雨的意思。潋滟：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1360" indent="-44136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波荡漾、波光闪动的样子。方好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5803920" y="3714840"/>
            <a:ext cx="170496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3"/>
          <p:cNvSpPr/>
          <p:nvPr/>
        </p:nvSpPr>
        <p:spPr>
          <a:xfrm>
            <a:off x="749160" y="1009800"/>
            <a:ext cx="78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正显得美。方，刚刚，副词。空蒙：细雨迷蒙的样子。亦：也。 奇：奇妙。 欲：想要。 西湖：这里指杭州西湖，因为它在杭州西面；又叫西子湖则是从这首小诗而来。西子：即西施，春秋时代越国著名的美女。淡妆浓抹：或淡雅地装束，或浓艳地打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[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赏析</a:t>
            </a:r>
            <a:r>
              <a:rPr b="1" lang="en-US" sz="2400" spc="-1" strike="noStrike">
                <a:solidFill>
                  <a:srgbClr val="0000ff"/>
                </a:solidFill>
                <a:latin typeface="宋体"/>
              </a:rPr>
              <a:t>] 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是一首赞美西湖美景的诗，写于诗人任杭州通判期间。原作有两首，这是第二首。首句“水光潋滟晴方好”描写西湖晴天的水光：在灿烂的阳光照耀下，西湖水波荡漾，波光闪闪，十分美丽。次句“山色空蒙雨亦奇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矩形 3"/>
          <p:cNvSpPr/>
          <p:nvPr/>
        </p:nvSpPr>
        <p:spPr>
          <a:xfrm>
            <a:off x="749160" y="1065240"/>
            <a:ext cx="7863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描写雨天的山色：在雨幕笼罩下，西湖周围的群山，迷迷茫茫，若有若无，非常奇妙。从题目可以得知，这一天诗人在西湖游宴，起初阳光明丽，后来下起了雨。在善于领略自然美景的诗人眼中，西湖的晴姿雨态都是美好奇妙的。“晴方好”“雨亦奇”，是诗人对西湖美景的赞誉。“欲把西湖比西子，淡妆浓抹总相宜”两句，诗人用一个奇妙而又贴切的比喻，写出了西湖的神韵。诗人之所以拿西施来比西湖，不仅是因为二者同在越地，同有一个“西”字，同样具有婀娜多姿的阴柔之美，更主要的是他们都具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矩形 3"/>
          <p:cNvSpPr/>
          <p:nvPr/>
        </p:nvSpPr>
        <p:spPr>
          <a:xfrm>
            <a:off x="749160" y="1009800"/>
            <a:ext cx="78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天然美的风神韵味，不用借助外物，不必依靠人为的装饰，随时都能展现美的风致。对于西施来说，浓施粉黛也好，淡描娥眉也好，总是风姿绰约的；对于西湖来说，晴姿也好，雨态也好，都美妙无比，令人神往。这个比喻得到后世的公认，从此，“西子湖”就成了西湖的别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　　　这首诗概括性很强，它不是描写西湖的一处之景、一时之景，而是对西湖美景的全面评价。这首诗的流传，为西湖的景色增添了光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矩形 7167"/>
          <p:cNvSpPr/>
          <p:nvPr/>
        </p:nvSpPr>
        <p:spPr>
          <a:xfrm>
            <a:off x="865080" y="2157480"/>
            <a:ext cx="7548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、给带点的字选择正确的读音打“√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薰以桂椒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iāo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sh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缀以珠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zhuì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chu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辑以翡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í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jì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买其椟而还其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ái</a:t>
            </a: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huán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168"/>
          <p:cNvSpPr/>
          <p:nvPr/>
        </p:nvSpPr>
        <p:spPr>
          <a:xfrm>
            <a:off x="2132640" y="470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66" name="文本框 17"/>
          <p:cNvSpPr/>
          <p:nvPr/>
        </p:nvSpPr>
        <p:spPr>
          <a:xfrm>
            <a:off x="3381120" y="1342080"/>
            <a:ext cx="2381400" cy="368640"/>
          </a:xfrm>
          <a:prstGeom prst="pie">
            <a:avLst/>
          </a:prstGeom>
          <a:solidFill>
            <a:srgbClr val="dce6f2"/>
          </a:solidFill>
          <a:ln w="25560">
            <a:solidFill>
              <a:srgbClr val="95b3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习题源于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《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典中点</a:t>
            </a:r>
            <a:r>
              <a:rPr b="1" lang="en-US" sz="1800" spc="-1" strike="noStrike">
                <a:solidFill>
                  <a:srgbClr val="000000"/>
                </a:solidFill>
                <a:latin typeface="仿宋"/>
                <a:ea typeface="仿宋"/>
              </a:rPr>
              <a:t>》</a:t>
            </a:r>
            <a:r>
              <a:rPr b="1" lang="zh-CN" sz="1800" spc="-1" strike="noStrike">
                <a:solidFill>
                  <a:srgbClr val="000000"/>
                </a:solidFill>
                <a:latin typeface="仿宋"/>
                <a:ea typeface="仿宋"/>
              </a:rPr>
              <a:t>的“基础练习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7168"/>
          <p:cNvSpPr/>
          <p:nvPr/>
        </p:nvSpPr>
        <p:spPr>
          <a:xfrm>
            <a:off x="18216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7168"/>
          <p:cNvSpPr/>
          <p:nvPr/>
        </p:nvSpPr>
        <p:spPr>
          <a:xfrm>
            <a:off x="927720" y="3517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7168"/>
          <p:cNvSpPr/>
          <p:nvPr/>
        </p:nvSpPr>
        <p:spPr>
          <a:xfrm>
            <a:off x="927720" y="4118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2300400" y="2786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2368800" y="3395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2122560" y="38847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5"/>
          <p:cNvSpPr/>
          <p:nvPr/>
        </p:nvSpPr>
        <p:spPr>
          <a:xfrm>
            <a:off x="4119840" y="4470480"/>
            <a:ext cx="46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√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3"/>
          <p:cNvSpPr/>
          <p:nvPr/>
        </p:nvSpPr>
        <p:spPr>
          <a:xfrm>
            <a:off x="971640" y="14731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二、形近字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柜 （　　   ）          缀 （　   　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拒 （　　   ）          辍 （　　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瑰 （　　   ）          饰 （　　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魂 （　   　）          柿 （　　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魄 （　　   ）          怖 （　　   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左大括号 1"/>
          <p:cNvSpPr/>
          <p:nvPr/>
        </p:nvSpPr>
        <p:spPr>
          <a:xfrm>
            <a:off x="2138400" y="218448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左大括号 12"/>
          <p:cNvSpPr/>
          <p:nvPr/>
        </p:nvSpPr>
        <p:spPr>
          <a:xfrm>
            <a:off x="5700600" y="2235240"/>
            <a:ext cx="155520" cy="91440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914400"/>
              <a:gd name="textAreaBottom" fmla="*/ 910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"/>
                  <a:pt x="10800" y="306"/>
                </a:cubicBezTo>
                <a:lnTo>
                  <a:pt x="10800" y="10494"/>
                </a:lnTo>
                <a:cubicBezTo>
                  <a:pt x="10800" y="10647"/>
                  <a:pt x="5400" y="10800"/>
                  <a:pt x="0" y="10800"/>
                </a:cubicBezTo>
                <a:cubicBezTo>
                  <a:pt x="5400" y="10800"/>
                  <a:pt x="10800" y="10953"/>
                  <a:pt x="10800" y="11106"/>
                </a:cubicBezTo>
                <a:lnTo>
                  <a:pt x="10800" y="21294"/>
                </a:lnTo>
                <a:cubicBezTo>
                  <a:pt x="10800" y="2144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左大括号 15"/>
          <p:cNvSpPr/>
          <p:nvPr/>
        </p:nvSpPr>
        <p:spPr>
          <a:xfrm>
            <a:off x="1982880" y="3373560"/>
            <a:ext cx="155520" cy="140652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1406520"/>
              <a:gd name="textAreaBottom" fmla="*/ 1402560 h 140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199"/>
                </a:cubicBezTo>
                <a:lnTo>
                  <a:pt x="10800" y="10601"/>
                </a:lnTo>
                <a:cubicBezTo>
                  <a:pt x="10800" y="10701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0999"/>
                </a:cubicBezTo>
                <a:lnTo>
                  <a:pt x="10800" y="21401"/>
                </a:lnTo>
                <a:cubicBezTo>
                  <a:pt x="10800" y="215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左大括号 17"/>
          <p:cNvSpPr/>
          <p:nvPr/>
        </p:nvSpPr>
        <p:spPr>
          <a:xfrm>
            <a:off x="5622840" y="3301920"/>
            <a:ext cx="155520" cy="1406520"/>
          </a:xfrm>
          <a:custGeom>
            <a:avLst/>
            <a:gdLst>
              <a:gd name="textAreaLeft" fmla="*/ 99360 w 155520"/>
              <a:gd name="textAreaRight" fmla="*/ 155520 w 155520"/>
              <a:gd name="textAreaTop" fmla="*/ 3960 h 1406520"/>
              <a:gd name="textAreaBottom" fmla="*/ 1402560 h 140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0"/>
                  <a:pt x="10800" y="199"/>
                </a:cubicBezTo>
                <a:lnTo>
                  <a:pt x="10800" y="10601"/>
                </a:lnTo>
                <a:cubicBezTo>
                  <a:pt x="10800" y="10701"/>
                  <a:pt x="5400" y="10800"/>
                  <a:pt x="0" y="10800"/>
                </a:cubicBezTo>
                <a:cubicBezTo>
                  <a:pt x="5400" y="10800"/>
                  <a:pt x="10800" y="10900"/>
                  <a:pt x="10800" y="10999"/>
                </a:cubicBezTo>
                <a:lnTo>
                  <a:pt x="10800" y="21401"/>
                </a:lnTo>
                <a:cubicBezTo>
                  <a:pt x="10800" y="215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2793600" y="2143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柜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2781000" y="2692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拒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5"/>
          <p:cNvSpPr/>
          <p:nvPr/>
        </p:nvSpPr>
        <p:spPr>
          <a:xfrm>
            <a:off x="6289200" y="2143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连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6"/>
          <p:cNvSpPr/>
          <p:nvPr/>
        </p:nvSpPr>
        <p:spPr>
          <a:xfrm>
            <a:off x="6314760" y="269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辍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21"/>
          <p:cNvSpPr/>
          <p:nvPr/>
        </p:nvSpPr>
        <p:spPr>
          <a:xfrm>
            <a:off x="2727000" y="3249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玫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8"/>
          <p:cNvSpPr/>
          <p:nvPr/>
        </p:nvSpPr>
        <p:spPr>
          <a:xfrm>
            <a:off x="2727000" y="380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灵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9"/>
          <p:cNvSpPr/>
          <p:nvPr/>
        </p:nvSpPr>
        <p:spPr>
          <a:xfrm>
            <a:off x="2754000" y="43178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气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0"/>
          <p:cNvSpPr/>
          <p:nvPr/>
        </p:nvSpPr>
        <p:spPr>
          <a:xfrm>
            <a:off x="6302880" y="324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装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22"/>
          <p:cNvSpPr/>
          <p:nvPr/>
        </p:nvSpPr>
        <p:spPr>
          <a:xfrm>
            <a:off x="6284520" y="3787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柿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23"/>
          <p:cNvSpPr/>
          <p:nvPr/>
        </p:nvSpPr>
        <p:spPr>
          <a:xfrm>
            <a:off x="6284520" y="4287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恐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900000" y="1576440"/>
            <a:ext cx="757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通过上一节课的学习，我们已经初步理解了课文内容，为了更深入地理解课文，老师送给大家一把金钥匙，这就是核心问题和串珠问题。让我们带着这些问题理解课文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矩形 3"/>
          <p:cNvSpPr/>
          <p:nvPr/>
        </p:nvSpPr>
        <p:spPr>
          <a:xfrm>
            <a:off x="1009800" y="1514520"/>
            <a:ext cx="7272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、给带点词语选择正确的解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辑以翡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聚集　　　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连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为木兰之柜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 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柜子    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盒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饰以玫瑰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种美玉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一种花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3244680" y="214632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矩形 5"/>
          <p:cNvSpPr/>
          <p:nvPr/>
        </p:nvSpPr>
        <p:spPr>
          <a:xfrm>
            <a:off x="3500280" y="3278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31"/>
          <p:cNvSpPr/>
          <p:nvPr/>
        </p:nvSpPr>
        <p:spPr>
          <a:xfrm>
            <a:off x="3217680" y="4329000"/>
            <a:ext cx="3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矩形 1"/>
          <p:cNvSpPr/>
          <p:nvPr/>
        </p:nvSpPr>
        <p:spPr>
          <a:xfrm>
            <a:off x="2879640" y="351000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矩形 7"/>
          <p:cNvSpPr/>
          <p:nvPr/>
        </p:nvSpPr>
        <p:spPr>
          <a:xfrm>
            <a:off x="1610640" y="2390760"/>
            <a:ext cx="29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8"/>
          <p:cNvSpPr/>
          <p:nvPr/>
        </p:nvSpPr>
        <p:spPr>
          <a:xfrm>
            <a:off x="2297160" y="46148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• 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3"/>
          <p:cNvSpPr/>
          <p:nvPr/>
        </p:nvSpPr>
        <p:spPr>
          <a:xfrm>
            <a:off x="1065240" y="1951200"/>
            <a:ext cx="735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、写句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为木兰之柜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郑人买其椟而还其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矩形 2"/>
          <p:cNvSpPr/>
          <p:nvPr/>
        </p:nvSpPr>
        <p:spPr>
          <a:xfrm>
            <a:off x="1557360" y="3151080"/>
            <a:ext cx="42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用木兰树料制作了一个盒子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4"/>
          <p:cNvSpPr/>
          <p:nvPr/>
        </p:nvSpPr>
        <p:spPr>
          <a:xfrm>
            <a:off x="1569960" y="4224240"/>
            <a:ext cx="697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郑国人买下这个盒子，把里面的宝珠退还给商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8"/>
          <p:cNvGrpSpPr/>
          <p:nvPr/>
        </p:nvGrpSpPr>
        <p:grpSpPr>
          <a:xfrm>
            <a:off x="654120" y="1014480"/>
            <a:ext cx="7772400" cy="5508720"/>
            <a:chOff x="654120" y="1014480"/>
            <a:chExt cx="7772400" cy="5508720"/>
          </a:xfrm>
        </p:grpSpPr>
        <p:sp>
          <p:nvSpPr>
            <p:cNvPr id="75" name="圆角矩形 4"/>
            <p:cNvSpPr/>
            <p:nvPr/>
          </p:nvSpPr>
          <p:spPr>
            <a:xfrm>
              <a:off x="654120" y="3944880"/>
              <a:ext cx="320760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读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楚国人是如何装饰自己的盒子的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圆角矩形 5"/>
            <p:cNvSpPr/>
            <p:nvPr/>
          </p:nvSpPr>
          <p:spPr>
            <a:xfrm>
              <a:off x="5257800" y="3998880"/>
              <a:ext cx="314172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二思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郑国人是怎样做的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圆角矩形 6"/>
            <p:cNvSpPr/>
            <p:nvPr/>
          </p:nvSpPr>
          <p:spPr>
            <a:xfrm>
              <a:off x="5273640" y="5224680"/>
              <a:ext cx="3152880" cy="509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四品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这则寓言给了我们哪些启示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圆角矩形 7"/>
            <p:cNvSpPr/>
            <p:nvPr/>
          </p:nvSpPr>
          <p:spPr>
            <a:xfrm>
              <a:off x="845280" y="5009760"/>
              <a:ext cx="3016080" cy="914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三探：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你怎样看待郑人“买椟还珠”的举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9" name="组合 3"/>
            <p:cNvGrpSpPr/>
            <p:nvPr/>
          </p:nvGrpSpPr>
          <p:grpSpPr>
            <a:xfrm>
              <a:off x="2242080" y="1014480"/>
              <a:ext cx="4767480" cy="5508720"/>
              <a:chOff x="2242080" y="1014480"/>
              <a:chExt cx="4767480" cy="5508720"/>
            </a:xfrm>
          </p:grpSpPr>
          <p:pic>
            <p:nvPicPr>
              <p:cNvPr id="80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42080" y="1014480"/>
                <a:ext cx="4767480" cy="550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矩形 1"/>
              <p:cNvSpPr/>
              <p:nvPr/>
            </p:nvSpPr>
            <p:spPr>
              <a:xfrm>
                <a:off x="2659320" y="1989000"/>
                <a:ext cx="3993480" cy="73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核心问题：</a:t>
                </a:r>
                <a:r>
                  <a:rPr b="1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课文讲述了一个怎样的故事？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2" name="矩形 2"/>
              <p:cNvSpPr/>
              <p:nvPr/>
            </p:nvSpPr>
            <p:spPr>
              <a:xfrm>
                <a:off x="4543560" y="1267200"/>
                <a:ext cx="546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zh-CN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取舍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>
            <a:off x="574560" y="1133640"/>
            <a:ext cx="157644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2"/>
          <p:cNvSpPr/>
          <p:nvPr/>
        </p:nvSpPr>
        <p:spPr>
          <a:xfrm>
            <a:off x="1077840" y="1825560"/>
            <a:ext cx="717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楚人有卖其珠于郑者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1187280" y="3062160"/>
            <a:ext cx="69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写楚国有个商人要把他的珍珠卖给郑国人，开篇交代事情的起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6676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735120" y="17049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薰以桂椒，缀以珠玉，饰以玫瑰，辑以翡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" name="组合 3"/>
          <p:cNvGrpSpPr/>
          <p:nvPr/>
        </p:nvGrpSpPr>
        <p:grpSpPr>
          <a:xfrm>
            <a:off x="873000" y="2627280"/>
            <a:ext cx="7683480" cy="558720"/>
            <a:chOff x="873000" y="2627280"/>
            <a:chExt cx="7683480" cy="558720"/>
          </a:xfrm>
        </p:grpSpPr>
        <p:sp>
          <p:nvSpPr>
            <p:cNvPr id="89" name="直接连接符 4"/>
            <p:cNvSpPr/>
            <p:nvPr/>
          </p:nvSpPr>
          <p:spPr>
            <a:xfrm>
              <a:off x="873000" y="3186000"/>
              <a:ext cx="7683480" cy="0"/>
            </a:xfrm>
            <a:prstGeom prst="line">
              <a:avLst/>
            </a:prstGeom>
            <a:ln w="25560">
              <a:solidFill>
                <a:srgbClr val="c0504d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任意多边形 5"/>
            <p:cNvSpPr/>
            <p:nvPr/>
          </p:nvSpPr>
          <p:spPr>
            <a:xfrm>
              <a:off x="873000" y="2627280"/>
              <a:ext cx="7683480" cy="5587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91440" anchor="b">
              <a:noAutofit/>
            </a:bodyPr>
            <a:p>
              <a:pPr marL="343080" indent="-343080">
                <a:lnSpc>
                  <a:spcPct val="90000"/>
                </a:lnSpc>
                <a:spcAft>
                  <a:spcPts val="1049"/>
                </a:spcAft>
                <a:buClr>
                  <a:srgbClr val="c00000"/>
                </a:buClr>
                <a:buFont typeface="Wingdings" charset="2"/>
                <a:buChar char=""/>
                <a:tabLst>
                  <a:tab algn="l" pos="1066680"/>
                  <a:tab algn="l" pos="2133720"/>
                  <a:tab algn="l" pos="3200400"/>
                  <a:tab algn="l" pos="4267080"/>
                  <a:tab algn="l" pos="5334120"/>
                  <a:tab algn="l" pos="6400800"/>
                  <a:tab algn="l" pos="7467480"/>
                  <a:tab algn="l" pos="8534520"/>
                  <a:tab algn="l" pos="9601200"/>
                  <a:tab algn="l" pos="1066788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黑体"/>
                  <a:ea typeface="黑体"/>
                </a:rPr>
                <a:t>思考：这句话运用了什么手法？起到了什么作用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矩形 1"/>
          <p:cNvSpPr/>
          <p:nvPr/>
        </p:nvSpPr>
        <p:spPr>
          <a:xfrm>
            <a:off x="885960" y="3691080"/>
            <a:ext cx="779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运用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排比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的修辞手法，形象且清楚地写出了木匣的用料及装饰后的样子。也为后文做了</a:t>
            </a:r>
            <a:r>
              <a:rPr b="1" lang="zh-CN" sz="2400" spc="-1" strike="noStrike" u="sng">
                <a:solidFill>
                  <a:srgbClr val="ff00ff"/>
                </a:solidFill>
                <a:uFillTx/>
                <a:latin typeface="宋体"/>
              </a:rPr>
              <a:t>铺垫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文本框 21"/>
          <p:cNvSpPr/>
          <p:nvPr/>
        </p:nvSpPr>
        <p:spPr>
          <a:xfrm>
            <a:off x="831960" y="1073160"/>
            <a:ext cx="7569000" cy="990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500" spc="-1" strike="noStrike">
                <a:solidFill>
                  <a:srgbClr val="ff0000"/>
                </a:solidFill>
                <a:latin typeface="黑体"/>
                <a:ea typeface="黑体"/>
              </a:rPr>
              <a:t>阅读方法解密：</a:t>
            </a:r>
            <a:r>
              <a:rPr b="1" lang="zh-CN" sz="3500" spc="-1" strike="noStrike">
                <a:solidFill>
                  <a:srgbClr val="000000"/>
                </a:solidFill>
                <a:latin typeface="黑体"/>
                <a:ea typeface="黑体"/>
              </a:rPr>
              <a:t>品析排比的修辞手法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23"/>
          <p:cNvSpPr/>
          <p:nvPr/>
        </p:nvSpPr>
        <p:spPr>
          <a:xfrm>
            <a:off x="903240" y="1846440"/>
            <a:ext cx="734688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ts val="3197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什么是排比修辞手法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排比是把三个或者三个以上意义相关或相近、结构相同或相似、语气相同的词组或句子成串地排列的一种修辞手法。本文“为木兰之柜，薰以桂椒，缀以珠玉，饰以玫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……”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一句即运用了排比，形象且清楚地写出了木匣的用料及装饰后的样子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3197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排比修辞手法有什么作用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用排比说理，可收到条理分明的效果；用排比抒情，节奏和谐，感情洋溢；用排比叙事，能使层次清楚、描写细腻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3197"/>
              </a:lnSpc>
              <a:buClr>
                <a:srgbClr val="0070c0"/>
              </a:buClr>
              <a:buFont typeface="Wingding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黑体"/>
                <a:ea typeface="黑体"/>
              </a:rPr>
              <a:t>怎样判断排比修辞手法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3197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句段中连用三个或者三个以上的词组和句子，而且一定有一部分字词相同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直线连接符 7"/>
          <p:cNvSpPr/>
          <p:nvPr/>
        </p:nvSpPr>
        <p:spPr>
          <a:xfrm>
            <a:off x="914400" y="1887480"/>
            <a:ext cx="7335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2"/>
          <p:cNvSpPr/>
          <p:nvPr/>
        </p:nvSpPr>
        <p:spPr>
          <a:xfrm>
            <a:off x="735120" y="19382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郑人买其椟而还其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892080" y="2786040"/>
            <a:ext cx="76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这句话交代了事情的结果。以郑国人“买椟”而“还珠”的行为来点明文章的中心，阐明道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2"/>
          <p:cNvSpPr/>
          <p:nvPr/>
        </p:nvSpPr>
        <p:spPr>
          <a:xfrm>
            <a:off x="955800" y="2089080"/>
            <a:ext cx="723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学们刚才已经跟随老师走进课文，品读了课文中的重点语句，现在，让我们拿起金钥匙开启智慧之门吧</a:t>
            </a: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21T10:30:05Z</dcterms:modified>
  <cp:revision>43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