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BAAF-A44A-44FC-ABCF-57A7F206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5EB6-7E75-405A-8A5D-D8A067A4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D46-07B1-4235-9365-68B1E3B7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7A7-6724-4041-B6B6-5EF4AE41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72F-3473-49E5-BD8C-54AFB2F0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D95-AEEC-4D07-9816-A795C383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C8F-B347-411E-9AD5-0766964C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77E4-FF5D-44E5-8313-05616AE4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68B2-B22B-45E4-8EF2-64F3DDF9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C1F-9A07-4668-8827-4FEB0AC2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2E2-F216-4279-A8F3-53CCBB05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4E8-867C-4841-9CE8-9676FE30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6C0F-7DCF-4CBD-8BF4-CC6FDBD0E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2771640" y="2708280"/>
            <a:ext cx="352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推  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03280" y="1197000"/>
            <a:ext cx="7561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一天，贾岛去长安城郊外拜访一个叫李凝的朋友。他沿着山路找了好久，才摸到李凝的家。这时，夜深人静，月光皎洁，他的敲门声惊醒了树上沉睡的小鸟。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11280" y="429264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　　大家慢慢地、轻轻地读第二自然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在脑海中想像那情景，你能看到什么，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到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258920" y="3068640"/>
            <a:ext cx="65530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539640" y="3645000"/>
            <a:ext cx="381636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027"/>
          <p:cNvSpPr/>
          <p:nvPr/>
        </p:nvSpPr>
        <p:spPr>
          <a:xfrm>
            <a:off x="539640" y="1341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他沿着山路找了好久，才</a:t>
            </a:r>
            <a:r>
              <a:rPr b="1" lang="zh-CN" sz="3600" spc="-1" strike="noStrike">
                <a:solidFill>
                  <a:srgbClr val="cc6600"/>
                </a:solidFill>
                <a:latin typeface="宋体"/>
              </a:rPr>
              <a:t>摸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到李凝的家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28"/>
          <p:cNvSpPr/>
          <p:nvPr/>
        </p:nvSpPr>
        <p:spPr>
          <a:xfrm>
            <a:off x="539640" y="2708280"/>
            <a:ext cx="860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Ａ、用手接触一下（物体）或接触后轻轻移动（动作演示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Ｂ、用手探取（动作演示在课桌内摸东西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Ｃ、试着了解，试着做（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摸一下他的底细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Ｄ、在黑暗中行动，在认不清的道路上行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51000" y="1268280"/>
            <a:ext cx="806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用自己喜欢的方式读第三自然段，想想这一自然段主要讲什么？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140360" y="350028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宋体"/>
              </a:rPr>
              <a:t>贾岛在路上斟酌诗中的字眼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73080" y="907920"/>
            <a:ext cx="86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半路上，他想起昨夜即兴写成的那首小诗，觉得“岛宿池边树，僧敲月下门”中的“推”字用得不够妥帖，或许改用“敲”字更恰当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944800" y="443376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从贾岛的</a:t>
            </a:r>
            <a:r>
              <a:rPr b="1" lang="zh-CN" sz="3200" spc="-1" strike="noStrike">
                <a:solidFill>
                  <a:srgbClr val="cc66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所想</a:t>
            </a:r>
            <a:r>
              <a:rPr b="1" lang="zh-CN" sz="3200" spc="-1" strike="noStrike">
                <a:solidFill>
                  <a:srgbClr val="cc66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中，你们读懂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2916360" y="270972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/>
          <p:cNvSpPr/>
          <p:nvPr/>
        </p:nvSpPr>
        <p:spPr>
          <a:xfrm>
            <a:off x="3419640" y="270972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7"/>
          <p:cNvSpPr/>
          <p:nvPr/>
        </p:nvSpPr>
        <p:spPr>
          <a:xfrm>
            <a:off x="7740720" y="3500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8"/>
          <p:cNvSpPr/>
          <p:nvPr/>
        </p:nvSpPr>
        <p:spPr>
          <a:xfrm>
            <a:off x="8244000" y="3500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2527920" y="5083920"/>
            <a:ext cx="415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想起”“觉得”“或许”写出了贾岛的专心致志，反复推敲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0"/>
          <p:cNvSpPr/>
          <p:nvPr/>
        </p:nvSpPr>
        <p:spPr>
          <a:xfrm>
            <a:off x="3997440" y="1844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1"/>
          <p:cNvSpPr/>
          <p:nvPr/>
        </p:nvSpPr>
        <p:spPr>
          <a:xfrm>
            <a:off x="4500720" y="184464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371320" y="5534640"/>
            <a:ext cx="454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“不够妥帖”、“更恰当些”可见贾岛的严肃认真、一丝不苟，追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准确、传神、完美。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5219640" y="3500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4"/>
          <p:cNvSpPr/>
          <p:nvPr/>
        </p:nvSpPr>
        <p:spPr>
          <a:xfrm>
            <a:off x="5724360" y="35020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5"/>
          <p:cNvSpPr/>
          <p:nvPr/>
        </p:nvSpPr>
        <p:spPr>
          <a:xfrm>
            <a:off x="6227640" y="3500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6"/>
          <p:cNvSpPr/>
          <p:nvPr/>
        </p:nvSpPr>
        <p:spPr>
          <a:xfrm>
            <a:off x="6732720" y="35002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2987640" y="436392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8"/>
          <p:cNvSpPr/>
          <p:nvPr/>
        </p:nvSpPr>
        <p:spPr>
          <a:xfrm>
            <a:off x="3492360" y="4365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9"/>
          <p:cNvSpPr/>
          <p:nvPr/>
        </p:nvSpPr>
        <p:spPr>
          <a:xfrm>
            <a:off x="3995640" y="436392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0"/>
          <p:cNvSpPr/>
          <p:nvPr/>
        </p:nvSpPr>
        <p:spPr>
          <a:xfrm>
            <a:off x="4500720" y="436392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324000" y="981000"/>
            <a:ext cx="7920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贾岛骑着毛驴，一边吟哦，一边做着敲门、推门的动作，不知觉进了长安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1"/>
          <p:cNvPicPr/>
          <p:nvPr/>
        </p:nvPicPr>
        <p:blipFill>
          <a:blip r:embed="rId2"/>
          <a:stretch/>
        </p:blipFill>
        <p:spPr>
          <a:xfrm>
            <a:off x="3492360" y="2421000"/>
            <a:ext cx="2952720" cy="2736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2352960" y="5013360"/>
            <a:ext cx="4761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街上的人看到他这个样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都感到十分好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4064400" y="2381400"/>
            <a:ext cx="13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行人、车辆都纷纷避让，贾岛其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毛驴上比比划划，竟然闯进了仪仗队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4500720" y="35002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4919760" y="352728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2489040" y="1125360"/>
            <a:ext cx="272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个差人把贾岛带到韩愈面前。韩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怎么问，贾岛怎么答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4920" y="2492280"/>
            <a:ext cx="87836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韩愈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问：“你为何冲撞我的仪仗队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　　贾岛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回答道：“我正在斟酌诗里的一个字眼儿，无意间冲撞了大驾，求您宽恕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3141720"/>
            <a:ext cx="86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韩愈也是一位著名的诗人，便很有兴致地思索起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539640" y="9810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听了贾岛诚心诚意、请求宽恕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答，如果你是韩愈，会怎么想，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么说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32000" y="389880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919160" y="2421000"/>
            <a:ext cx="588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贾岛一起商量，认为还是用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___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字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705400" y="3284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僧推月下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705400" y="400536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僧敲月下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79280" y="162864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还是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敲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字更好些。月夜访友，即使友人家门没有闩，也不能莽撞推门，敲门表明你是一个懂得礼貌的人。再说，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敲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字更能衬托出月夜的宁静，读起来也响亮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027"/>
          <p:cNvSpPr/>
          <p:nvPr/>
        </p:nvSpPr>
        <p:spPr>
          <a:xfrm>
            <a:off x="-3240" y="673200"/>
            <a:ext cx="835344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题李凝幽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唐　贾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闲居少邻并，草径入荒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鸟宿池边树，僧敲月下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过桥分野色，移石动云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暂去还来此，幽期不负言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24000" y="155736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还是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敲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字更好些。月夜访友，即使友人家门没有闩，也不能莽撞推门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敲门表明你是一个懂得礼貌的人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再说，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敲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字更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衬托出月夜的宁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读起来也响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0" y="263700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时，夜深人静，月光皎洁，他的敲门声惊醒了树上沉睡的小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646280" y="1197000"/>
            <a:ext cx="52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听了韩愈的解释，大家有没有想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前文哪句话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0" y="1916280"/>
            <a:ext cx="99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来，人们就把（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叫做“推敲”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-3349800" y="476280"/>
            <a:ext cx="891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79280" y="1916280"/>
            <a:ext cx="9937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写诗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作文时斟酌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252360" y="1557360"/>
            <a:ext cx="849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推敲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能否为表情达意服务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联系语境判断用词是否准确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用朗读来判断用词是否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755640" y="1125360"/>
            <a:ext cx="73436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下面句子中画线的词能换成括号里的词语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天，贾岛去长安城郊外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拜访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访问）一个叫李凝的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路上，他想起昨夜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即兴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即时）写成的那首小诗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再说，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敲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字更能衬托出月夜的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宁静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安静），读起来也响亮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684360" y="3281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63600" y="1498680"/>
            <a:ext cx="878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　                  </a:t>
            </a:r>
            <a:r>
              <a:rPr b="1" i="1" lang="zh-CN" sz="4000" spc="-1" strike="noStrike">
                <a:solidFill>
                  <a:srgbClr val="ff00ff"/>
                </a:solidFill>
                <a:latin typeface="Arial"/>
              </a:rPr>
              <a:t>名句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旺、浓、闹                                     ●红杏枝头春意（　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动、拂、翻、皱、起</a:t>
            </a:r>
            <a:br>
              <a:rPr sz="4000"/>
            </a:b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●风乍起，吹（　）一池春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到、过、入、满、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●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春风又（　）江南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606200" y="2824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088880" y="3949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967120" y="523872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435120" y="2636640"/>
            <a:ext cx="5708520" cy="25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276720" y="25653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-370800" y="3429000"/>
            <a:ext cx="20091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  <a:ea typeface="仿宋_GB2312"/>
              </a:rPr>
              <a:t>同步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195640" y="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178000" y="1197000"/>
            <a:ext cx="66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我来推敲推敲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●集市上人山人海，各种商品琳琅满目。这时，街道一旁有人正拿着标价牌在说：“六元一件，十元两件！”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●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老爷爷跌倒了，他艰难地移动着身体。这时，陈老师看见了，走下楼梯，来到老爷爷身旁，把老爷爷轻轻地拉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826920" y="1125360"/>
            <a:ext cx="749016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集市上人山人海，各种商品琳琅满目。这时，街道一旁有人正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举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着标价牌在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吆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六元一件，十元两件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●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老爷爷跌倒了，他艰难地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挪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着身体。这时，陈老师看见了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下楼梯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跑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到老爷爷身旁，把老爷爷轻轻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11280" y="1379520"/>
            <a:ext cx="8532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故事</a:t>
            </a:r>
            <a:r>
              <a:rPr b="1" lang="zh-CN" sz="3200" spc="-1" strike="noStrike">
                <a:solidFill>
                  <a:srgbClr val="d00000"/>
                </a:solidFill>
                <a:latin typeface="楷体_GB2312"/>
                <a:ea typeface="楷体_GB2312"/>
              </a:rPr>
              <a:t>发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d00000"/>
                </a:solidFill>
                <a:latin typeface="楷体_GB2312"/>
                <a:ea typeface="楷体_GB2312"/>
              </a:rPr>
              <a:t>发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d00000"/>
                </a:solidFill>
                <a:latin typeface="楷体_GB2312"/>
                <a:ea typeface="楷体_GB2312"/>
              </a:rPr>
              <a:t>高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d00000"/>
                </a:solidFill>
                <a:latin typeface="楷体_GB2312"/>
                <a:ea typeface="楷体_GB2312"/>
              </a:rPr>
              <a:t>结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个部分的提纲，有顺序、有重点地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深夜访友，以诗相赠。（</a:t>
            </a:r>
            <a:r>
              <a:rPr b="1" lang="zh-CN" sz="3200" spc="-1" strike="noStrike">
                <a:solidFill>
                  <a:srgbClr val="d00000"/>
                </a:solidFill>
                <a:latin typeface="楷体_GB2312"/>
                <a:ea typeface="楷体_GB2312"/>
              </a:rPr>
              <a:t>发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一字斟酌，难以定夺。（</a:t>
            </a:r>
            <a:r>
              <a:rPr b="1" lang="zh-CN" sz="3200" spc="-1" strike="noStrike">
                <a:solidFill>
                  <a:srgbClr val="d00000"/>
                </a:solidFill>
                <a:latin typeface="楷体_GB2312"/>
                <a:ea typeface="楷体_GB2312"/>
              </a:rPr>
              <a:t>发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冲闯仪仗，请求宽恕。（</a:t>
            </a:r>
            <a:r>
              <a:rPr b="1" lang="zh-CN" sz="3200" spc="-1" strike="noStrike">
                <a:solidFill>
                  <a:srgbClr val="d00000"/>
                </a:solidFill>
                <a:latin typeface="楷体_GB2312"/>
                <a:ea typeface="楷体_GB2312"/>
              </a:rPr>
              <a:t>高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韩愈表态，贾岛赞同。（</a:t>
            </a:r>
            <a:r>
              <a:rPr b="1" lang="zh-CN" sz="3200" spc="-1" strike="noStrike">
                <a:solidFill>
                  <a:srgbClr val="d00000"/>
                </a:solidFill>
                <a:latin typeface="楷体_GB2312"/>
                <a:ea typeface="楷体_GB2312"/>
              </a:rPr>
              <a:t>结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250920" y="1700280"/>
            <a:ext cx="856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贾岛是唐朝著名的诗人。早年曾因家境贫寒，出家做过和尚，后因韩愈欣赏他的诗才而还俗。他作诗的态度非常严肃认真，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字字斟酌，句句推敲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被称为“苦吟诗人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1547640" y="981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了解贾岛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79280" y="1628640"/>
            <a:ext cx="874872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一天，贾岛去长安城郊外拜访一个叫李凝的朋友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半路上，他想起昨夜即兴写成的那首小诗，觉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岛宿池边树，僧敲月下门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推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字用得不够妥帖，或许改用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字更恰当些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月夜访友，即使友人家门没有闩，也不能莽撞推门，敲门表明你是一个懂得礼貌的人。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961920" y="105264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读好长句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539640" y="1268280"/>
            <a:ext cx="8244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推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和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尚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沉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睡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骑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驴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礼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貌</a:t>
            </a:r>
            <a:br>
              <a:rPr sz="1600"/>
            </a:b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道　避让　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进　皎洁　幽居　即兴　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帖　吟哦　</a:t>
            </a:r>
            <a:r>
              <a:rPr b="1" lang="zh-CN" sz="4400" spc="-1" strike="noStrike">
                <a:solidFill>
                  <a:srgbClr val="cc6600"/>
                </a:solidFill>
                <a:latin typeface="Arial"/>
                <a:ea typeface="楷体_GB2312"/>
              </a:rPr>
              <a:t>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拥　</a:t>
            </a:r>
            <a:r>
              <a:rPr b="1" lang="zh-CN" sz="4400" spc="-1" strike="noStrike">
                <a:solidFill>
                  <a:srgbClr val="cc6600"/>
                </a:solidFill>
                <a:latin typeface="Arial"/>
                <a:ea typeface="楷体_GB2312"/>
              </a:rPr>
              <a:t>斟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宽</a:t>
            </a:r>
            <a:r>
              <a:rPr b="1" lang="zh-CN" sz="4400" spc="-1" strike="noStrike">
                <a:solidFill>
                  <a:srgbClr val="cc6600"/>
                </a:solidFill>
                <a:latin typeface="Arial"/>
                <a:ea typeface="楷体_GB2312"/>
              </a:rPr>
              <a:t>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4400" spc="-1" strike="noStrike">
                <a:solidFill>
                  <a:srgbClr val="cc6600"/>
                </a:solidFill>
                <a:latin typeface="Arial"/>
                <a:ea typeface="楷体_GB2312"/>
              </a:rPr>
              <a:t>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撞　犹豫不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27"/>
          <p:cNvSpPr/>
          <p:nvPr/>
        </p:nvSpPr>
        <p:spPr>
          <a:xfrm>
            <a:off x="395280" y="1844640"/>
            <a:ext cx="85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（　　）有个诗人叫（　　），早年因（　　　　），出家当了和尚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395280" y="184464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（唐朝）有个诗人叫（贾岛），早年因（家境贫寒），出家当了和尚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2843280" y="1844640"/>
            <a:ext cx="4537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推  敲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554040" y="779400"/>
            <a:ext cx="7561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课文哪几个自然段是讲“推敲”这个故事的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544400" y="1541520"/>
            <a:ext cx="21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第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-7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84360" y="2060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快速阅读课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-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段，然后同桌讨论以下填空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55640" y="335772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１、贾岛去（）不巧（），结果留下（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２、返回长安途中，他对诗中（ ）这个字犹豫不决，不知不觉（　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３、结果他闯进了（　），和（　）商量了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４、韩愈认为还是用（　）好，理由有三：一：（ ）二：（  ）三：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8:12:24Z</dcterms:created>
  <dc:creator/>
  <dc:description/>
  <dc:language>en-US</dc:language>
  <cp:lastModifiedBy>China User</cp:lastModifiedBy>
  <dcterms:modified xsi:type="dcterms:W3CDTF">2017-10-26T14:19:10Z</dcterms:modified>
  <cp:revision>74</cp:revision>
  <dc:subject/>
  <dc:title>幻灯片 1</dc:title>
</cp:coreProperties>
</file>