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54C-EAF3-43B1-A08E-0257CDC3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024-4662-4F9D-9715-A19C417B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A22-B91F-47A3-AE27-8CB9F0A1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220-0B89-45DD-B9AB-322D35D7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948-29E3-4B16-9B07-45A0DFE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939-BC58-46DF-9E5B-72049E45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EF0-809E-4480-AA39-ECB2217A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0F8-030C-4252-A12C-EE3CDD38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9F2-48F0-4B47-8792-862C11A4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5C6-2BB4-4F37-9F90-81F199B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75E-78F5-4C00-B779-1A04C566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2C8-6E5B-4821-B2B7-20F4308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AAF-127D-4857-BEEC-6B2453DC8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71,20,&#24187;&#28783;&#29255; 20" TargetMode="External"/><Relationship Id="rId3" Type="http://schemas.openxmlformats.org/officeDocument/2006/relationships/hyperlink" Target="272,17,&#24187;&#28783;&#29255; 17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3889" b="7871"/>
          <a:stretch/>
        </p:blipFill>
        <p:spPr>
          <a:xfrm>
            <a:off x="179280" y="260280"/>
            <a:ext cx="87886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阅读第三自然段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叫“新陈代谢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体内的新陈代谢的过程是怎样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新”在课文中指氧气和营养，“陈”指废物和二氧化碳。新陈代谢是指生物体从环境中摄取营养物转变为自身物质，同时将自身原有组成转变为废物排出到环境中的不断更新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79280" y="408240"/>
            <a:ext cx="5267520" cy="8463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2924280"/>
            <a:ext cx="2016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941720"/>
            <a:ext cx="2016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4869000"/>
            <a:ext cx="2016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1197000"/>
            <a:ext cx="2016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125360"/>
            <a:ext cx="2016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人体新陈代谢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12682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口、胃、肝、脾、肠等消化器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148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148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消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2637000"/>
            <a:ext cx="201600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16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134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搅碎、溶解、吸收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营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270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液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淋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400536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营养和氧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522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身体的各个器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5229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5661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废物和二氧化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537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送到相应的器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4149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306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呼吸、汗液、尿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263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因为不断地吐故纳新，人体才能获得能量、保持活力，才能行动、思考、说话，才能生长、繁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默读课文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说说水在人体中还有哪些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润滑器官、调节体温、护卫肌体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阅读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思考：液、汗、泪、尿、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齐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发现了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段列举地震和矿难存活者的例子用来说明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它们都和水有关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都和我们人体的排泄有关，都与我们的健康息息相关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74320"/>
            <a:ext cx="4186440" cy="114336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cc00cc"/>
              </a:gs>
            </a:gsLst>
            <a:lin ang="5400000"/>
          </a:grad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79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既然水对人体如此重要，我们就应当养成喝水的良好习惯，喝水也要讲究科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580000" y="2997360"/>
            <a:ext cx="2376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喝什么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怎么喝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381" t="0" r="0" b="8313"/>
          <a:stretch/>
        </p:blipFill>
        <p:spPr>
          <a:xfrm>
            <a:off x="108000" y="2565360"/>
            <a:ext cx="4010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思考：课文主要用什么方法强调水对于生命的重要性？你从哪看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2708280"/>
            <a:ext cx="7777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数字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打比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比较、举实例等说明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4005360"/>
            <a:ext cx="6624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梳理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文章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了解详细的阅读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打比方：是指利用两种不同事物之间的相似之处作比较，以突出事物的性状特点，增强说明的形象性和生动性的说明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　　说明文中的打比方的说明方法，同修辞格上的比喻是一致的。不同的是，比喻修辞有明喻、暗喻、和借喻，而说明多用明喻和暗喻，借喻则不宜使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"/>
                <a:ea typeface="楷体"/>
              </a:rPr>
              <a:t>应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使用打比方时原问题和所打的比方必须具有共同的关键问题 ；打比方的第二个关键是必须用简单的东西来比喻复杂的问题，而不是用复杂的东西来比喻简单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例如：人体能站、行、跑、跳，机器能神拉、转动、摇摆，所以把人体比喻为机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68360" y="476280"/>
            <a:ext cx="4200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什么是“打比方”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6659640" y="6093000"/>
            <a:ext cx="1079280" cy="549000"/>
          </a:xfrm>
          <a:custGeom>
            <a:avLst/>
            <a:gdLst>
              <a:gd name="textAreaLeft" fmla="*/ 34200 w 1079280"/>
              <a:gd name="textAreaRight" fmla="*/ 1045080 w 1079280"/>
              <a:gd name="textAreaTop" fmla="*/ 34200 h 549000"/>
              <a:gd name="textAreaBottom" fmla="*/ 514800 h 54900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100" y="1350"/>
                </a:lnTo>
                <a:lnTo>
                  <a:pt x="1350" y="135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100" y="20250"/>
                </a:lnTo>
                <a:lnTo>
                  <a:pt x="41100" y="135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100" y="2025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2450" h="21600">
                <a:moveTo>
                  <a:pt x="14181" y="10800"/>
                </a:moveTo>
                <a:lnTo>
                  <a:pt x="28269" y="3756"/>
                </a:lnTo>
                <a:lnTo>
                  <a:pt x="2826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梳理文章结构，了解详细的阅读提纲：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人体与水的关系密切。——（总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水是生命的摇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水是新陈代谢的大功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—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水是尽职尽责的防护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水构成生命   水维持生命 —— （总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养成喝水的良好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喝水要适量适时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喝白开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水是生命之源，人体一切奥妙都离不开水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总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1197000"/>
            <a:ext cx="287280" cy="403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7"/>
                </a:lnTo>
                <a:cubicBezTo>
                  <a:pt x="10800" y="9977"/>
                  <a:pt x="5400" y="10877"/>
                  <a:pt x="0" y="10877"/>
                </a:cubicBezTo>
                <a:cubicBezTo>
                  <a:pt x="5400" y="10877"/>
                  <a:pt x="10800" y="11777"/>
                  <a:pt x="10800" y="126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364500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养成喝水的习惯及科学饮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3789360"/>
            <a:ext cx="358920" cy="1224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63700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命与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1628640"/>
            <a:ext cx="225360" cy="1130400"/>
          </a:xfrm>
          <a:custGeom>
            <a:avLst/>
            <a:gdLst>
              <a:gd name="textAreaLeft" fmla="*/ 0 w 225360"/>
              <a:gd name="textAreaRight" fmla="*/ 81360 w 22536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1413000"/>
            <a:ext cx="180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2—6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分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水构成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水维持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写比较详细的提纲，是指把课文分成几个大的部分，每个部分再分几个要点或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写详细提纲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用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可以使文章的内容更详尽，要点之间的关系更明白，知识系统更清晰，作者的思路、文章的脉络也更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提纲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可以用语句陈述，可以用书本上的括号的形式，也可以用图表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260280"/>
            <a:ext cx="201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楷体"/>
              </a:rPr>
              <a:t>金钥匙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1958" t="0" r="0" b="8110"/>
          <a:stretch/>
        </p:blipFill>
        <p:spPr>
          <a:xfrm>
            <a:off x="108000" y="260280"/>
            <a:ext cx="896472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，对于世间万事万物来说，都很重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生命与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为什么说“水是人类赖以生存的生命之源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水和人有哪些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水对于人有哪些重要性？它对于人有哪些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初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读课文，思考：生命与水有怎样的关系？请你找出答案，并用笔标画出重点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哪位同学来说说你找到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时间再次自读课文，然后在课堂本上完成以下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占体重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说明水是生命的重要组成部分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消化液能帮助搅碎、溶解、吸收食物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靠淋巴液保持体温正常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球能东张西望，是因为有泪水滋润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店里卖的饮料滋味虽好却能引发肥胖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6028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随堂练习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2766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2924280"/>
            <a:ext cx="7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28000" y="43657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3284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40720" y="38606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278136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333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349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836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59640" y="38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4941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093080" y="5084640"/>
            <a:ext cx="934920" cy="505080"/>
          </a:xfrm>
          <a:custGeom>
            <a:avLst/>
            <a:gdLst>
              <a:gd name="textAreaLeft" fmla="*/ 31320 w 934920"/>
              <a:gd name="textAreaRight" fmla="*/ 903600 w 934920"/>
              <a:gd name="textAreaTop" fmla="*/ 31320 h 505080"/>
              <a:gd name="textAreaBottom" fmla="*/ 473760 h 505080"/>
            </a:gdLst>
            <a:ahLst/>
            <a:rect l="textAreaLeft" t="textAreaTop" r="textAreaRight" b="textAreaBottom"/>
            <a:pathLst>
              <a:path w="39969" h="21600">
                <a:moveTo>
                  <a:pt x="0" y="0"/>
                </a:moveTo>
                <a:lnTo>
                  <a:pt x="39969" y="0"/>
                </a:lnTo>
                <a:lnTo>
                  <a:pt x="39969" y="21600"/>
                </a:lnTo>
                <a:lnTo>
                  <a:pt x="0" y="21600"/>
                </a:lnTo>
                <a:close/>
              </a:path>
              <a:path fill="lightenLess" w="39969" h="21600">
                <a:moveTo>
                  <a:pt x="0" y="0"/>
                </a:moveTo>
                <a:lnTo>
                  <a:pt x="39969" y="0"/>
                </a:lnTo>
                <a:lnTo>
                  <a:pt x="38619" y="1350"/>
                </a:lnTo>
                <a:lnTo>
                  <a:pt x="1350" y="1350"/>
                </a:lnTo>
                <a:close/>
              </a:path>
              <a:path fill="darken" w="39969" h="21600">
                <a:moveTo>
                  <a:pt x="39969" y="0"/>
                </a:moveTo>
                <a:lnTo>
                  <a:pt x="39969" y="21600"/>
                </a:lnTo>
                <a:lnTo>
                  <a:pt x="38619" y="20250"/>
                </a:lnTo>
                <a:lnTo>
                  <a:pt x="38619" y="1350"/>
                </a:lnTo>
                <a:close/>
              </a:path>
              <a:path fill="darkenLess" w="39969" h="21600">
                <a:moveTo>
                  <a:pt x="3996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619" y="20250"/>
                </a:lnTo>
                <a:close/>
              </a:path>
              <a:path fill="lighten" w="3996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969" h="21600">
                <a:moveTo>
                  <a:pt x="12941" y="3756"/>
                </a:moveTo>
                <a:lnTo>
                  <a:pt x="27028" y="10800"/>
                </a:lnTo>
                <a:lnTo>
                  <a:pt x="1294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002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把灰尘等不洁的东西排出体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吸和出汗；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腹泻和出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体内不同循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血液、淋巴液；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尿液、汗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血液、淋巴液、尿液、汗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能调节体温”指的是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血液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汗液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泪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喝一杯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天早晨；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顿饭之间；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好的饮料是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饮料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开水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冷却的新鲜白开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64000" y="-360"/>
            <a:ext cx="1738440" cy="114336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cc00cc"/>
              </a:gs>
            </a:gsLst>
            <a:lin ang="5400000"/>
          </a:grad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79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8172360" y="4653000"/>
            <a:ext cx="611280" cy="1079640"/>
          </a:xfrm>
          <a:custGeom>
            <a:avLst/>
            <a:gdLst>
              <a:gd name="textAreaLeft" fmla="*/ 38160 w 611280"/>
              <a:gd name="textAreaRight" fmla="*/ 573120 w 611280"/>
              <a:gd name="textAreaTop" fmla="*/ 38160 h 1079640"/>
              <a:gd name="textAreaBottom" fmla="*/ 1041480 h 1079640"/>
            </a:gdLst>
            <a:ahLst/>
            <a:rect l="textAreaLeft" t="textAreaTop" r="textAreaRight" b="textAreaBottom"/>
            <a:pathLst>
              <a:path w="21600" h="38140">
                <a:moveTo>
                  <a:pt x="0" y="0"/>
                </a:moveTo>
                <a:lnTo>
                  <a:pt x="21600" y="0"/>
                </a:lnTo>
                <a:lnTo>
                  <a:pt x="21600" y="38140"/>
                </a:lnTo>
                <a:lnTo>
                  <a:pt x="0" y="38140"/>
                </a:lnTo>
                <a:close/>
              </a:path>
              <a:path fill="lightenLess" w="21600" h="3814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8140">
                <a:moveTo>
                  <a:pt x="21600" y="0"/>
                </a:moveTo>
                <a:lnTo>
                  <a:pt x="21600" y="38140"/>
                </a:lnTo>
                <a:lnTo>
                  <a:pt x="20250" y="36790"/>
                </a:lnTo>
                <a:lnTo>
                  <a:pt x="20250" y="1350"/>
                </a:lnTo>
                <a:close/>
              </a:path>
              <a:path fill="darkenLess" w="21600" h="38140">
                <a:moveTo>
                  <a:pt x="21600" y="38140"/>
                </a:moveTo>
                <a:lnTo>
                  <a:pt x="0" y="38140"/>
                </a:lnTo>
                <a:lnTo>
                  <a:pt x="1350" y="36790"/>
                </a:lnTo>
                <a:lnTo>
                  <a:pt x="20250" y="36790"/>
                </a:lnTo>
                <a:close/>
              </a:path>
              <a:path fill="lighten" w="21600" h="38140">
                <a:moveTo>
                  <a:pt x="0" y="38140"/>
                </a:moveTo>
                <a:lnTo>
                  <a:pt x="0" y="0"/>
                </a:lnTo>
                <a:lnTo>
                  <a:pt x="1350" y="1350"/>
                </a:lnTo>
                <a:lnTo>
                  <a:pt x="1350" y="36790"/>
                </a:lnTo>
                <a:close/>
              </a:path>
              <a:path fill="darken" w="21600" h="38140">
                <a:moveTo>
                  <a:pt x="3756" y="19070"/>
                </a:moveTo>
                <a:lnTo>
                  <a:pt x="17844" y="12026"/>
                </a:lnTo>
                <a:lnTo>
                  <a:pt x="17844" y="261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1484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2421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378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4724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5734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4360" y="155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9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479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734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62751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再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想一想：课文从哪几个方面来说明生命与水之间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0" r="2413" b="13580"/>
          <a:stretch/>
        </p:blipFill>
        <p:spPr>
          <a:xfrm>
            <a:off x="6732720" y="189000"/>
            <a:ext cx="2382840" cy="2271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29960" y="220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水是生命的摇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852640"/>
            <a:ext cx="65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水是人体进行新陈代谢的大功臣。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45800" y="400536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水是人体的“润滑剂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03040" y="4724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水保持体温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3040" y="544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水保卫人的肌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2421000"/>
            <a:ext cx="142920" cy="9367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610"/>
                </a:lnTo>
                <a:cubicBezTo>
                  <a:pt x="10800" y="11510"/>
                  <a:pt x="16200" y="12410"/>
                  <a:pt x="21600" y="12410"/>
                </a:cubicBezTo>
                <a:cubicBezTo>
                  <a:pt x="16200" y="12410"/>
                  <a:pt x="10800" y="13310"/>
                  <a:pt x="10800" y="142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5578560" y="263844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生理学角度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4221000"/>
            <a:ext cx="144360" cy="15843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4514760" y="47815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水的作用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189000"/>
            <a:ext cx="82296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阅读第二自然段，思考：为什么说水是生命的摇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125360"/>
            <a:ext cx="82296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人是由什么构成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3573360"/>
            <a:ext cx="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76360" y="2781360"/>
            <a:ext cx="165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ff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细 胞</a:t>
            </a:r>
            <a:endParaRPr b="1" lang="en-US" sz="1800" spc="1" strike="noStrike">
              <a:ln w="19080">
                <a:solidFill>
                  <a:srgbClr val="ccff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2585880" cy="1725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rot="4115400">
            <a:off x="6058800" y="565560"/>
            <a:ext cx="2035080" cy="2023920"/>
          </a:xfrm>
          <a:prstGeom prst="uturnArrow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645000"/>
            <a:ext cx="82296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细胞内含量最大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79640" y="4869000"/>
            <a:ext cx="7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ff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水</a:t>
            </a:r>
            <a:endParaRPr b="1" lang="en-US" sz="1800" spc="1" strike="noStrike">
              <a:ln w="19080">
                <a:solidFill>
                  <a:srgbClr val="ccff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9:10:59Z</dcterms:created>
  <dc:creator>Administrator</dc:creator>
  <dc:description/>
  <dc:language>en-US</dc:language>
  <cp:lastModifiedBy/>
  <dcterms:modified xsi:type="dcterms:W3CDTF">2015-07-27T09:41:39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