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754-F5BD-4D44-8D73-B4243E1D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6CA-DFE2-4D3C-9650-F0CAB319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3D1-F310-484D-8B29-6FF6D72C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B6A-2B04-4C37-98D5-7C7B7F91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C38-7102-4D97-8425-C40D270C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66D-10F2-46C6-940C-059396CF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C43-8E65-4C45-A8E7-4AE146E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666-3673-4E00-A327-E6DFDA27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0AC-A6CE-4D21-A43B-2C8289D0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625-3EDB-41C9-B269-B5D1EC08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928-1D81-4357-B263-BA28B88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1B5-46F9-4A9E-BFC3-7A35DABA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AF1F-9E3E-4E58-8F0A-011D93371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" Target="slide1.xm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00000" y="54936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书馆里的小镜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1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0" y="1676520"/>
            <a:ext cx="91440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书馆里骚动了一阵之后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又恢复了往日的平静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偶尔听到翻书的声音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显得极小、极短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完全沉醉在书的海洋里了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668320" y="53352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仿宋_GB2312"/>
              </a:rPr>
              <a:t>观察这一自然段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1143000" y="2013120"/>
            <a:ext cx="716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戴眼镜的小伙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一边看着，一边伏案疾书，有时，还停下来皱紧眉头想着什么，时不时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扶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已滑落到鼻梁上的眼镜；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位梳披肩发的姑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此时已顾不得去整理那有些散乱的头发，只是用大眼睛在书上贪婪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着，不时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下那束垂到额前的刘海儿，看那神情，要是有把剪刀的话，她一定要把那束刘海儿铰了；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位头发花白的老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鼻梁上架着老花镜，眯着眼睛，把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得远远的，显得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费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但仍旧舍不得把书放下；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几个孩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桌上，用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，一个字一个字地念着，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吃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却很专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2"/>
          <p:cNvPicPr/>
          <p:nvPr/>
        </p:nvPicPr>
        <p:blipFill>
          <a:blip r:embed="rId1"/>
          <a:stretch/>
        </p:blipFill>
        <p:spPr>
          <a:xfrm>
            <a:off x="-379440" y="-455760"/>
            <a:ext cx="9523440" cy="7885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2053800" y="318960"/>
            <a:ext cx="567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紧接着，那双眼皮，那丹凤眼，那眼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布满鱼尾纹的眼睛，都各自盯上自己的目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33520" y="1828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粗糙的手，细腻的手，宽大的手，纤细的手，都小心翼翼地拿下书，极温柔地抚摸着，就像抚摸着孩子光滑的脸蛋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276720" y="5029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短小精悍，言简意赅，节奏感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09480" y="4648320"/>
            <a:ext cx="1440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图片3"/>
          <p:cNvPicPr/>
          <p:nvPr/>
        </p:nvPicPr>
        <p:blipFill>
          <a:blip r:embed="rId2"/>
          <a:stretch/>
        </p:blipFill>
        <p:spPr>
          <a:xfrm>
            <a:off x="-189000" y="-512640"/>
            <a:ext cx="9523440" cy="788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539640" y="62064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个戴眼镜的小伙子，一边         ，一边                   ，有时，还停下来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眉头想着什么，时不时地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那已滑落到鼻梁上的眼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nashi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43280" y="549360"/>
            <a:ext cx="3610080" cy="3816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2401200" y="4653000"/>
            <a:ext cx="450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伏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隐藏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着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低下去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屈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疾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疾病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痛苦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迅速、急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701720" y="175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伏案疾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526480" y="1219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看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288240" y="2286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皱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176436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扶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838080"/>
            <a:ext cx="6019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位梳披肩发的姑娘，此时已顾不得整理那有些散乱的发，只是用大眼睛在书上       地   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，不时地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下那束垂到额前的刘海儿，看那神情，要是有把剪刀的话，她一定要把那束刘海儿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gunian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72200" y="1143000"/>
            <a:ext cx="297180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358128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贪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216520" y="2743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38080" y="457200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105520" y="213372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457200" y="1066680"/>
            <a:ext cx="419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位头发花白的老人，鼻梁上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花镜，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眼睛，把书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远远的，显得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费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但仍旧舍不得把书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8O{N$1(5${}DWXZI81]][X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48578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364560" y="1828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架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29788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眯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8804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拿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602440" y="4343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放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0" y="121932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几个孩子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桌上，用手     字，一个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个字地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吃力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   却很专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haiz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762120"/>
            <a:ext cx="4496040" cy="45734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13092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8824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指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99296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念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04920" y="228600"/>
            <a:ext cx="856908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戴眼镜的小伙子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边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看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一边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伏案疾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有时，还停下来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皱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眉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着什么，时不时地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扶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已滑落到鼻梁上的眼镜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位梳披肩发的姑娘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此时已顾不得去整理那有些散乱的长发，只是用大眼睛在书上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贪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，不时地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那束垂到额前的刘海儿，看那神情，要是有把剪刀的话，她一定要把那束刘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儿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铰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一位头发花白的老人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鼻梁上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架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老花镜，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眯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眼睛，把书拿得远远的，显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很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费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但仍旧舍不得把书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放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个孩子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桌上，用手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指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字，一个字一个字地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念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很</a:t>
            </a:r>
            <a:r>
              <a:rPr b="1" lang="zh-CN" sz="2400" spc="-1" strike="noStrike">
                <a:solidFill>
                  <a:srgbClr val="cc00cc"/>
                </a:solidFill>
                <a:latin typeface="宋体"/>
              </a:rPr>
              <a:t>吃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却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专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2860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积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学习专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词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453920" y="5041800"/>
            <a:ext cx="311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聚精会神  全神贯注  专心致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一丝不苟  废寝忘食  孜孜不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WordArt 3" descr=""/>
          <p:cNvPicPr/>
          <p:nvPr/>
        </p:nvPicPr>
        <p:blipFill>
          <a:blip r:embed="rId1"/>
          <a:stretch/>
        </p:blipFill>
        <p:spPr>
          <a:xfrm>
            <a:off x="2206800" y="665280"/>
            <a:ext cx="3792240" cy="1657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1752480" y="2895480"/>
            <a:ext cx="649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仿第五节的写法，抓住人物的神态、动作写写某人背书时的样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1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28600" y="8380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堂上老师对同学们说：“下面进行背书比赛，看谁背得又快又准。”话音刚落同学就八仙过海各显神通了：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看，同学们背得多么认真呀，相信大家一定能很快完成老师布置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990720" y="29718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990720" y="36576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990720" y="426708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R%N7VVFZ8[EG)`D2%KC($[J"/>
          <p:cNvPicPr/>
          <p:nvPr/>
        </p:nvPicPr>
        <p:blipFill>
          <a:blip r:embed="rId1"/>
          <a:stretch/>
        </p:blipFill>
        <p:spPr>
          <a:xfrm>
            <a:off x="0" y="0"/>
            <a:ext cx="3276720" cy="579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W6]USZZR568CE96LQOEGA3U"/>
          <p:cNvPicPr/>
          <p:nvPr/>
        </p:nvPicPr>
        <p:blipFill>
          <a:blip r:embed="rId2"/>
          <a:stretch/>
        </p:blipFill>
        <p:spPr>
          <a:xfrm>
            <a:off x="3124080" y="0"/>
            <a:ext cx="3200400" cy="579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K@A}TP9D95FW5`8`]QAT4{O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5791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263480" y="5867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627c6c12820c3a3a203f2eac"/>
          <p:cNvPicPr/>
          <p:nvPr/>
        </p:nvPicPr>
        <p:blipFill>
          <a:blip r:embed="rId2"/>
          <a:stretch/>
        </p:blipFill>
        <p:spPr>
          <a:xfrm>
            <a:off x="0" y="3352680"/>
            <a:ext cx="2895480" cy="35053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26"/>
          <p:cNvSpPr/>
          <p:nvPr/>
        </p:nvSpPr>
        <p:spPr>
          <a:xfrm>
            <a:off x="0" y="457200"/>
            <a:ext cx="2819520" cy="1981080"/>
          </a:xfrm>
          <a:prstGeom prst="cloudCallout">
            <a:avLst>
              <a:gd name="adj1" fmla="val 70101"/>
              <a:gd name="adj2" fmla="val 13846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图书馆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门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2"/>
          <p:cNvPicPr/>
          <p:nvPr/>
        </p:nvPicPr>
        <p:blipFill>
          <a:blip r:embed="rId3"/>
          <a:srcRect l="0" t="0" r="2565" b="22224"/>
          <a:stretch/>
        </p:blipFill>
        <p:spPr>
          <a:xfrm>
            <a:off x="2971800" y="3276720"/>
            <a:ext cx="2895480" cy="26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8" name="AutoShape 26"/>
          <p:cNvSpPr/>
          <p:nvPr/>
        </p:nvSpPr>
        <p:spPr>
          <a:xfrm>
            <a:off x="2666880" y="2133720"/>
            <a:ext cx="4114800" cy="914400"/>
          </a:xfrm>
          <a:prstGeom prst="cloudCallout">
            <a:avLst>
              <a:gd name="adj1" fmla="val -17708"/>
              <a:gd name="adj2" fmla="val -416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图书馆的借阅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6"/>
          <p:cNvPicPr/>
          <p:nvPr/>
        </p:nvPicPr>
        <p:blipFill>
          <a:blip r:embed="rId4"/>
          <a:stretch/>
        </p:blipFill>
        <p:spPr>
          <a:xfrm>
            <a:off x="6095880" y="3219480"/>
            <a:ext cx="3048120" cy="3638520"/>
          </a:xfrm>
          <a:prstGeom prst="rect">
            <a:avLst/>
          </a:prstGeom>
          <a:ln w="3240">
            <a:solidFill>
              <a:srgbClr val="00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" name="AutoShape 27"/>
          <p:cNvSpPr/>
          <p:nvPr/>
        </p:nvSpPr>
        <p:spPr>
          <a:xfrm>
            <a:off x="4975200" y="838080"/>
            <a:ext cx="4168800" cy="914400"/>
          </a:xfrm>
          <a:prstGeom prst="cloudCallout">
            <a:avLst>
              <a:gd name="adj1" fmla="val -50722"/>
              <a:gd name="adj2" fmla="val 45121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图书馆的阅览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2059200" y="8380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作业布置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2286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背诵课文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节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继续练笔，模仿课文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节的写法，描写生活中的小镜头，要注意人物的外貌、动作、神态的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833400" y="533520"/>
            <a:ext cx="747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晨，图书馆的大门敞开了，             各种各样的人便                地                                                                            进了图书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868280" y="10666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</a:rPr>
              <a:t>争先恐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238880" y="1066680"/>
            <a:ext cx="7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</a:rPr>
              <a:t>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627c6c12820c3a3a203f2eac"/>
          <p:cNvPicPr/>
          <p:nvPr/>
        </p:nvPicPr>
        <p:blipFill>
          <a:blip r:embed="rId2"/>
          <a:stretch/>
        </p:blipFill>
        <p:spPr>
          <a:xfrm>
            <a:off x="3886200" y="2286000"/>
            <a:ext cx="4648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留披肩发的，梳辫子的，剃平头的，梳分头的，黑发的，白发的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穿皮鞋的，穿布鞋的，穿球鞋的，鞋跟高的，鞋跟矮的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429000" y="4495680"/>
            <a:ext cx="243828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发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鞋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1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152280" y="3429000"/>
            <a:ext cx="3276720" cy="3124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6"/>
          <p:cNvPicPr/>
          <p:nvPr/>
        </p:nvPicPr>
        <p:blipFill>
          <a:blip r:embed="rId3">
            <a:lum bright="8000"/>
          </a:blip>
          <a:stretch/>
        </p:blipFill>
        <p:spPr>
          <a:xfrm>
            <a:off x="5867280" y="3352680"/>
            <a:ext cx="3124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858680" y="380880"/>
            <a:ext cx="40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宽敞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的图书馆似乎显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拥挤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了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1981080"/>
            <a:ext cx="5791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922040" y="2822400"/>
            <a:ext cx="4569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仿照学习第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小节的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自学第三小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自己提出问题自己解决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914400" y="228600"/>
            <a:ext cx="3581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谁最棒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进了图书馆，深深地吸了一口气，欣慰地笑了笑，似乎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封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一夜的图书馆空气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清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似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457" b="10909"/>
          <a:stretch/>
        </p:blipFill>
        <p:spPr>
          <a:xfrm>
            <a:off x="0" y="2666880"/>
            <a:ext cx="6172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304920" y="784080"/>
            <a:ext cx="8610480" cy="19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那双眼皮，那丹凤眼，那眼角布满鱼尾纹的眼睛，都各自盯上自己的目标；那粗糙的手，细腻的手，宽大的手，纤细的手，都小心翼翼地拿下书，极温柔地抚摸着，就像抚摸着孩子光滑的脸蛋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4"/>
          <p:cNvPicPr/>
          <p:nvPr/>
        </p:nvPicPr>
        <p:blipFill>
          <a:blip r:embed="rId2"/>
          <a:stretch/>
        </p:blipFill>
        <p:spPr>
          <a:xfrm>
            <a:off x="4427640" y="3362400"/>
            <a:ext cx="4429080" cy="3073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050120" y="3657600"/>
            <a:ext cx="79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留披肩发的，梳辫子的，剃平头的，梳分头的，黑发的，白发的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穿皮鞋的，穿布鞋的，穿球鞋的，鞋跟高的，鞋跟矮的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905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那双眼皮，那丹凤眼，那眼角布满鱼尾纹的眼睛，都各自盯上自己的目标；那粗糙的手，细腻的手，宽大的手，纤细的手，都小心翼翼地拿下书，极温柔地抚摸着，就像抚摸着孩子光滑的脸蛋儿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4724280"/>
            <a:ext cx="9144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不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不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人都争先恐后地涌进了图书馆，开始挑选自己喜爱的图书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88040" y="472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性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898080" y="472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107760" y="472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职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114800" y="6019920"/>
            <a:ext cx="38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男女老少  各行各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10-24T15:20:3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