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877-A143-4229-BD9E-725D2F38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388-8D56-4C60-AC7C-87A8AB32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2F1-260B-4D7C-A957-85AEEC22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ACF-C084-4F4F-AB99-71F64210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AAD-7C96-4F2C-9390-3D0F9849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F00-EDCC-4F7B-B4A9-1CD840E6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9BB-502A-4B77-8B91-23F54DA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2CA-F8A6-4239-A15F-5E69361E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FF6-46DB-44B5-88A9-70EBF4A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C7F-6589-41D8-8A28-5B82DA58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F44-63EC-408B-85E9-622EB19E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98E-5BCF-4A3C-96A2-A250A533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6586-E9E7-4A56-99C8-CAC1CA1C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9758-554C-44D7-A3D9-FC3CEAA7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D2B4-0291-4C63-AB07-D6509FF6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306C-2BF1-4F5A-B370-97416760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BE6C-1BD6-4A0E-870D-A41B2D38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C890-D2E8-40FC-8942-CB02AEF1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6151-226E-4C2C-AC35-28F4059C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E82C-DE48-44E9-AF37-2E65F463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7938-E875-4277-8F4F-8AA6621C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1F01-DB79-43FD-A445-310D0B19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CF59-050B-4470-8087-DE3C3A48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AE89-783C-4177-86FB-2B1A532E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37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8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E0BE-F6C2-4DB3-902A-2E8C7C87DBF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004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40C5-23D3-4870-84A2-17ADF5B4A1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000" y="1695600"/>
            <a:ext cx="8929800" cy="13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238200"/>
            <a:ext cx="64008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61"/>
          <p:cNvPicPr/>
          <p:nvPr/>
        </p:nvPicPr>
        <p:blipFill>
          <a:blip r:embed="rId1"/>
          <a:stretch/>
        </p:blipFill>
        <p:spPr>
          <a:xfrm>
            <a:off x="36360" y="-123840"/>
            <a:ext cx="9114120" cy="5621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619280" y="696960"/>
            <a:ext cx="6089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13080" y="5778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20 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谈 礼 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Calibri"/>
              </a:rPr>
              <a:t>回归中心，明白道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354024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、找出文中古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96720" y="25700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用“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”划出古训中“君子”、“失色”、“失口”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97440" y="625320"/>
            <a:ext cx="244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Calibri"/>
              </a:rPr>
              <a:t>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中国曾有</a:t>
            </a:r>
            <a:r>
              <a:rPr b="1" lang="zh-CN" sz="3600" spc="-1" strike="noStrike">
                <a:solidFill>
                  <a:srgbClr val="000099"/>
                </a:solidFill>
                <a:latin typeface="Calibri"/>
              </a:rPr>
              <a:t>“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Calibri"/>
              </a:rPr>
              <a:t>君子不失色于人，不失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99"/>
                </a:solidFill>
                <a:uFillTx/>
                <a:latin typeface="Calibri"/>
              </a:rPr>
              <a:t>于人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古训，意思是说，有道德的人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人应该彬彬有礼，不能态度粗暴，也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能出言不逊。</a:t>
            </a: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礼貌待人，使用礼貌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是我们中华民族的优良传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191360" y="922320"/>
            <a:ext cx="15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237440" y="91440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（古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中国曾有</a:t>
            </a:r>
            <a:r>
              <a:rPr b="1" lang="zh-CN" sz="3600" spc="-1" strike="noStrike">
                <a:solidFill>
                  <a:srgbClr val="000099"/>
                </a:solidFill>
                <a:latin typeface="Calibri"/>
              </a:rPr>
              <a:t>“君子不失色于人，不失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</a:rPr>
              <a:t>于人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古训，意思是说，有道德的人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人应该彬彬有礼，不能态度粗暴，也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能出言不逊。</a:t>
            </a: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礼貌待人，使用礼貌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是我们中华民族的优良传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724360" y="2281320"/>
            <a:ext cx="42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948360" y="69696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君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003640" y="28576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851280" y="4851360"/>
            <a:ext cx="317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 rot="7957800">
            <a:off x="7295760" y="2796840"/>
            <a:ext cx="312480" cy="1729080"/>
          </a:xfrm>
          <a:prstGeom prst="upArrow">
            <a:avLst>
              <a:gd name="adj1" fmla="val 50000"/>
              <a:gd name="adj2" fmla="val 13833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7740720" y="372096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失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 flipV="1">
            <a:off x="324000" y="35031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287360" y="4549680"/>
            <a:ext cx="220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 rot="8799600">
            <a:off x="1691640" y="3649320"/>
            <a:ext cx="409320" cy="1693800"/>
          </a:xfrm>
          <a:prstGeom prst="upArrow">
            <a:avLst>
              <a:gd name="adj1" fmla="val 50000"/>
              <a:gd name="adj2" fmla="val 10345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2341440" y="48736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失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 rot="1419000">
            <a:off x="6667560" y="847800"/>
            <a:ext cx="301680" cy="1146240"/>
          </a:xfrm>
          <a:prstGeom prst="upArrow">
            <a:avLst>
              <a:gd name="adj1" fmla="val 50000"/>
              <a:gd name="adj2" fmla="val 949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Calibri"/>
                <a:ea typeface="黑体"/>
              </a:rPr>
              <a:t>君子不失色于人，不失口于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024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Calibri"/>
              </a:rPr>
              <a:t>意思是：有道德的人待人应该彬彬有礼，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Calibri"/>
              </a:rPr>
              <a:t>能态度粗暴，也不能出言不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6720" y="1777680"/>
            <a:ext cx="8280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alibri"/>
              </a:rPr>
              <a:t>开篇借用古训引出礼貌的话题，从对古训的理解中，我们知道要做到待人彬彬有礼，就要注意自己的态度和言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0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课文讲了哪三 个小故事？用简洁的语言说一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755640" y="2498760"/>
            <a:ext cx="66978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牛皋问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学生道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总理理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780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Calibri"/>
              </a:rPr>
              <a:t>自由默读第二自然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7356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、用</a:t>
            </a:r>
            <a:r>
              <a:rPr b="0" lang="en-US" sz="3600" spc="-1" strike="noStrike">
                <a:solidFill>
                  <a:srgbClr val="008000"/>
                </a:solidFill>
                <a:latin typeface="Calibri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画出</a:t>
            </a:r>
            <a:r>
              <a:rPr b="1" lang="zh-CN" sz="3600" spc="-1" strike="noStrike">
                <a:solidFill>
                  <a:srgbClr val="008000"/>
                </a:solidFill>
                <a:latin typeface="Calibri"/>
              </a:rPr>
              <a:t>牛皋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问路的句子，                       用</a:t>
            </a:r>
            <a:r>
              <a:rPr b="0" lang="en-US" sz="3600" spc="-1" strike="noStrike">
                <a:solidFill>
                  <a:srgbClr val="ff3399"/>
                </a:solidFill>
                <a:latin typeface="Calibri"/>
              </a:rPr>
              <a:t>﹏﹏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画出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岳飞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问路的句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4360" y="3002040"/>
            <a:ext cx="61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大声朗读这两句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体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们俩问路有什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Calibri"/>
              </a:rPr>
              <a:t>问     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1450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牛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716120" y="2784600"/>
            <a:ext cx="1128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1332000" y="1778040"/>
            <a:ext cx="574560" cy="2016000"/>
          </a:xfrm>
          <a:custGeom>
            <a:avLst/>
            <a:gdLst>
              <a:gd name="textAreaLeft" fmla="*/ 367200 w 574560"/>
              <a:gd name="textAreaRight" fmla="*/ 574920 w 5745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981080" y="15620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981080" y="328932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565440" y="985680"/>
            <a:ext cx="54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吼道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呔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老头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爷问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校场往哪里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637080" y="3362400"/>
            <a:ext cx="31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马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70160" y="264960"/>
            <a:ext cx="5975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问      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牛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403280" y="1778040"/>
            <a:ext cx="574920" cy="2016000"/>
          </a:xfrm>
          <a:custGeom>
            <a:avLst/>
            <a:gdLst>
              <a:gd name="textAreaLeft" fmla="*/ 367200 w 574920"/>
              <a:gd name="textAreaRight" fmla="*/ 575280 w 5749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263680" y="171756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6480" y="3660840"/>
            <a:ext cx="12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852720" y="1273320"/>
            <a:ext cx="43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吼道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呔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老头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爷问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校场往哪里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852720" y="3794040"/>
            <a:ext cx="25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马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116352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岳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317680" y="3022560"/>
            <a:ext cx="131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1476360" y="1700280"/>
            <a:ext cx="433440" cy="2158920"/>
          </a:xfrm>
          <a:custGeom>
            <a:avLst/>
            <a:gdLst>
              <a:gd name="textAreaLeft" fmla="*/ 276840 w 433440"/>
              <a:gd name="textAreaRight" fmla="*/ 433800 w 43344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208240" y="1598760"/>
            <a:ext cx="18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197080" y="35784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781440" y="170640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问老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才可曾见一个骑黑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852720" y="3505320"/>
            <a:ext cx="3137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先离镫下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然后向前施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6.png"/>
          <p:cNvPicPr/>
          <p:nvPr/>
        </p:nvPicPr>
        <p:blipFill>
          <a:blip r:embed="rId1"/>
          <a:srcRect l="-3905" t="0" r="0" b="0"/>
          <a:stretch/>
        </p:blipFill>
        <p:spPr>
          <a:xfrm>
            <a:off x="1187280" y="912960"/>
            <a:ext cx="7983720" cy="48020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10.png"/>
          <p:cNvPicPr/>
          <p:nvPr/>
        </p:nvPicPr>
        <p:blipFill>
          <a:blip r:embed="rId2"/>
          <a:srcRect l="0" t="0" r="50205" b="52247"/>
          <a:stretch/>
        </p:blipFill>
        <p:spPr>
          <a:xfrm>
            <a:off x="7920" y="2986200"/>
            <a:ext cx="4554720" cy="27288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5" descr="2.png"/>
          <p:cNvPicPr/>
          <p:nvPr/>
        </p:nvPicPr>
        <p:blipFill>
          <a:blip r:embed="rId3"/>
          <a:srcRect l="73439" t="55002" r="14063" b="25002"/>
          <a:stretch/>
        </p:blipFill>
        <p:spPr>
          <a:xfrm>
            <a:off x="8829720" y="3786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5.png"/>
          <p:cNvPicPr/>
          <p:nvPr/>
        </p:nvPicPr>
        <p:blipFill>
          <a:blip r:embed="rId4"/>
          <a:srcRect l="82814" t="26250" r="9375" b="62501"/>
          <a:stretch/>
        </p:blipFill>
        <p:spPr>
          <a:xfrm>
            <a:off x="9001080" y="243036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1" descr="3.png"/>
          <p:cNvPicPr/>
          <p:nvPr/>
        </p:nvPicPr>
        <p:blipFill>
          <a:blip r:embed="rId5"/>
          <a:srcRect l="14063" t="46251" r="75002" b="35001"/>
          <a:stretch/>
        </p:blipFill>
        <p:spPr>
          <a:xfrm>
            <a:off x="9468000" y="1562040"/>
            <a:ext cx="1000080" cy="1071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116000" y="480960"/>
            <a:ext cx="220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礼  貌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05360" y="1417680"/>
            <a:ext cx="39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谈谈你对“礼貌”的认识，和看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336040" y="22096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礼貌是什么，在什么时候要礼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187280" y="314640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你所知道的礼貌用语都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38 4.05338E-006 C -0.01424 -0.00139 -0.04063 -0.00473 -0.05816 -0.00834 C -0.0757 -0.01196 -0.07049 -0.00195 -0.11025 -0.02141 C -0.15 -0.04087 -0.25799 -0.10426 -0.29688 -0.12594 E">
                                      <p:cBhvr>
                                        <p:cTn id="1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5E-006 1.11111E-006 C -0.00903 -0.0025 -0.03386 -0.00833 -0.054 -0.01528 C -0.07413 -0.02222 -0.09288 -0.04639 -0.12118 -0.04139 C -0.14948 -0.03639 -0.20209 0.00333 -0.22344 0.015 E">
                                      <p:cBhvr>
                                        <p:cTn id="1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452 1.58421E-006 C -0.02934 -0.00028 -0.14149 0.00861 -0.19826 -0.00223 C -0.25503 -0.01306 -0.30729 -0.05225 -0.33593 -0.06532 E">
                                      <p:cBhvr>
                                        <p:cTn id="1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7"/>
          <p:cNvPicPr/>
          <p:nvPr/>
        </p:nvPicPr>
        <p:blipFill>
          <a:blip r:embed="rId1"/>
          <a:stretch/>
        </p:blipFill>
        <p:spPr>
          <a:xfrm>
            <a:off x="3240" y="0"/>
            <a:ext cx="914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6360" y="2065320"/>
            <a:ext cx="864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Calibri"/>
              </a:rPr>
              <a:t>冒失鬼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：没有礼貌，行为不好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409680"/>
            <a:ext cx="53294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不同的态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导致什么样的结果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12720" y="31464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耐心指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很有礼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6360" y="2786040"/>
            <a:ext cx="8928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听了牛皋的问话，（                                      ）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听了岳飞的问话，（                            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0042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Calibri"/>
              </a:rPr>
              <a:t>如果你就是这位老人，你听了他们俩的问话，心里是怎么想的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140360" y="30020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心生讨厌，没有给他指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068720" y="40100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心感温暖，耐心给他指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633320"/>
            <a:ext cx="2879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这真是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2000" y="4009680"/>
            <a:ext cx="8148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Calibri"/>
              </a:rPr>
              <a:t>是指有礼貌的人会让别人心情愉快，没有礼貌则会让人讨厌，嫌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844720" y="1488960"/>
            <a:ext cx="37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礼到人心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无礼讨人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4970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Calibri"/>
              </a:rPr>
              <a:t>踩     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33080"/>
            <a:ext cx="79326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Calibri"/>
              </a:rPr>
              <a:t>谁踩了裙？谁的裙被踩了？踩裙者是怎么做的？被踩者又是怎么反应？结果如何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1080" y="35053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女青年微笑着说：“没关系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4358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女青年回过头来看了看，小朋友连忙抬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脚说：“对不起，把 您的裙子踩脏了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093080" y="177804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</a:t>
            </a:r>
            <a:r>
              <a:rPr b="0" lang="zh-CN" sz="1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197080" y="242568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</a:t>
            </a:r>
            <a:r>
              <a:rPr b="0" lang="zh-CN" sz="1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</a:t>
            </a:r>
            <a:r>
              <a:rPr b="0" lang="zh-CN" sz="1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692360" y="3867120"/>
            <a:ext cx="8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213080" y="3867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704600"/>
            <a:ext cx="793116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5400" spc="-1" strike="noStrike">
                <a:solidFill>
                  <a:srgbClr val="ff0000"/>
                </a:solidFill>
                <a:latin typeface="Calibri"/>
              </a:rPr>
              <a:t>礼貌待人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可以在人与人之间架起一座理解的桥梁，减少相互间的矛盾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771696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Calibri"/>
              </a:rPr>
              <a:t>刮      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07552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alibri"/>
              </a:rPr>
              <a:t>谁给谁刮脸？刮脸的时候发生了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什么</a:t>
            </a:r>
            <a:r>
              <a:rPr b="0" lang="zh-CN" sz="4400" spc="-1" strike="noStrike">
                <a:solidFill>
                  <a:srgbClr val="0000ff"/>
                </a:solidFill>
                <a:latin typeface="Calibri"/>
              </a:rPr>
              <a:t>意外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？俩人分别是什么反应？结果怎么样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周总理是怎么说的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777680"/>
            <a:ext cx="8218440" cy="33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周总理安慰他说：“这不能怪您，怪我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嗽没有向您打招呼，还幸亏您刀子躲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快哩！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981080" y="2209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Wingdings"/>
                <a:ea typeface="Wingdings"/>
              </a:rPr>
              <a:t>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66"/>
                </a:solidFill>
                <a:latin typeface="Wingdings"/>
                <a:ea typeface="Wingdings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620720" y="2281320"/>
            <a:ext cx="7705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zh-CN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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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                                                 </a:t>
            </a:r>
            <a:r>
              <a:rPr b="0" lang="zh-CN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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169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Calibri"/>
                <a:ea typeface="黑体"/>
              </a:rPr>
              <a:t>根据你读过的这一段，思考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9440" y="1130400"/>
            <a:ext cx="77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周总理安慰朱师傅的话语极富艺术性，其中蕴含着大智慧，从三个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感受到　　　　　　　　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从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怪您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怪我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感受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　　　　　　　　 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；从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亏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躲得快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感受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610000" y="39704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　　　　　　　　　　　　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12720" y="3002040"/>
            <a:ext cx="717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朱师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感不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因为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了周总理的安慰，朱师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受感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此时他心里会想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5148360" y="1920960"/>
            <a:ext cx="331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5076720" y="2281320"/>
            <a:ext cx="331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4788000" y="264168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148360" y="1562040"/>
            <a:ext cx="38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周总理很客气，很尊敬人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21440" y="19209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周总理平易近人，能替人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221440" y="2281320"/>
            <a:ext cx="26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周总理很幽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4068720" y="336240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1981080" y="4873680"/>
            <a:ext cx="619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755640" y="307512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    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朱师傅刮伤了周总理的脸，而受人爱戴的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总理还这样宽容自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57080" y="39387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1620720" y="45147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周总理宽容大度，平易近人，和蔼可亲，真是我们的好总理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同学们，我们中华民族自古以来就是一个“文明古国，礼仪之邦。”人在社会上生活，总要和别人交往。在人们的交往过程中，一个人是否讲礼貌，往往能反映出这个人的文明素质和文化修养。今天，我们就一起来学习一篇专门谈礼貌的课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253044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Wingdings"/>
                <a:ea typeface="Wingdings"/>
              </a:rPr>
              <a:t>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文  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Wingdings"/>
                <a:ea typeface="Wingdings"/>
              </a:rPr>
              <a:t>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和  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Wingdings"/>
                <a:ea typeface="Wingdings"/>
              </a:rPr>
              <a:t>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宽  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4" descr="14"/>
          <p:cNvPicPr/>
          <p:nvPr/>
        </p:nvPicPr>
        <p:blipFill>
          <a:blip r:embed="rId1"/>
          <a:stretch/>
        </p:blipFill>
        <p:spPr>
          <a:xfrm>
            <a:off x="3708360" y="409680"/>
            <a:ext cx="54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可见文雅、和气、宽容的语言，不但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通了人们的心灵，而且反映出一个人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思想情操和文化修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835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齐读思考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8640" y="1335240"/>
            <a:ext cx="829152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人在社会上生活，总要和别人交往。学会礼貌待人，恰当地使用礼貌用语，能使人与人之间的关系更加和谐，社会生活更加美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755640" y="31464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这一自然段在文中起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044720" y="3865680"/>
            <a:ext cx="468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总结全文，点明中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照应开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28600"/>
            <a:ext cx="72741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小  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024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《谈礼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篇说理文，课文通过三个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的事例说明，告诉我们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zh-CN" sz="3200" spc="-1" strike="noStrike">
                <a:solidFill>
                  <a:srgbClr val="00cc00"/>
                </a:solidFill>
                <a:latin typeface="Calibri"/>
              </a:rPr>
              <a:t>学会礼貌待人，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Calibri"/>
              </a:rPr>
              <a:t>当地使用礼貌语言，就能使人与人之间的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Calibri"/>
              </a:rPr>
              <a:t>系更加和谐，社会生活更加美好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这样一个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43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Calibri"/>
              </a:rPr>
              <a:t>与礼貌有关的成语故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27476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Calibri"/>
              </a:rPr>
              <a:t>程门立雪  孔融让梨  举案齐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755640" y="2354400"/>
            <a:ext cx="71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门立雪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是说对长辈的尊敬</a:t>
            </a:r>
            <a:r>
              <a:rPr b="0" lang="zh-CN" sz="3200" spc="-1" strike="noStrike">
                <a:solidFill>
                  <a:srgbClr val="c0504d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孔融让梨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是讲兄弟间的谦让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举案齐眉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是说夫妻间的礼貌，相敬如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97080" y="1057320"/>
            <a:ext cx="5338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黑体"/>
              </a:rPr>
              <a:t>礼貌名言、俗语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63640" y="2209320"/>
            <a:ext cx="684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尊敬别人就是尊敬自己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个人的礼貌就是一面照出他的肖像的镜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敬我一尺，我敬你一丈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好言一句三冬暖，恶语伤人六月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-195480" y="720"/>
            <a:ext cx="2789280" cy="2810520"/>
            <a:chOff x="-195480" y="720"/>
            <a:chExt cx="2789280" cy="2810520"/>
          </a:xfrm>
        </p:grpSpPr>
        <p:pic>
          <p:nvPicPr>
            <p:cNvPr id="268" name="Picture 5" descr="07"/>
            <p:cNvPicPr/>
            <p:nvPr/>
          </p:nvPicPr>
          <p:blipFill>
            <a:blip r:embed="rId1"/>
            <a:stretch/>
          </p:blipFill>
          <p:spPr>
            <a:xfrm rot="21130800">
              <a:off x="-34560" y="145080"/>
              <a:ext cx="229968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6"/>
            <p:cNvSpPr/>
            <p:nvPr/>
          </p:nvSpPr>
          <p:spPr>
            <a:xfrm rot="21130800">
              <a:off x="373680" y="620640"/>
              <a:ext cx="219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请你记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2138400"/>
            <a:ext cx="8147160" cy="29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你做作业时，突然发现墨水没了，需要向别人借时，你该怎么说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作业时，你不小心将墨水甩到了同桌身上，你该怎么说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学时，你急急忙忙去站队，结果不小心被别人撞倒了，当别人向你道歉，你该怎么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46240" y="61200"/>
            <a:ext cx="2257200" cy="2080080"/>
            <a:chOff x="246240" y="61200"/>
            <a:chExt cx="2257200" cy="2080080"/>
          </a:xfrm>
        </p:grpSpPr>
        <p:pic>
          <p:nvPicPr>
            <p:cNvPr id="273" name="Picture 5" descr="09"/>
            <p:cNvPicPr/>
            <p:nvPr/>
          </p:nvPicPr>
          <p:blipFill>
            <a:blip r:embed="rId1"/>
            <a:stretch/>
          </p:blipFill>
          <p:spPr>
            <a:xfrm rot="20940000">
              <a:off x="398520" y="215280"/>
              <a:ext cx="178740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6"/>
            <p:cNvSpPr/>
            <p:nvPr/>
          </p:nvSpPr>
          <p:spPr>
            <a:xfrm rot="20940000">
              <a:off x="505440" y="1012320"/>
              <a:ext cx="195588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800080"/>
                  </a:solidFill>
                  <a:latin typeface="Arial"/>
                  <a:ea typeface="华文新魏"/>
                </a:rPr>
                <a:t>拓展延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32000" y="627120"/>
            <a:ext cx="43308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Calibri"/>
                <a:ea typeface="隶书"/>
              </a:rPr>
              <a:t>作 业 超 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4000" y="213804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66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6600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006600"/>
                </a:solidFill>
                <a:latin typeface="Calibri"/>
              </a:rPr>
              <a:t>积累的你摘抄你喜欢的有关礼貌的格言，名句，小故事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6600"/>
                </a:solidFill>
                <a:latin typeface="Calibri"/>
              </a:rPr>
              <a:t>２、善写作的你选一个能说明礼貌待人好处的事例写下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6600"/>
                </a:solidFill>
                <a:latin typeface="Calibri"/>
              </a:rPr>
              <a:t>３、善创新的你创作一句有关礼貌的格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写作业"/>
          <p:cNvPicPr/>
          <p:nvPr/>
        </p:nvPicPr>
        <p:blipFill>
          <a:blip r:embed="rId1"/>
          <a:stretch/>
        </p:blipFill>
        <p:spPr>
          <a:xfrm rot="20940000">
            <a:off x="539640" y="-93600"/>
            <a:ext cx="22748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46040" y="13446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989000" y="84132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自 由 读 课 文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9640" y="307512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读的时候看看课文为我们讲了哪几个故事，读完后，再想想，关于“礼貌”你又有了什么新的认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828720" y="18511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注意生字、新词和难句。难读的句子多读几遍，把它读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24360" y="193320"/>
            <a:ext cx="5124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Calibri"/>
              </a:rPr>
              <a:t>我能读得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056960"/>
            <a:ext cx="821844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ùn                                xù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古 训                        出言不逊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君子不失色于人，不失口于人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īn                                                        xi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彬 彬有礼            礼到人心暖，无礼讨人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uè                    gāo            jiào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说 岳 全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牛皋          小 校 场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iū                                     xi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纠 纷             文雅          和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2720" y="336600"/>
            <a:ext cx="54928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Calibri"/>
              </a:rPr>
              <a:t>生  字  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00424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alibri"/>
              </a:rPr>
              <a:t>纠纷     安慰    师傅       和谐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alibri"/>
              </a:rPr>
              <a:t>彬彬有礼    出言不逊    岳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alibri"/>
              </a:rPr>
              <a:t>君子不失色于人，不失口于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alibri"/>
              </a:rPr>
              <a:t>礼到人心暖，无礼讨人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5562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词 语 理 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黑体"/>
              </a:rPr>
              <a:t>彬彬有礼：文雅而有礼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黑体"/>
              </a:rPr>
              <a:t>出言不逊：说话傲慢不客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黑体"/>
              </a:rPr>
              <a:t>修养：指养成的正确待人处事的态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alibri"/>
                <a:ea typeface="黑体"/>
              </a:rPr>
              <a:t>校场：古时候，人们比武的地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0515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课 文 分 段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4860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第一自然段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(1):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作者由古训引出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礼貌待人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使用礼貌语言是我们中华民族的优良传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68360" y="2570040"/>
            <a:ext cx="78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第二自然段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(2~4):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文章例举了正反三个事例来说明礼貌待人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使用礼貌用语的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4010040"/>
            <a:ext cx="73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第三自然段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(5):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说明学会礼貌待人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恰当使用礼貌语言的重要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中国曾有</a:t>
            </a:r>
            <a:r>
              <a:rPr b="1" lang="zh-CN" sz="3600" spc="-1" strike="noStrike">
                <a:solidFill>
                  <a:srgbClr val="000099"/>
                </a:solidFill>
                <a:latin typeface="Calibri"/>
              </a:rPr>
              <a:t>“君子不失色于人，不失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</a:rPr>
              <a:t>于人”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的古训，意思是说，有道德的人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人应该彬彬有礼，不能态度粗暴，也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能出言不逊。</a:t>
            </a: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礼貌待人，使用礼貌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是我们中华民族的优良传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9:39:30Z</dcterms:created>
  <dc:creator>rachel</dc:creator>
  <dc:description/>
  <cp:keywords/>
  <dc:language>en-US</dc:language>
  <cp:lastModifiedBy>dell</cp:lastModifiedBy>
  <dcterms:modified xsi:type="dcterms:W3CDTF">2016-03-25T02:31:47Z</dcterms:modified>
  <cp:revision>30</cp:revision>
  <dc:subject/>
  <dc:title>岁寒三友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