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image6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7.jpeg" ContentType="image/jpeg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1156-7799-4F6F-BD39-7D2A4554E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E675-AF54-49A5-A112-46631DFB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0B48-381A-4CB6-9AAB-96EA8081C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CC8D-4759-45CE-AA59-7839AACA4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F9F7-81DA-4814-AA3E-05096623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19AE-1BDC-46BE-A364-6C540891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3DE6-DD79-4251-8281-F4CEB99D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64A9-2AC6-4C8E-944F-0AB38035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3FFE-C41D-4715-8C22-5261B02A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D983-B5B4-4E8F-8C1C-D2C7CF3B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EAEA-79F3-40B3-AC71-2FD89CDD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BB3E-C6F0-4212-8CAF-6A5B5D1F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E83E-8966-4B01-B1BB-CA2794AEB9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2.png"/><Relationship Id="rId5" Type="http://schemas.openxmlformats.org/officeDocument/2006/relationships/audio" Target="file:///tmp/home/.config/libreoffice/4/user/gallery/explode.wav" TargetMode="External"/><Relationship Id="rId6" Type="http://schemas.microsoft.com/office/2007/relationships/media" Target="file:///tmp/home/.config/libreoffice/4/user/gallery/explode.wav" TargetMode="External"/><Relationship Id="rId7" Type="http://schemas.openxmlformats.org/officeDocument/2006/relationships/image" Target="../media/image2.png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ush.wav" TargetMode="External"/><Relationship Id="rId2" Type="http://schemas.openxmlformats.org/officeDocument/2006/relationships/hyperlink" Target="file:///tmp/home/.config/libreoffice/4/user/gallery/push.wav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push.wav" TargetMode="External"/><Relationship Id="rId2" Type="http://schemas.openxmlformats.org/officeDocument/2006/relationships/image" Target="../media/image8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hyperlink" Target="file:///tmp/home/.config/libreoffice/4/user/gallery/push.wav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638920" cy="6480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804000" y="5300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8" name="chimes.wav"/>
      </p:stSnd>
    </p:sndAc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38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0276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55640" y="6922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    “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终于</a:t>
            </a: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有一天，我和富兰克决定去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看个</a:t>
            </a: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（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）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2492280"/>
            <a:ext cx="802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究竟：在本课中理解为“结果；原委”。它还有“到底”的意思，如“她究竟想干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56000" y="126828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究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26920" y="549360"/>
            <a:ext cx="7848720" cy="575928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8532720" cy="38178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620640"/>
            <a:ext cx="705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        “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屋前有一张木桌，桌上（        ）几只竹篮，篮下（       ）一张纸条，上面（       ）：‘朋友，欢迎您，每篮桃子五元钱，（         ）自己采，然后把钱（        ）箱子里，祝您愉快！’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00720" y="62064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搁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95640" y="11253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压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79640" y="15573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写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08360" y="213372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尽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79640" y="256536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放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933720"/>
            <a:ext cx="75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桃园主人以什么方式传递着自己的信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4508640"/>
            <a:ext cx="32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（纸条留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01336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尽管：在本文的意思是“只管”。它还是表转折关系的关联词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6021360"/>
            <a:ext cx="32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（自采自付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83664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“</a:t>
            </a: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钻进果林，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根深叶茂</a:t>
            </a: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的果树上结满了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丰实</a:t>
            </a: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的果子，一股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沁人心脾</a:t>
            </a: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的香味使人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馋涎欲滴</a:t>
            </a: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9833" t="10589" r="0" b="0"/>
          <a:stretch/>
        </p:blipFill>
        <p:spPr>
          <a:xfrm>
            <a:off x="252360" y="3718080"/>
            <a:ext cx="4122720" cy="2884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0" t="0" r="7030" b="12630"/>
          <a:stretch/>
        </p:blipFill>
        <p:spPr>
          <a:xfrm>
            <a:off x="4572000" y="3718080"/>
            <a:ext cx="4251240" cy="2832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rcRect l="0" t="0" r="4805" b="13518"/>
          <a:stretch/>
        </p:blipFill>
        <p:spPr>
          <a:xfrm>
            <a:off x="179280" y="260280"/>
            <a:ext cx="4353120" cy="3152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rcRect l="113" t="3906" r="12501" b="10973"/>
          <a:stretch/>
        </p:blipFill>
        <p:spPr>
          <a:xfrm>
            <a:off x="4578480" y="258840"/>
            <a:ext cx="3994200" cy="31035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5" name="chimes.wav"/>
      </p:stSnd>
    </p:sndAc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50920" y="328464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根深叶茂”、“丰实”写出了果园的丰收景象；“沁人心脾”、“馋涎欲滴”给你以嗅觉感受；写出了“我”对果园的喜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76500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沁人心脾：原指吸入芳香气味、新鲜空气或喝了清凉饮料等时，感到舒适和愉快。也用来形容文艺作品的美好与感人所给与人的清新爽朗的感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4360" y="981000"/>
            <a:ext cx="7184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6922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不一会儿，两只大篮子装满了又香又甜的大桃子，我俩提着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（         ）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的篮子跟着小狗们往回走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3141720"/>
            <a:ext cx="83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既写出了“我俩”亲手采摘果实的愉悦，又写出了得到信任的喜悦。“沉甸甸”说明“我俩”在收获果实的同时也收获了主人的信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24360" y="112536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沉甸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95280" y="76500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     “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把桃子（             ）地装进汽车，我掏出钱包，这才发现钱箱旁躺着一只大花猫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278136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     “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小心翼翼”既写出了“我”对自己亲手采摘的果实的珍视，也说明了“我”对人与人之间的信任和被信任的珍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443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小结：主人让猫狗替他招待客人，是因为他充分信任每一位前来采摘的客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558972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（猫狗待客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27280" y="692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小心翼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11280" y="260280"/>
            <a:ext cx="295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  <a:ea typeface="楷体_GB2312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134136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我不禁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回头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，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久久地注视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着那片果林、那间小屋、那张木桌和那道木栅栏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——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一个朴实而又纯洁的地方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·····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64500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为什么说这里是一个朴实而又纯洁的地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43700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回头”、“久久地注视”表达了“我”怎样的情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nextslide"/>
            <a:hlinkClick r:id="rId1"/>
          </p:cNvPr>
          <p:cNvSpPr/>
          <p:nvPr/>
        </p:nvSpPr>
        <p:spPr>
          <a:xfrm>
            <a:off x="8244000" y="3789360"/>
            <a:ext cx="360360" cy="216000"/>
          </a:xfrm>
          <a:custGeom>
            <a:avLst/>
            <a:gdLst>
              <a:gd name="textAreaLeft" fmla="*/ 13320 w 360360"/>
              <a:gd name="textAreaRight" fmla="*/ 347040 w 360360"/>
              <a:gd name="textAreaTop" fmla="*/ 13320 h 216000"/>
              <a:gd name="textAreaBottom" fmla="*/ 202680 h 216000"/>
            </a:gdLst>
            <a:ahLst/>
            <a:rect l="textAreaLeft" t="textAreaTop" r="textAreaRight" b="textAreaBottom"/>
            <a:pathLst>
              <a:path w="36012" h="21600">
                <a:moveTo>
                  <a:pt x="0" y="0"/>
                </a:moveTo>
                <a:lnTo>
                  <a:pt x="36012" y="0"/>
                </a:lnTo>
                <a:lnTo>
                  <a:pt x="36012" y="21600"/>
                </a:lnTo>
                <a:lnTo>
                  <a:pt x="0" y="21600"/>
                </a:lnTo>
                <a:close/>
              </a:path>
              <a:path fill="lightenLess" w="36012" h="21600">
                <a:moveTo>
                  <a:pt x="0" y="0"/>
                </a:moveTo>
                <a:lnTo>
                  <a:pt x="36012" y="0"/>
                </a:lnTo>
                <a:lnTo>
                  <a:pt x="34662" y="1350"/>
                </a:lnTo>
                <a:lnTo>
                  <a:pt x="1350" y="1350"/>
                </a:lnTo>
                <a:close/>
              </a:path>
              <a:path fill="darken" w="36012" h="21600">
                <a:moveTo>
                  <a:pt x="36012" y="0"/>
                </a:moveTo>
                <a:lnTo>
                  <a:pt x="36012" y="21600"/>
                </a:lnTo>
                <a:lnTo>
                  <a:pt x="34662" y="20250"/>
                </a:lnTo>
                <a:lnTo>
                  <a:pt x="34662" y="1350"/>
                </a:lnTo>
                <a:close/>
              </a:path>
              <a:path fill="darkenLess" w="36012" h="21600">
                <a:moveTo>
                  <a:pt x="3601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4662" y="20250"/>
                </a:lnTo>
                <a:close/>
              </a:path>
              <a:path fill="lighten" w="3601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6012" h="21600">
                <a:moveTo>
                  <a:pt x="10962" y="3756"/>
                </a:moveTo>
                <a:lnTo>
                  <a:pt x="25050" y="10800"/>
                </a:lnTo>
                <a:lnTo>
                  <a:pt x="10962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>
            <a:hlinkClick r:id="rId2"/>
          </p:cNvPr>
          <p:cNvSpPr/>
          <p:nvPr/>
        </p:nvSpPr>
        <p:spPr>
          <a:xfrm>
            <a:off x="8172360" y="4581360"/>
            <a:ext cx="432000" cy="216000"/>
          </a:xfrm>
          <a:custGeom>
            <a:avLst/>
            <a:gdLst>
              <a:gd name="textAreaLeft" fmla="*/ 13320 w 432000"/>
              <a:gd name="textAreaRight" fmla="*/ 418680 w 432000"/>
              <a:gd name="textAreaTop" fmla="*/ 13320 h 216000"/>
              <a:gd name="textAreaBottom" fmla="*/ 20268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814" y="1350"/>
                </a:lnTo>
                <a:lnTo>
                  <a:pt x="1350" y="135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814" y="20250"/>
                </a:lnTo>
                <a:lnTo>
                  <a:pt x="41814" y="135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1814" y="2025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3164" h="21600">
                <a:moveTo>
                  <a:pt x="14538" y="3756"/>
                </a:moveTo>
                <a:lnTo>
                  <a:pt x="28626" y="10800"/>
                </a:lnTo>
                <a:lnTo>
                  <a:pt x="14538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4360" y="692280"/>
            <a:ext cx="73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      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因为这个地方充满了人与人之间的信任和被信任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previousslide"/>
            <a:hlinkClick r:id="rId1"/>
          </p:cNvPr>
          <p:cNvSpPr/>
          <p:nvPr/>
        </p:nvSpPr>
        <p:spPr>
          <a:xfrm>
            <a:off x="8101080" y="6165720"/>
            <a:ext cx="503280" cy="287640"/>
          </a:xfrm>
          <a:custGeom>
            <a:avLst/>
            <a:gdLst>
              <a:gd name="textAreaLeft" fmla="*/ 18000 w 503280"/>
              <a:gd name="textAreaRight" fmla="*/ 485640 w 503280"/>
              <a:gd name="textAreaTop" fmla="*/ 18000 h 287640"/>
              <a:gd name="textAreaBottom" fmla="*/ 270000 h 287640"/>
            </a:gdLst>
            <a:ahLst/>
            <a:rect l="textAreaLeft" t="textAreaTop" r="textAreaRight" b="textAreaBottom"/>
            <a:pathLst>
              <a:path w="37773" h="21600">
                <a:moveTo>
                  <a:pt x="0" y="0"/>
                </a:moveTo>
                <a:lnTo>
                  <a:pt x="37773" y="0"/>
                </a:lnTo>
                <a:lnTo>
                  <a:pt x="37773" y="21600"/>
                </a:lnTo>
                <a:lnTo>
                  <a:pt x="0" y="21600"/>
                </a:lnTo>
                <a:close/>
              </a:path>
              <a:path fill="lightenLess" w="37773" h="21600">
                <a:moveTo>
                  <a:pt x="0" y="0"/>
                </a:moveTo>
                <a:lnTo>
                  <a:pt x="37773" y="0"/>
                </a:lnTo>
                <a:lnTo>
                  <a:pt x="36423" y="1350"/>
                </a:lnTo>
                <a:lnTo>
                  <a:pt x="1350" y="1350"/>
                </a:lnTo>
                <a:close/>
              </a:path>
              <a:path fill="darken" w="37773" h="21600">
                <a:moveTo>
                  <a:pt x="37773" y="0"/>
                </a:moveTo>
                <a:lnTo>
                  <a:pt x="37773" y="21600"/>
                </a:lnTo>
                <a:lnTo>
                  <a:pt x="36423" y="20250"/>
                </a:lnTo>
                <a:lnTo>
                  <a:pt x="36423" y="1350"/>
                </a:lnTo>
                <a:close/>
              </a:path>
              <a:path fill="darkenLess" w="37773" h="21600">
                <a:moveTo>
                  <a:pt x="3777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23" y="20250"/>
                </a:lnTo>
                <a:close/>
              </a:path>
              <a:path fill="lighten" w="3777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73" h="21600">
                <a:moveTo>
                  <a:pt x="11843" y="10800"/>
                </a:moveTo>
                <a:lnTo>
                  <a:pt x="25930" y="3756"/>
                </a:lnTo>
                <a:lnTo>
                  <a:pt x="25930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5724360" cy="314496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3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44280"/>
            <a:ext cx="8893080" cy="6670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95640" y="765000"/>
            <a:ext cx="453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411280" y="404640"/>
            <a:ext cx="47530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ecee"/>
                </a:solidFill>
                <a:latin typeface="宋体"/>
              </a:rPr>
              <a:t>信任</a:t>
            </a:r>
            <a:endParaRPr b="0" lang="en-US" sz="6000" spc="-1" strike="noStrike">
              <a:ln w="9360">
                <a:solidFill>
                  <a:srgbClr val="000000"/>
                </a:solidFill>
                <a:miter/>
              </a:ln>
              <a:solidFill>
                <a:srgbClr val="d6ecee"/>
              </a:solidFill>
              <a:latin typeface="宋体"/>
              <a:ea typeface="宋体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95280" y="249228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     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表达了我对那个朴实而又纯洁的地方的依恋之情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 rot="20103600">
            <a:off x="5651640" y="333000"/>
            <a:ext cx="3173400" cy="2538360"/>
          </a:xfrm>
          <a:prstGeom prst="rect">
            <a:avLst/>
          </a:prstGeom>
          <a:ln w="0">
            <a:noFill/>
          </a:ln>
        </p:spPr>
      </p:pic>
      <p:sp>
        <p:nvSpPr>
          <p:cNvPr id="126" name="">
            <a:hlinkClick r:id="" action="ppaction://hlinkshowjump?jump=previousslide"/>
            <a:hlinkClick r:id="rId2"/>
          </p:cNvPr>
          <p:cNvSpPr/>
          <p:nvPr/>
        </p:nvSpPr>
        <p:spPr>
          <a:xfrm>
            <a:off x="8101080" y="6165720"/>
            <a:ext cx="503280" cy="287640"/>
          </a:xfrm>
          <a:custGeom>
            <a:avLst/>
            <a:gdLst>
              <a:gd name="textAreaLeft" fmla="*/ 18000 w 503280"/>
              <a:gd name="textAreaRight" fmla="*/ 485640 w 503280"/>
              <a:gd name="textAreaTop" fmla="*/ 18000 h 287640"/>
              <a:gd name="textAreaBottom" fmla="*/ 270000 h 287640"/>
            </a:gdLst>
            <a:ahLst/>
            <a:rect l="textAreaLeft" t="textAreaTop" r="textAreaRight" b="textAreaBottom"/>
            <a:pathLst>
              <a:path w="37773" h="21600">
                <a:moveTo>
                  <a:pt x="0" y="0"/>
                </a:moveTo>
                <a:lnTo>
                  <a:pt x="37773" y="0"/>
                </a:lnTo>
                <a:lnTo>
                  <a:pt x="37773" y="21600"/>
                </a:lnTo>
                <a:lnTo>
                  <a:pt x="0" y="21600"/>
                </a:lnTo>
                <a:close/>
              </a:path>
              <a:path fill="lightenLess" w="37773" h="21600">
                <a:moveTo>
                  <a:pt x="0" y="0"/>
                </a:moveTo>
                <a:lnTo>
                  <a:pt x="37773" y="0"/>
                </a:lnTo>
                <a:lnTo>
                  <a:pt x="36423" y="1350"/>
                </a:lnTo>
                <a:lnTo>
                  <a:pt x="1350" y="1350"/>
                </a:lnTo>
                <a:close/>
              </a:path>
              <a:path fill="darken" w="37773" h="21600">
                <a:moveTo>
                  <a:pt x="37773" y="0"/>
                </a:moveTo>
                <a:lnTo>
                  <a:pt x="37773" y="21600"/>
                </a:lnTo>
                <a:lnTo>
                  <a:pt x="36423" y="20250"/>
                </a:lnTo>
                <a:lnTo>
                  <a:pt x="36423" y="1350"/>
                </a:lnTo>
                <a:close/>
              </a:path>
              <a:path fill="darkenLess" w="37773" h="21600">
                <a:moveTo>
                  <a:pt x="3777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6423" y="20250"/>
                </a:lnTo>
                <a:close/>
              </a:path>
              <a:path fill="lighten" w="3777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7773" h="21600">
                <a:moveTo>
                  <a:pt x="11843" y="10800"/>
                </a:moveTo>
                <a:lnTo>
                  <a:pt x="25930" y="3756"/>
                </a:lnTo>
                <a:lnTo>
                  <a:pt x="25930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692360" y="1557360"/>
            <a:ext cx="5832360" cy="2448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桃子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自采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五千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132000" y="4076640"/>
            <a:ext cx="69840" cy="1297080"/>
          </a:xfrm>
          <a:prstGeom prst="rect">
            <a:avLst/>
          </a:prstGeom>
          <a:solidFill>
            <a:srgbClr val="bbe0e3"/>
          </a:solid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6012000" y="4076640"/>
            <a:ext cx="69840" cy="1297080"/>
          </a:xfrm>
          <a:prstGeom prst="rect">
            <a:avLst/>
          </a:prstGeom>
          <a:solidFill>
            <a:srgbClr val="ffff00"/>
          </a:solid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189000"/>
            <a:ext cx="338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cc"/>
                </a:solidFill>
                <a:latin typeface="Arial"/>
                <a:ea typeface="楷体_GB2312"/>
              </a:rPr>
              <a:t>告示牌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48000" y="54936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你们又有什么新收获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4360" y="321300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在那里，我们得到的是人与人之间的信任和被信任喜悦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87280" y="0"/>
            <a:ext cx="6048720" cy="263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本文的中心句：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7082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95280" y="0"/>
            <a:ext cx="280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"/>
                <a:ea typeface="楷体_GB2312"/>
              </a:rPr>
              <a:t>小结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00000" y="1125360"/>
            <a:ext cx="7201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是的，它不仅仅把人们引领到果园，更重要的是把人们引向了互相尊重的崇高境界，使人们得到了人与人之间的信任和被信任的喜悦。同学们，相互的信任是一种快乐，被别人信任更是一种幸福，那就让我们在生活中给予信任、收获喜悦、享受真诚带给我们的幸福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276720" y="0"/>
            <a:ext cx="36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ial"/>
                <a:ea typeface="楷体_GB2312"/>
              </a:rPr>
              <a:t>23.</a:t>
            </a:r>
            <a:r>
              <a:rPr b="0" lang="zh-CN" sz="5400" spc="-1" strike="noStrike">
                <a:solidFill>
                  <a:srgbClr val="0000cc"/>
                </a:solidFill>
                <a:latin typeface="Arial"/>
                <a:ea typeface="楷体_GB2312"/>
              </a:rPr>
              <a:t>信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42920" y="1052640"/>
            <a:ext cx="68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桃园主人            采摘客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43280" y="2060640"/>
            <a:ext cx="60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告示引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71640" y="378936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自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43280" y="4581360"/>
            <a:ext cx="60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猫狗待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5640" y="558972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Arial"/>
              </a:rPr>
              <a:t>人与人之间的信任和被信任的喜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43280" y="2924280"/>
            <a:ext cx="60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纸条留言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56000" y="378936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自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</a:rPr>
              <a:t>课外练笔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、桃园的主人在桌上放着留言，请你代表摘桃子的人们，也给桃园的主人留下几句话，可以表示感谢，也可以谈谈感受，不少于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30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字的表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、假如你和你的家人或者你和你的同学去那个桃树林，会发生什么事呢？请你展开想象，说说“我们的一次摘桃经历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767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5" dur="767" fill="hold"/>
                                        <p:tgtEl>
                                          <p:spTgt spid="1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6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7" dur="767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8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9" dur="767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0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2771640" y="2421000"/>
            <a:ext cx="3364200" cy="19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7000"/>
                    </a:srgbClr>
                  </a:outerShdw>
                </a:effectLst>
                <a:latin typeface="黑体"/>
              </a:rPr>
              <a:t>再见！</a:t>
            </a:r>
            <a:endParaRPr b="1" lang="en-US" sz="18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zoom dir="out"/>
    <p:sndAc>
      <p:stSnd>
        <p:snd r:embed="rId3" name="chimes.wav"/>
      </p:stSnd>
    </p:sndAc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2528" t="0" r="0" b="12004"/>
          <a:stretch/>
        </p:blipFill>
        <p:spPr>
          <a:xfrm>
            <a:off x="115920" y="3645000"/>
            <a:ext cx="4456080" cy="2840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0" t="0" r="1112" b="10748"/>
          <a:stretch/>
        </p:blipFill>
        <p:spPr>
          <a:xfrm>
            <a:off x="4572000" y="3616200"/>
            <a:ext cx="4521240" cy="2894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rcRect l="0" t="0" r="3416" b="11780"/>
          <a:stretch/>
        </p:blipFill>
        <p:spPr>
          <a:xfrm>
            <a:off x="179280" y="260280"/>
            <a:ext cx="4416480" cy="3216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rcRect l="113" t="8120" r="0" b="0"/>
          <a:stretch/>
        </p:blipFill>
        <p:spPr>
          <a:xfrm>
            <a:off x="4576680" y="295200"/>
            <a:ext cx="4567320" cy="33498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5" name="chimes.wav"/>
      </p:stSnd>
    </p:sndAc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63640" y="2443320"/>
            <a:ext cx="14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11640" y="2514600"/>
            <a:ext cx="14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45080" y="244332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179064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li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2920" y="1790640"/>
            <a:ext cx="11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fè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72360" y="1719360"/>
            <a:ext cx="107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zh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4360" y="387972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树荫  丰实  尽收眼底   栅栏   朴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5640" y="5751360"/>
            <a:ext cx="74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跳跃欢吠    根深叶茂   沁人心脾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43120" y="5197320"/>
            <a:ext cx="5781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4888080"/>
            <a:ext cx="79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馋涎欲滴    沉浸   淘气  小心翼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333360"/>
            <a:ext cx="61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"/>
                <a:ea typeface="楷体_GB2312"/>
              </a:rPr>
              <a:t>复习生字、词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908000" y="1701720"/>
            <a:ext cx="5904000" cy="2448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708360" y="4437000"/>
            <a:ext cx="69840" cy="1297080"/>
          </a:xfrm>
          <a:prstGeom prst="rect">
            <a:avLst/>
          </a:prstGeom>
          <a:solidFill>
            <a:srgbClr val="bbe0e3"/>
          </a:solid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227640" y="4437000"/>
            <a:ext cx="69840" cy="1297080"/>
          </a:xfrm>
          <a:prstGeom prst="rect">
            <a:avLst/>
          </a:prstGeom>
          <a:solidFill>
            <a:srgbClr val="ffff00"/>
          </a:solid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3333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品读句子，体会情感变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92360" y="1989000"/>
            <a:ext cx="640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1989000"/>
            <a:ext cx="403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桃子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自采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五千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5300640"/>
            <a:ext cx="853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4508640"/>
            <a:ext cx="1011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可见（        ）是一切信任的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979640" y="4365720"/>
            <a:ext cx="18288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仿宋_GB2312"/>
              </a:rPr>
              <a:t>告示引路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仿宋_GB2312"/>
              <a:ea typeface="仿宋_GB2312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（自采）写出了主人对客人的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66760" y="3036960"/>
            <a:ext cx="693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35120" y="3397320"/>
            <a:ext cx="7292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95480" y="3900600"/>
            <a:ext cx="736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写出了主人对来果园采摘游客的信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3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55640" y="6922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    “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终于</a:t>
            </a: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有一天，我和富兰克决定去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看个</a:t>
            </a: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（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     </a:t>
            </a: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）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2492280"/>
            <a:ext cx="802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究竟：在本课中理解为“结果；原委”。它还有“到底”的意思，如“她究竟想干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56000" y="126828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究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89000"/>
            <a:ext cx="54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Arial"/>
                <a:ea typeface="楷体_GB2312"/>
              </a:rPr>
              <a:t>认识桃园主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170028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默读课文，思考：这位桃园主人是怎样的一个人？从文中你对他有哪些了解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27280" y="3716280"/>
            <a:ext cx="49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900cc"/>
                </a:solidFill>
                <a:latin typeface="Arial"/>
                <a:ea typeface="楷体_GB2312"/>
              </a:rPr>
              <a:t>热情、真诚、勤劳、善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40464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桃园的主人在课文描写中并没有出现，你们是怎样对他有这样深入的了解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249228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  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这种借助其他事物来刻画人物的方法叫侧面描写，起烘托作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1" name="chimes.wav"/>
      </p:stSnd>
    </p:sndAc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09:36:32Z</dcterms:created>
  <dc:creator>Administrator</dc:creator>
  <dc:description/>
  <dc:language>en-US</dc:language>
  <cp:lastModifiedBy/>
  <dcterms:modified xsi:type="dcterms:W3CDTF">2015-07-28T01:36:52Z</dcterms:modified>
  <cp:revision>11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