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FBF2-906D-4146-B5B9-2395082F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BF57-D1B6-44EC-828E-47465055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27D5-07AD-464B-AA82-3BD032F1F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BBA4-8D39-4F14-B6E7-A15A6CB4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471C-9C92-46DB-8504-5B8B7832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D3C1-8533-4461-B1D1-6726E918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3952-5A1C-4D94-98E0-1DF76483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A8C3-0837-4000-9258-4663B7A3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18B7-7614-489D-98AE-04B2D886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2E3D-9D19-4F62-8BE5-0CC64BD4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3563-1774-4873-85F1-8AE699CE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B742-CB7F-43F5-B35D-EBFE3948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9560-C43A-48C0-83F2-5C016F58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BA03-2119-4A1C-83AE-C44CB911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B895-DBF2-4902-8137-D84785F4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D359-AAD6-49FD-BE2E-A4BED210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FF4B-EFA6-4BEC-A105-B6781DBA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F1E0-D41C-4D28-9CFD-59164EB0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D947-EFBD-4965-85C0-896DE5A4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0EF7-BF06-4FA7-A3FA-8E9CB994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5016-765B-41C3-BD10-5BC02EFE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CD21-EA58-4ECE-BD03-BDF423CF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DD56-D3A2-4410-8354-0B964A85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445C-CD0C-4BF9-B38D-77A4D778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48E5-C238-4B6D-86EE-4E909FB7C01C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F1F1-965B-46E5-950B-D20FEE051B60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95280" y="2276640"/>
            <a:ext cx="792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1010"/>
                </a:solidFill>
                <a:latin typeface="黑体"/>
                <a:ea typeface="黑体"/>
              </a:rPr>
              <a:t>《宿新市徐公店》 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11280" y="155736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杨万里（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1127-1206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），字廷秀，自号诚斋野客，与陆游、范成大、尤袤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mào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齐名，被后人推为“南宋四大家”。他一生为官清廉，为奸相所害，被罢官闲居十五年。他的诗大量吸收民间语言，描述细腻，形象鲜明，平易自然。因为他长期居住农村，对农村的田园生活十分熟悉，所以描写自然景物也就更加真切感人，别有风趣。</a:t>
            </a:r>
            <a:r>
              <a:rPr b="0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 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9000" y="404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Arial"/>
                <a:ea typeface="黑体"/>
              </a:rPr>
              <a:t>作者资料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32000" y="1779120"/>
            <a:ext cx="37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解题：宿：过夜。</a:t>
            </a:r>
            <a:r>
              <a:rPr b="0" lang="zh-CN" sz="36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436572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作者住在新市徐公店时见到一幅怎样的画面呢？表达了一种怎样的感情呢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40000" y="62064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1010"/>
                </a:solidFill>
                <a:latin typeface="Arial"/>
                <a:ea typeface="楷体_GB2312"/>
              </a:rPr>
              <a:t>宿新市徐公店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267012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诗题意思：在新市姓徐的人开的客店里过夜</a:t>
            </a:r>
            <a:r>
              <a:rPr b="0" lang="zh-CN" sz="36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0000" y="112536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宿新市徐公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773360"/>
            <a:ext cx="51148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Times New Roman"/>
                <a:ea typeface="楷体_GB2312"/>
              </a:rPr>
              <a:t>篱落疏疏一径深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Times New Roman"/>
                <a:ea typeface="楷体_GB2312"/>
              </a:rPr>
              <a:t>树头花落未成阴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Times New Roman"/>
                <a:ea typeface="楷体_GB2312"/>
              </a:rPr>
              <a:t>儿童急走追黄蝶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Times New Roman"/>
                <a:ea typeface="楷体_GB2312"/>
              </a:rPr>
              <a:t>飞入菜花无处寻</a:t>
            </a: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356000" y="981000"/>
            <a:ext cx="4176720" cy="4392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40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010"/>
                </a:solidFill>
                <a:latin typeface="黑体"/>
                <a:ea typeface="黑体"/>
              </a:rPr>
              <a:t>自学理解</a:t>
            </a:r>
            <a:r>
              <a:rPr b="1" lang="zh-CN" sz="3600" spc="-1" strike="noStrike">
                <a:solidFill>
                  <a:srgbClr val="00101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558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．不理解的字、词划出讨论，初步理解每句诗意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．诗中抓住哪些景物写出了暮春时节的美丽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03280" y="1052640"/>
            <a:ext cx="49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010"/>
                </a:solidFill>
                <a:latin typeface="Arial"/>
                <a:ea typeface="楷体_GB2312"/>
              </a:rPr>
              <a:t>篱落疏疏一径深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010"/>
                </a:solidFill>
                <a:latin typeface="Arial"/>
                <a:ea typeface="楷体_GB2312"/>
              </a:rPr>
              <a:t>树头花落未成阴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36440" y="25956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前两句写了哪几种景物？有什么特点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63720" y="2636280"/>
            <a:ext cx="13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篱落：篱笆。（疏疏：稀疏。）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74280" y="321228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径：小路。（深：深远。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50680" y="1154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（远望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46000" y="1911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（近观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000" y="378864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树头：树枝头。（未：没有。 阴：树荫。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544212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  <a:ea typeface="楷体_GB2312"/>
              </a:rPr>
              <a:t>　　稀疏的篱笆旁边，有一条小路深向远方。树上的花已经落了，但树叶还不茂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83200" y="45043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010"/>
                </a:solidFill>
                <a:latin typeface="Arial"/>
                <a:ea typeface="黑体"/>
              </a:rPr>
              <a:t>用自己的话说说这两句诗的意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95280" y="115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黑体"/>
              </a:rPr>
              <a:t>　　这稀疏的篱笆，长长的小路，叶儿不浓密的树，构成了一幅清新、质朴的农村景色图。在这一背景下，作者又看到一幅更为活泼生动的图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1557360"/>
            <a:ext cx="48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010"/>
                </a:solidFill>
                <a:latin typeface="Arial"/>
                <a:ea typeface="楷体_GB2312"/>
              </a:rPr>
              <a:t>儿童急走追黄蝶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010"/>
                </a:solidFill>
                <a:latin typeface="Arial"/>
                <a:ea typeface="楷体_GB2312"/>
              </a:rPr>
              <a:t>飞入菜花无处寻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43800" y="4294080"/>
            <a:ext cx="6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处：地方。寻：寻找。</a:t>
            </a:r>
            <a:r>
              <a:rPr b="0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73240" y="3646440"/>
            <a:ext cx="6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走：跑。急走：快跑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62120" y="2997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抓住哪些景？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720" y="2997360"/>
            <a:ext cx="22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黑体"/>
                <a:ea typeface="黑体"/>
              </a:rPr>
              <a:t>儿童  黄蝶   菜花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79680" y="42940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追到没有？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9720" y="4941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010"/>
                </a:solidFill>
                <a:latin typeface="Arial"/>
                <a:ea typeface="黑体"/>
              </a:rPr>
              <a:t>用自己的话说说这两句诗的意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72400" y="5372640"/>
            <a:ext cx="119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　　儿童奔跑着追逐黄色的蝴蝶。黄色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蝴蝶飞入金黄色的菜花丛中，再也找不到了。</a:t>
            </a:r>
            <a:r>
              <a:rPr b="0" lang="zh-CN" sz="32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96912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　　诗中前两句是静态描写，后两句是动态描写，全诗动静结合，情景交融，充满了春的气息，特别是后两句，儿童捕蝶的画面跃然纸上，栩栩如生，仿佛就是眼前。说说看，你仿佛看到了什么呢？听到了什么呢？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249228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宿新市徐公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3079800"/>
            <a:ext cx="51148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Times New Roman"/>
                <a:ea typeface="楷体_GB2312"/>
              </a:rPr>
              <a:t>篱落疏疏一径深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Times New Roman"/>
                <a:ea typeface="楷体_GB2312"/>
              </a:rPr>
              <a:t>树头花落未成阴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Times New Roman"/>
                <a:ea typeface="楷体_GB2312"/>
              </a:rPr>
              <a:t>儿童急走追黄蝶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Times New Roman"/>
                <a:ea typeface="楷体_GB2312"/>
              </a:rPr>
              <a:t>飞入菜花无处寻</a:t>
            </a: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427640" y="2133720"/>
            <a:ext cx="41767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9640" y="40464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010"/>
                </a:solidFill>
                <a:latin typeface="黑体"/>
                <a:ea typeface="黑体"/>
              </a:rPr>
              <a:t>小 结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127332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010"/>
                </a:solidFill>
                <a:latin typeface="黑体"/>
                <a:ea typeface="黑体"/>
              </a:rPr>
              <a:t>　　这首诗作者把景物与人物融为一体，描绘了一幅动静结合的画面，极富生活情趣，作者的喜悦之情也尽在对景物、人物的描写之中。 此诗一方面描绘了乡村幽静的风光，另一方面写出了农村儿童活泼可爱、顽皮天真的情趣。在这首诗的字里行间，洋溢着诗人对农家安逸生活的陶醉，也透出了诗人内心被天真烂漫的儿童所撩起的片片童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09:35:00Z</dcterms:created>
  <dc:creator>liupeng</dc:creator>
  <dc:description/>
  <dc:language>en-US</dc:language>
  <cp:lastModifiedBy>Administrator</cp:lastModifiedBy>
  <dcterms:modified xsi:type="dcterms:W3CDTF">2015-03-03T01:36:12Z</dcterms:modified>
  <cp:revision>202</cp:revision>
  <dc:subject/>
  <dc:title>幻灯片 1</dc:title>
</cp:coreProperties>
</file>