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947-64EC-4C90-ADFE-9E5C0F52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935-9229-4237-B55B-6C41031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290-DC36-4ACC-8908-73C2ED7C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E2D-2CB6-4352-A85D-3FAB3401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86E-ACAA-48BA-B550-EB83E2D7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135-780A-4883-9C2F-B314EFE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0D3-E347-4C2F-A1B3-13FF444D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AB5-B0C8-4070-8FDD-B9DE3EA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D8E-D98C-4B65-943A-EA30AB27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345-E1DF-4933-8BB8-0E6168F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793-D03D-45D1-A1AC-9AFD6E4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916-FA0E-4002-834E-B51E37A5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FD4-0449-4099-B99C-239D5962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304,25,&#24187;&#28783;&#29255; 25" TargetMode="External"/><Relationship Id="rId2" Type="http://schemas.openxmlformats.org/officeDocument/2006/relationships/hyperlink" Target="299,26,&#24187;&#28783;&#29255; 26" TargetMode="External"/><Relationship Id="rId3" Type="http://schemas.openxmlformats.org/officeDocument/2006/relationships/hyperlink" Target="300,27,&#24187;&#28783;&#29255; 27" TargetMode="External"/><Relationship Id="rId4" Type="http://schemas.openxmlformats.org/officeDocument/2006/relationships/hyperlink" Target="302,29,&#24187;&#28783;&#29255; 29" TargetMode="External"/><Relationship Id="rId5" Type="http://schemas.openxmlformats.org/officeDocument/2006/relationships/hyperlink" Target="303,30,&#24187;&#28783;&#29255; 30" TargetMode="External"/><Relationship Id="rId6" Type="http://schemas.openxmlformats.org/officeDocument/2006/relationships/hyperlink" Target="303,30,&#24187;&#28783;&#29255; 30" TargetMode="External"/><Relationship Id="rId7" Type="http://schemas.openxmlformats.org/officeDocument/2006/relationships/hyperlink" Target="303,30,&#24187;&#28783;&#29255; 30" TargetMode="External"/><Relationship Id="rId8" Type="http://schemas.openxmlformats.org/officeDocument/2006/relationships/hyperlink" Target="303,30,&#24187;&#28783;&#29255; 30" TargetMode="External"/><Relationship Id="rId9" Type="http://schemas.openxmlformats.org/officeDocument/2006/relationships/hyperlink" Target="259,18,&#24187;&#28783;&#29255; 18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46144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徐霞客游记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2"/>
          <p:cNvPicPr/>
          <p:nvPr/>
        </p:nvPicPr>
        <p:blipFill>
          <a:blip r:embed="rId1"/>
          <a:stretch/>
        </p:blipFill>
        <p:spPr>
          <a:xfrm>
            <a:off x="34920" y="765000"/>
            <a:ext cx="4238640" cy="5832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4356000" y="2889360"/>
            <a:ext cx="4788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徐霞客游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日记体为主的中国地理名著。明末徐弘祖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年旅行，写有天台山、雁荡山、黄山、庐山等名山游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浙游日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江右游日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楚游日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粤西游日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黔游日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滇游日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著作，遗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余万字游记资料。死后由他人整理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徐霞客游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对地理、水文、地质、植物等现象，均作详细记录，在地理学和文学上卓有成就。 </a:t>
            </a: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6597720"/>
            <a:ext cx="826920" cy="260280"/>
          </a:xfrm>
          <a:custGeom>
            <a:avLst/>
            <a:gdLst>
              <a:gd name="textAreaLeft" fmla="*/ 16200 w 826920"/>
              <a:gd name="textAreaRight" fmla="*/ 810720 w 826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68559" h="21600">
                <a:moveTo>
                  <a:pt x="0" y="0"/>
                </a:moveTo>
                <a:lnTo>
                  <a:pt x="68559" y="0"/>
                </a:lnTo>
                <a:lnTo>
                  <a:pt x="68559" y="21600"/>
                </a:lnTo>
                <a:lnTo>
                  <a:pt x="0" y="21600"/>
                </a:lnTo>
                <a:close/>
              </a:path>
              <a:path fill="lightenLess" w="68559" h="21600">
                <a:moveTo>
                  <a:pt x="0" y="0"/>
                </a:moveTo>
                <a:lnTo>
                  <a:pt x="68559" y="0"/>
                </a:lnTo>
                <a:lnTo>
                  <a:pt x="67209" y="1350"/>
                </a:lnTo>
                <a:lnTo>
                  <a:pt x="1350" y="1350"/>
                </a:lnTo>
                <a:close/>
              </a:path>
              <a:path fill="darken" w="68559" h="21600">
                <a:moveTo>
                  <a:pt x="68559" y="0"/>
                </a:moveTo>
                <a:lnTo>
                  <a:pt x="68559" y="21600"/>
                </a:lnTo>
                <a:lnTo>
                  <a:pt x="67209" y="20250"/>
                </a:lnTo>
                <a:lnTo>
                  <a:pt x="67209" y="1350"/>
                </a:lnTo>
                <a:close/>
              </a:path>
              <a:path fill="darkenLess" w="68559" h="21600">
                <a:moveTo>
                  <a:pt x="685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7209" y="20250"/>
                </a:lnTo>
                <a:close/>
              </a:path>
              <a:path fill="lighten" w="685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8559" h="21600">
                <a:moveTo>
                  <a:pt x="27236" y="3756"/>
                </a:moveTo>
                <a:lnTo>
                  <a:pt x="41323" y="10800"/>
                </a:lnTo>
                <a:lnTo>
                  <a:pt x="2723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游历生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岁起，徐霞客开始了游历考察生涯。三十多年间，他先后四次进行了长距离的跋涉，足迹遍及全国。游历过程中，曾三次遭遇强盗，四次绝粮。更为可贵的是，徐霞客在野外考察生活中，每天不管多么劳累，都要把当天的经历和观察记录下来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获得的成果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徐霞客通过亲身的考察，论证了金沙江是长江的正源，辨明了左江、右江、大盈江、澜沧江等许多水道的源流，也是世界上最早对石灰岩地貌进行系统考察的地理学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他写的游记，既是地理学上珍贵的文献，又是笔法精湛的游记文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图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6"/>
          <p:cNvSpPr txBox="1"/>
          <p:nvPr/>
        </p:nvSpPr>
        <p:spPr>
          <a:xfrm>
            <a:off x="1403280" y="404640"/>
            <a:ext cx="633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徐霞客故居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man-in-hill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TW" sz="5400" spc="-1" strike="noStrike">
                <a:solidFill>
                  <a:srgbClr val="ff3300"/>
                </a:solidFill>
                <a:latin typeface="Arial"/>
              </a:rPr>
              <a:t>徐霞客的石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man-in-hill%5b1%5d"/>
          <p:cNvPicPr/>
          <p:nvPr/>
        </p:nvPicPr>
        <p:blipFill>
          <a:blip r:embed="rId2"/>
          <a:srcRect l="57703" t="90718" r="41085" b="7377"/>
          <a:stretch/>
        </p:blipFill>
        <p:spPr>
          <a:xfrm>
            <a:off x="2316240" y="2206800"/>
            <a:ext cx="46080" cy="45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72360" y="53006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结合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整体阅读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把握主要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理清文章脉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体会思想感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349360"/>
            <a:ext cx="129528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1916280"/>
            <a:ext cx="289080" cy="288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620640"/>
            <a:ext cx="5976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不求功名，立志考察探险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341360"/>
            <a:ext cx="5327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不畏艰险，毅力超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1989000"/>
            <a:ext cx="52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求真求实，锲而不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2708280"/>
            <a:ext cx="6842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成就千古奇书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徐霞客游记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765000"/>
            <a:ext cx="288720" cy="2259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58680 h 2259360"/>
              <a:gd name="textAreaBottom" fmla="*/ 2200680 h 225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105264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奇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36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奇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076640"/>
            <a:ext cx="6443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它具有很高的科学价值和文学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7340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读来进一步体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6381720"/>
            <a:ext cx="1008000" cy="476280"/>
          </a:xfrm>
          <a:custGeom>
            <a:avLst/>
            <a:gdLst>
              <a:gd name="textAreaLeft" fmla="*/ 29520 w 1008000"/>
              <a:gd name="textAreaRight" fmla="*/ 978480 w 100800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346" y="1350"/>
                </a:lnTo>
                <a:lnTo>
                  <a:pt x="1350" y="135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346" y="20250"/>
                </a:lnTo>
                <a:lnTo>
                  <a:pt x="44346" y="135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346" y="2025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5696" h="21600">
                <a:moveTo>
                  <a:pt x="15804" y="3756"/>
                </a:moveTo>
                <a:lnTo>
                  <a:pt x="29892" y="10800"/>
                </a:lnTo>
                <a:lnTo>
                  <a:pt x="1580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99"/>
                </a:solidFill>
                <a:latin typeface="Arial"/>
              </a:rPr>
              <a:t>回归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9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①徐霞客是明朝末年的一位奇人。他用双脚，一步一步地走遍了半个中国大陆，游览过许多名山大川，经历过许多奇人异事，并且把他游历的观察和研究记录下来，写成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徐霞客游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本千古奇书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516640"/>
            <a:ext cx="1224000" cy="792000"/>
          </a:xfrm>
          <a:custGeom>
            <a:avLst/>
            <a:gdLst>
              <a:gd name="textAreaLeft" fmla="*/ 49320 w 1224000"/>
              <a:gd name="textAreaRight" fmla="*/ 1174680 w 1224000"/>
              <a:gd name="textAreaTop" fmla="*/ 49320 h 792000"/>
              <a:gd name="textAreaBottom" fmla="*/ 7426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2026" y="1350"/>
                </a:lnTo>
                <a:lnTo>
                  <a:pt x="1350" y="135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2026" y="20250"/>
                </a:lnTo>
                <a:lnTo>
                  <a:pt x="32026" y="135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6" y="2025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376" h="21600">
                <a:moveTo>
                  <a:pt x="9644" y="3756"/>
                </a:moveTo>
                <a:lnTo>
                  <a:pt x="23732" y="10800"/>
                </a:lnTo>
                <a:lnTo>
                  <a:pt x="964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3336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②当时的读书人，都忙着追求科举功名，抱着“十年寒窗无人问，一举成名天下知”的观念，埋头于经书之中。徐霞客却卓尔不群，醉心于古今史籍及地志、山海图经的收集和研读。他发现此类书籍很少，记述简略且多有相互矛盾之处，于是他立下雄心壮志，要走遍天下，亲自考察。此后三十多年，他与长风为伍，云雾为伴，行程九万里，历尽千辛万苦，获得大量第一手考察资料。徐霞客日间攀险峰，涉危涧，晚上就是再疲劳，也一定录下当日见闻。即使荒野露宿，栖身洞穴，也要“燃松拾穗，走笔为记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0000" y="6066000"/>
            <a:ext cx="1224000" cy="792000"/>
          </a:xfrm>
          <a:custGeom>
            <a:avLst/>
            <a:gdLst>
              <a:gd name="textAreaLeft" fmla="*/ 49320 w 1224000"/>
              <a:gd name="textAreaRight" fmla="*/ 1174680 w 1224000"/>
              <a:gd name="textAreaTop" fmla="*/ 49320 h 792000"/>
              <a:gd name="textAreaBottom" fmla="*/ 7426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2026" y="1350"/>
                </a:lnTo>
                <a:lnTo>
                  <a:pt x="1350" y="135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2026" y="20250"/>
                </a:lnTo>
                <a:lnTo>
                  <a:pt x="32026" y="135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6" y="2025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376" h="21600">
                <a:moveTo>
                  <a:pt x="9644" y="3756"/>
                </a:moveTo>
                <a:lnTo>
                  <a:pt x="23732" y="10800"/>
                </a:lnTo>
                <a:lnTo>
                  <a:pt x="964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4762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③徐霞客的时代，没有火车，没有汽车，没有飞机。他所去的许多地方连道路都没有，加上明朝末年治安不好，盗匪横行，长途旅行是非常艰苦又非常危险的事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1081080" cy="765000"/>
          </a:xfrm>
          <a:custGeom>
            <a:avLst/>
            <a:gdLst>
              <a:gd name="textAreaLeft" fmla="*/ 47520 w 1081080"/>
              <a:gd name="textAreaRight" fmla="*/ 1033560 w 108108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0520" h="21600">
                <a:moveTo>
                  <a:pt x="0" y="0"/>
                </a:moveTo>
                <a:lnTo>
                  <a:pt x="30520" y="0"/>
                </a:lnTo>
                <a:lnTo>
                  <a:pt x="30520" y="21600"/>
                </a:lnTo>
                <a:lnTo>
                  <a:pt x="0" y="21600"/>
                </a:lnTo>
                <a:close/>
              </a:path>
              <a:path fill="lightenLess" w="30520" h="21600">
                <a:moveTo>
                  <a:pt x="0" y="0"/>
                </a:moveTo>
                <a:lnTo>
                  <a:pt x="30520" y="0"/>
                </a:lnTo>
                <a:lnTo>
                  <a:pt x="29170" y="1350"/>
                </a:lnTo>
                <a:lnTo>
                  <a:pt x="1350" y="1350"/>
                </a:lnTo>
                <a:close/>
              </a:path>
              <a:path fill="darken" w="30520" h="21600">
                <a:moveTo>
                  <a:pt x="30520" y="0"/>
                </a:moveTo>
                <a:lnTo>
                  <a:pt x="30520" y="21600"/>
                </a:lnTo>
                <a:lnTo>
                  <a:pt x="29170" y="20250"/>
                </a:lnTo>
                <a:lnTo>
                  <a:pt x="29170" y="1350"/>
                </a:lnTo>
                <a:close/>
              </a:path>
              <a:path fill="darkenLess" w="30520" h="21600">
                <a:moveTo>
                  <a:pt x="305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170" y="20250"/>
                </a:lnTo>
                <a:close/>
              </a:path>
              <a:path fill="lighten" w="305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520" h="21600">
                <a:moveTo>
                  <a:pt x="8216" y="3756"/>
                </a:moveTo>
                <a:lnTo>
                  <a:pt x="22304" y="10800"/>
                </a:lnTo>
                <a:lnTo>
                  <a:pt x="821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623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99"/>
                </a:solidFill>
                <a:latin typeface="Arial"/>
              </a:rPr>
              <a:t>还有一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5876" r="2471" b="0"/>
          <a:stretch/>
        </p:blipFill>
        <p:spPr>
          <a:xfrm>
            <a:off x="468360" y="549360"/>
            <a:ext cx="8391600" cy="6073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62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④有一次，他和三个同伴到西南地区，沿路考察石灰岩地形和长江源流。走了二十天，一个同伴难耐旅途劳顿，不辞而别。到了衡阳附近又遭遇土匪抢劫，财物尽失，还险些被杀害。好不容易到了南宁，另一个同伴不幸病死，徐霞客忍痛继续西行。到了大理，最后一个同伴也因为吃不了苦，偷偷地走了，还带走了他仅存的行囊。但是，他还是坚持目标，继续他的研究工作，最后找到了答案，推翻历史上的错误，证明长江的源流不是岷江而是金沙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20000" y="6066000"/>
            <a:ext cx="1224000" cy="792000"/>
          </a:xfrm>
          <a:custGeom>
            <a:avLst/>
            <a:gdLst>
              <a:gd name="textAreaLeft" fmla="*/ 49320 w 1224000"/>
              <a:gd name="textAreaRight" fmla="*/ 1174680 w 1224000"/>
              <a:gd name="textAreaTop" fmla="*/ 49320 h 792000"/>
              <a:gd name="textAreaBottom" fmla="*/ 7426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2026" y="1350"/>
                </a:lnTo>
                <a:lnTo>
                  <a:pt x="1350" y="135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2026" y="20250"/>
                </a:lnTo>
                <a:lnTo>
                  <a:pt x="32026" y="135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6" y="2025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376" h="21600">
                <a:moveTo>
                  <a:pt x="9644" y="3756"/>
                </a:moveTo>
                <a:lnTo>
                  <a:pt x="23732" y="10800"/>
                </a:lnTo>
                <a:lnTo>
                  <a:pt x="964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8900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⑤徐霞客具有锲而不舍的科学研究精神。他遇到高山一定要登上峰顶，遇见山洞一定要进去探个究竟。有一次，他到广西融县的真仙岩山洞，洞口盘着一条蟒蛇，他还是设法进去，到洞里去考察。又有一次，他到湖南茶陵的麻叶洞，听说洞里有一条会吃人的神龙，没有人愿意当向导，他竟然一个人拿着火把进去。当他安全出来的时候，村人都惊讶得不得了，因为连当地人都还没有人敢进去呢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0000" y="6066000"/>
            <a:ext cx="1224000" cy="792000"/>
          </a:xfrm>
          <a:custGeom>
            <a:avLst/>
            <a:gdLst>
              <a:gd name="textAreaLeft" fmla="*/ 49320 w 1224000"/>
              <a:gd name="textAreaRight" fmla="*/ 1174680 w 1224000"/>
              <a:gd name="textAreaTop" fmla="*/ 49320 h 792000"/>
              <a:gd name="textAreaBottom" fmla="*/ 7426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2026" y="1350"/>
                </a:lnTo>
                <a:lnTo>
                  <a:pt x="1350" y="135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2026" y="20250"/>
                </a:lnTo>
                <a:lnTo>
                  <a:pt x="32026" y="135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6" y="2025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376" h="21600">
                <a:moveTo>
                  <a:pt x="9644" y="3756"/>
                </a:moveTo>
                <a:lnTo>
                  <a:pt x="23732" y="10800"/>
                </a:lnTo>
                <a:lnTo>
                  <a:pt x="964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404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⑥徐霞客一生不避艰险，走遍三江五岳，横跨了中国十六个省份。他的考察记录，经过现代地理学家的实际勘探，证明他的观察和描述非常准确，是一份很有价值的科学文献。他的游记详实生动，写山写水，都能融入深刻的感情，是我国山水文学的不朽杰作。徐霞客终其一生游历探险，阅读大地，描述自然，是我国旅游写作的先驱，也是求真求实、开创田野考察的科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20000" y="6066000"/>
            <a:ext cx="1224000" cy="792000"/>
          </a:xfrm>
          <a:custGeom>
            <a:avLst/>
            <a:gdLst>
              <a:gd name="textAreaLeft" fmla="*/ 49320 w 1224000"/>
              <a:gd name="textAreaRight" fmla="*/ 1174680 w 1224000"/>
              <a:gd name="textAreaTop" fmla="*/ 49320 h 792000"/>
              <a:gd name="textAreaBottom" fmla="*/ 7426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2026" y="1350"/>
                </a:lnTo>
                <a:lnTo>
                  <a:pt x="1350" y="135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2026" y="20250"/>
                </a:lnTo>
                <a:lnTo>
                  <a:pt x="32026" y="135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6" y="2025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376" h="21600">
                <a:moveTo>
                  <a:pt x="9644" y="3756"/>
                </a:moveTo>
                <a:lnTo>
                  <a:pt x="23732" y="10800"/>
                </a:lnTo>
                <a:lnTo>
                  <a:pt x="964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题中的“阅读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能从课文中找出关键词语来理解“阅读”的意思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06864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　　考察</a:t>
            </a:r>
            <a:r>
              <a:rPr b="0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走遍</a:t>
            </a:r>
            <a:r>
              <a:rPr b="0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游历</a:t>
            </a:r>
            <a:r>
              <a:rPr b="0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研究</a:t>
            </a:r>
            <a:r>
              <a:rPr b="0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横跨</a:t>
            </a:r>
            <a:r>
              <a:rPr b="0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0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实际勘探等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37000"/>
            <a:ext cx="882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　　指徐霞客置身于大自然中，探险、考察、了解自然的奥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6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总结全文，回归课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  </a:t>
            </a:r>
            <a:r>
              <a:rPr b="1" lang="zh-CN" sz="6000" spc="-1" strike="noStrike">
                <a:solidFill>
                  <a:srgbClr val="33cc33"/>
                </a:solidFill>
                <a:latin typeface="黑体"/>
                <a:ea typeface="黑体"/>
              </a:rPr>
              <a:t>  </a:t>
            </a:r>
            <a:r>
              <a:rPr b="1" lang="zh-CN" sz="6000" spc="-1" strike="noStrike">
                <a:solidFill>
                  <a:srgbClr val="33cc33"/>
                </a:solidFill>
                <a:latin typeface="黑体"/>
                <a:ea typeface="黑体"/>
              </a:rPr>
              <a:t>二、评价徐霞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在课文中找出四字成语或词语填在括号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徐霞客的一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　　　　　　是（     　   ）的一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　　　　　　是（   　   　）的一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　　　　　　是（          ）的一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　　　　　　是（        　）的一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联（板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393372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淡泊名利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328464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畏艰险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锲而不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15772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求真求实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50920" y="155736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隶书"/>
              </a:rPr>
              <a:t>读万卷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068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隶书"/>
              </a:rPr>
              <a:t>行万里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2c2e9f459da91799b3b7dc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布置作业、延伸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课外阅读有关徐霞客的故事和书籍，用一百字的篇幅简单介绍徐霞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89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黑体"/>
                <a:ea typeface="黑体"/>
              </a:rPr>
              <a:t>三、概述徐霞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2699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11280" y="119700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PMingLiU"/>
              </a:rPr>
              <a:t>阅读</a:t>
            </a:r>
            <a:r>
              <a:rPr b="1" lang="zh-TW" sz="6600" spc="-1" strike="noStrike">
                <a:solidFill>
                  <a:srgbClr val="ff00ff"/>
                </a:solidFill>
                <a:latin typeface="Arial"/>
                <a:ea typeface="PMingLiU"/>
              </a:rPr>
              <a:t>大地的徐霞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2c2e9f459da91799b3b7dc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24000" y="692280"/>
            <a:ext cx="8820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华文仿宋"/>
              </a:rPr>
              <a:t>阅读</a:t>
            </a:r>
            <a:r>
              <a:rPr b="1" lang="zh-TW" sz="6600" spc="-1" strike="noStrike">
                <a:solidFill>
                  <a:srgbClr val="ff00ff"/>
                </a:solidFill>
                <a:latin typeface="Arial"/>
                <a:ea typeface="华文仿宋"/>
              </a:rPr>
              <a:t>大地的徐霞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50600" cy="595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8880" y="4906800"/>
            <a:ext cx="1752840" cy="164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姓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陆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卓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宿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20968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60" y="609480"/>
            <a:ext cx="8850240" cy="595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238880" y="4906800"/>
            <a:ext cx="1752840" cy="164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栖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源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抢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锲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勘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道徐霞客为旅行考察事业做出的巨大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锻炼收集资料、整理资料及借助资料理解课文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培养概括能力、快速默读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学习任务及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了解徐霞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　借助资料收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　结合课文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评价徐霞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概述徐霞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44000" y="3284640"/>
            <a:ext cx="64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学介绍徐霞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0464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黑体"/>
                <a:ea typeface="黑体"/>
              </a:rPr>
              <a:t>一、了解徐霞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Arial"/>
                <a:ea typeface="PMingLiU"/>
              </a:rPr>
              <a:t>徐霞客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PMingLiU"/>
              </a:rPr>
              <a:t>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140360" y="189000"/>
            <a:ext cx="50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徐霞客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86—164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名弘祖，字振之，号霞客，江苏江阴人。明地理学家、旅行家和文学家。他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考察撰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徐霞客游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描绘华厦风景资源的旅游巨篇，在国内外具有深远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图4"/>
          <p:cNvPicPr/>
          <p:nvPr/>
        </p:nvPicPr>
        <p:blipFill>
          <a:blip r:embed="rId1"/>
          <a:stretch/>
        </p:blipFill>
        <p:spPr>
          <a:xfrm>
            <a:off x="108000" y="1413000"/>
            <a:ext cx="4032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0:59:24Z</dcterms:created>
  <dc:creator>Administrator</dc:creator>
  <dc:description/>
  <dc:language>en-US</dc:language>
  <cp:lastModifiedBy/>
  <dcterms:modified xsi:type="dcterms:W3CDTF">2015-07-29T01:33:08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