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B04-E5BC-4578-B862-8701C483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BBD-1BB0-4B9D-AF3A-E509EBF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6E3-2114-47F2-8A6F-ECCDB4D9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802-A9D6-4A8A-8DC0-023134FB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2C8-55A4-43A2-AB9F-1ADD2775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70E-F2BB-4CE7-AE1A-A5D56E43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42B-BBF1-4600-A160-4C0B48C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CBD2-7C5E-4CA2-8818-9487829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D1AE-32B2-439A-AB97-5B6A5C1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B622-A089-4F4E-B4B4-803E239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DFC-C19E-44CE-B7E0-EBFF653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BDB-6F89-4A9E-8D8A-BF50B6C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48C-3C8B-4723-BF3E-0B5521A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820A-3E40-4BDB-9F00-A6F2664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2C57-3E32-4209-B73D-73E9F38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F3C-B876-4E44-90DB-C1D0FC12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034-EA8C-4D73-B16B-F9E03A5A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7806-34CB-4091-8D36-CB781913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301F-3478-404D-BEBD-CACC9305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FC3D-77D4-4B5B-BDEC-CFF118F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2379-3256-44A7-B883-A04AD54D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CED5-35FE-47E1-81F8-A57EA45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90E-59D8-4C90-B517-F86CFF26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AF03-604D-4AE2-9306-3BE9F47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7633-CBD6-40E0-8147-41B4D0D6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17EB-7B08-4E18-A761-FD7F542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D630-17D5-4098-AF45-C8A10D2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C3F0-1398-4824-B118-51BEE2A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3439-357C-4243-9352-639BFC2B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3EA4-5B58-4A4A-B01D-CA467530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2354-6724-4341-A170-D8E4A23E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A6CB-B6EB-4B21-B699-BB859249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1BC1-1208-4548-BFDD-044850D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9C1-AF81-4189-AABE-ED06D0F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DF51-DBFF-4493-BFD8-E7B533E7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14B8-84F5-4A25-AED5-D75D53B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E58B-8C2A-4840-9262-ED3F4E8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4F11-0B68-48D0-8A7C-4C0E11A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4D56-DC59-4085-B1BC-D85250B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2C16-ECBE-42C3-9BF0-EC8A87E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41D3-37A6-4B2E-8294-CF83FE9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8E14-809A-4DFD-8F46-6F711D55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F04F-80FC-4C79-BB1D-5ED3E0A3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12E8-1CD3-40E9-9183-790A9085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7C9-BC50-417C-92FB-81B599F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249E-2909-444B-9276-5483FB4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41B1-BF77-4C5D-9B8B-94516CF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679D-0556-48E7-990D-FEE5C05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D89E-4F84-4D46-AB05-27422D4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3D97-8014-4D66-BD8A-C49C772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6D3B-841F-4CF9-82FE-30827B6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44E7-BC28-4C98-B982-6D619D6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96F7-FDE9-4F2B-8FF1-675563E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1025-78E1-4BD1-B6B0-62658894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17CD-47FF-42DC-BB0D-E1966B92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3FD-92AB-4ED7-8504-B37CBC6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873C-B308-43A0-92D0-2C8D8B80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E684-A10C-40C7-814E-AF42031B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B3E86-50C5-4498-A443-ACDA55D6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9A81-746C-45FB-8EA0-4F2C802E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2B67-B8E1-45C8-8F1F-001A479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9CB5-880C-4969-BBCB-9DEEBC4E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55DB3-00F9-4A3F-873C-ABB17696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E9E6-9C6A-41A9-9C6C-1F8B447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5551-F606-42DB-BD4C-722671C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49D5-65CC-4FA9-8583-ABA8BE3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569-5A1A-4878-8FA9-928A37D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8756-FA73-479A-A75C-39F1AC6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8EF7-66DC-4C74-A86B-1A4C7DB3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6381D-B90A-410A-A2A1-3D271C29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156-AE2C-410E-BF19-C912567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16E-6A1A-4F41-84EF-0F7E1C7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9F9-0510-4B7A-9FD4-B4E6DFAF45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2C57-D61C-48A1-86B5-3584DB2ABA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EE06-5BBE-489C-8EE7-F40AC6FA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25CD-104D-46B3-9814-8B912C3FC4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679B-B042-4277-AEE3-8597B842760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AC5-A976-4BBD-AE10-78D91F3933B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中国魔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3868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rcRect l="675" t="0" r="0" b="4317"/>
          <a:stretch/>
        </p:blipFill>
        <p:spPr>
          <a:xfrm>
            <a:off x="60480" y="0"/>
            <a:ext cx="91198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821920" y="404640"/>
            <a:ext cx="2009160" cy="62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华文行楷"/>
              </a:rPr>
              <a:t>农民老头袁隆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8991720" cy="5791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0" y="404640"/>
            <a:ext cx="828216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亩产超过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800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公斤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697800" cy="6524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81760" y="-481320"/>
            <a:ext cx="789840" cy="77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获联合国粮食安全保障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rcRect l="0" t="0" r="-129" b="20157"/>
          <a:stretch/>
        </p:blipFill>
        <p:spPr>
          <a:xfrm>
            <a:off x="76320" y="990720"/>
            <a:ext cx="7756560" cy="4559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816680" y="3891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隶书"/>
              </a:rPr>
              <a:t>被选为人大代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  <a:ea typeface="隶书"/>
              </a:rPr>
              <a:t>水稻研究的重大意义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国是世界上最大的产稻国之一，水稻种植面积为总播种面积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/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水稻产量占粮食总产量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国际上看，全世界约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/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人以大米为主要粮食，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多个国家种植水稻。——世界意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讨论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533520" y="2122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7"/>
          <p:cNvSpPr/>
          <p:nvPr/>
        </p:nvSpPr>
        <p:spPr>
          <a:xfrm>
            <a:off x="1066680" y="198108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袁隆平研究的杂交水稻为什么能受到国际同行的高度赞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培育杂交水稻最主要的困难是解决异花授粉的问题。为了解决这个问题，袁隆平和他的助手们经过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的选育，用一千多个品种，进行了成千上万组杂交组合试验，终于攻克了杂交水稻这道世界难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培育杂交水稻最主要的困难是什么？如何解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随之而来的一系列的荣誉：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79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，杂交水稻作为中国第一个农业技术专利转让美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79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全国劳动模范称号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8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新中国建国以来第一个国家特等发明奖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3360" y="-360"/>
            <a:ext cx="854064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8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联合国世界知识产权组织“杰出发明家”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金质奖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8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联合国教科文组织颁发的“科学奖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8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英国朗克基金会“朗克基金奖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89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被国务院授予全国先进工作者称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664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9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受聘联合国粮农组织国际首席顾问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9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获得美国菲因斯特拯救饥饿奖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9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被选为中国工程院院士；获联合国粮农组织颁发的“粮食安全保障荣誉奖章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96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获首届“日经亚洲技术开发大奖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99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在墨西哥获得“先驱科学家”荣誉称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0"/>
            <a:ext cx="893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998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年获“日本越光国际水稻奖”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999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年经国际小天体命名委员会批准，中国科学院北京天文台施密特ＣＣＤ小行星项目组发现的一颗小行星为被命名为“袁隆平星”。 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0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日以袁隆平名字命名的袁隆平 农业高科技股份有限公司股票“隆平高科”在深交所上网定价发行。这是中国证券市场首次以科学家名字命名上市公司和股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0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月以袁隆平名字命名的高等院校“袁隆平科技学院”在湖南成立，袁隆平出任名誉院长。这是中国首家以科学家姓名命名的高等院校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24000" y="2133720"/>
            <a:ext cx="631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我培养灵感有四个字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这就是知识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汗水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11120" y="501480"/>
            <a:ext cx="664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00"/>
                </a:solidFill>
                <a:latin typeface="Arial"/>
                <a:ea typeface="隶书"/>
              </a:rPr>
              <a:t>成功的启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中国梦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33520" y="2122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1066680" y="1981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152280" y="158256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01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日，袁隆平接受新华网专访。在访谈中，袁隆平谈到了他的中国梦。他说，我的梦想很简单，我做过两次梦，禾下乘凉梦。我的梦里水稻长得有高粱那么高、子粒有花生米那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袁隆平告诉大家，我的另外一个梦想就是我也希望我的亩产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公斤早日实现，实现了以后还有没有更高的目标呢。我希望培养一些年轻人向更高的一千一、一千二公斤来奋斗。这就是我的梦，为我们国家的粮食安全做出我应有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一、必做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51136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给下面的汉子注音并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瞩      袁       菲      旬      埃      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多音字注音并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难    （      ）  种    （      ）  称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      ）        （      ）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二、选做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210400"/>
            <a:ext cx="7696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写出下列词语的同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培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标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短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写出下列词语的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苦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退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短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96596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三、思维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在取得了杂交水稻的辉煌成就后，袁隆平又向更高的科学领域进军，你知道他又取得了哪些成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请查找资料完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感悟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533520" y="2122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1066680" y="1981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你想对袁隆平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当代神农氏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国农民说，吃饭靠“两平”，一靠邓小平（责任制），二靠袁隆平（杂交稻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方世界称，杂交稻是“东方魔稻”。他的成果不仅在很大程度上解决了中国人的吃饭问题，而且也被认为是解决下个世纪世界性饥饿问题的法宝。国际上甚至把杂交稻当作中国继四大发明之后的第五大发明，誉为“第二次绿色革命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Verdana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、积累文中的近反义词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完成《资源评价》。</a:t>
            </a:r>
            <a:r>
              <a:rPr b="1" lang="en-US" sz="36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、搜集我国其他领域的科研项目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完成《资源评价》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、写出读后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完成《资源评价》。</a:t>
            </a:r>
            <a:r>
              <a:rPr b="1" lang="en-US" sz="36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rcRect l="3816" t="0" r="4008" b="16806"/>
          <a:stretch/>
        </p:blipFill>
        <p:spPr>
          <a:xfrm>
            <a:off x="68400" y="154080"/>
            <a:ext cx="8989920" cy="6084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2195640" y="189000"/>
            <a:ext cx="4475160" cy="36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姚体"/>
              </a:rPr>
              <a:t>再见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华文行楷"/>
              </a:rPr>
              <a:t>一、人  物  简  介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854064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袁隆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祖籍江西德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193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农历七月出生于北平。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95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毕业于西南农学院，８月毕业后分配到湖南省安江农校任教，在长达１９年的教学生涯中，袁隆平一面教学，一面从事生产实践、选择课题进行科学研究，开始走上了作物育种之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232000" cy="256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自学指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33520" y="2122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1066680" y="1981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自由读课文</a:t>
            </a: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读准字音</a:t>
            </a: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把生字带出来的词语画出来。并用自己的话概括课文主要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自学指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533520" y="2122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1066680" y="1981080"/>
            <a:ext cx="746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再读课文</a:t>
            </a: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、“中国魔稻”指的是什么，怎么研究出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、这项科技成果对国家有什么重大的贡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55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认读下列词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举世瞩目     袁隆平   菲律宾             下旬             埃及       贡献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辉煌成就     魔稻        赞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雄蕊             苦恼         奇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9:23:44Z</dcterms:created>
  <dc:creator/>
  <dc:description/>
  <dc:language>en-US</dc:language>
  <cp:lastModifiedBy>F2345.com</cp:lastModifiedBy>
  <dcterms:modified xsi:type="dcterms:W3CDTF">2015-06-30T09:25:18Z</dcterms:modified>
  <cp:revision>3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