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suction.wav" ContentType="audio/x-wav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F5C-079C-49BB-B3C1-E7A11F94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1D0-A99C-447B-91A1-A5A61267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5D2-482B-411D-AC80-A502FAA3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5B9-66C2-465B-ACD4-703BE7BE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BAB-D428-42EC-B84B-EF9E3CD7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D69-8507-4583-8D3F-21C0FE00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797-4DDA-4336-92F5-4539A17B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2F5-E376-4DC6-9850-CC64B3C9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225F-DDC9-4481-AFA0-F3BC280F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221-456C-4106-A2A5-C285E78C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196-7A1D-4186-846C-FA56360E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7D0-A333-4DEA-8491-26D33F4B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FF30-19A5-4B85-8CED-A62644B84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E1%CA&#1397;%C4%CC%EF&#1200;&amp;in=30402&amp;cl=2&amp;cm=1&amp;sc=0&amp;lm=-1&amp;pn=7&amp;rn=1&amp;di=9987031080&amp;ln=2000&amp;fr=&amp;ic=0&amp;s=0&amp;se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.baidu.com/i?ct=503316480&amp;z=0&amp;tn=baiduimagedetail&amp;word=%B3%C9%CA%EC%B5&#313;%FB&#1328;&amp;in=3154&amp;cl=2&amp;cm=1&amp;sc=0&amp;lm=-1&amp;pn=3&amp;rn=1&amp;di=6032180460&amp;ln=295&amp;fr=&amp;ic=0&amp;s=0&amp;se=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.baidu.com/i?ct=503316480&amp;z=0&amp;tn=baiduimagedetail&amp;word=%C3&#1783;%E4%D3%EB%CF&#699;%A8&amp;in=32427&amp;cl=2&amp;cm=1&amp;sc=0&amp;lm=-1&amp;pn=12&amp;rn=1&amp;di=2873648550&amp;ln=435&amp;fr=&amp;ic=0&amp;s=0&amp;se=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.baidu.com/i?ct=503316480&amp;z=0&amp;tn=baiduimagedetail&amp;word=%C3&#1783;%E4%D3&#48872;&amp;in=6586&amp;cl=2&amp;cm=1&amp;sc=0&amp;lm=-1&amp;pn=18&amp;rn=1&amp;di=4689030915&amp;ln=1223&amp;fr=&amp;ic=0&amp;s=0&amp;se=1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7xxw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59280" y="2924280"/>
            <a:ext cx="3309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种子的梦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2" name="Picture 6" descr="MCj01932200000[1]"/>
          <p:cNvPicPr/>
          <p:nvPr/>
        </p:nvPicPr>
        <p:blipFill>
          <a:blip r:embed="rId1"/>
          <a:stretch/>
        </p:blipFill>
        <p:spPr>
          <a:xfrm>
            <a:off x="0" y="189000"/>
            <a:ext cx="2592360" cy="2428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484360" y="1197000"/>
            <a:ext cx="68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北师大版 五年级 语文 下册 第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68360" y="191628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紧紧抓住梦想吧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如果梦想熄灭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那生命就像折翼的鸟儿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再也不能飞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        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 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兰斯顿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休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3860640"/>
            <a:ext cx="820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梦想无论怎样模糊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总潜伏在我们心底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使我们的心境永远得不到宁静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直到这些梦想成为事实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林语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拓展学习"/>
          <p:cNvPicPr/>
          <p:nvPr/>
        </p:nvPicPr>
        <p:blipFill>
          <a:blip r:embed="rId1"/>
          <a:stretch/>
        </p:blipFill>
        <p:spPr>
          <a:xfrm>
            <a:off x="428760" y="1285920"/>
            <a:ext cx="2303280" cy="5698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00"/>
                </a:solidFill>
                <a:latin typeface="Arial"/>
              </a:rPr>
              <a:t>强化训练当堂达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摘抄文中的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比喻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—————————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拟人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—————————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下节课预习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你的梦想是什么？在实现梦想过程中遇到困难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（提示：遇到困难要坚信明天会更好，要为实现自己的梦想而努力奋斗。有能力的同学试着把自己的梦想写成小诗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84360" y="20228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建议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，找到你最有感触的小节；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细读，读出鲜活的画面。读出你最独特的感受；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诵读，传达你的情感给同桌听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孩子们带着这些学习建议，认真学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-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u=4202369826,3075774167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36511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u=133625238,658190516&amp;fm=0&amp;gp=0">
            <a:hlinkClick r:id="rId3"/>
          </p:cNvPr>
          <p:cNvPicPr/>
          <p:nvPr/>
        </p:nvPicPr>
        <p:blipFill>
          <a:blip r:embed="rId4"/>
          <a:srcRect l="0" t="0" r="29401" b="4145"/>
          <a:stretch/>
        </p:blipFill>
        <p:spPr>
          <a:xfrm>
            <a:off x="4932360" y="44280"/>
            <a:ext cx="35067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u=2816762886,1757621095&amp;fm=0&amp;gp=0">
            <a:hlinkClick r:id="rId5"/>
          </p:cNvPr>
          <p:cNvPicPr/>
          <p:nvPr/>
        </p:nvPicPr>
        <p:blipFill>
          <a:blip r:embed="rId6"/>
          <a:srcRect l="0" t="0" r="-648" b="9655"/>
          <a:stretch/>
        </p:blipFill>
        <p:spPr>
          <a:xfrm>
            <a:off x="108000" y="3429000"/>
            <a:ext cx="4095720" cy="294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u=2209773653,2003542650&amp;fm=0&amp;gp=0">
            <a:hlinkClick r:id="rId7"/>
          </p:cNvPr>
          <p:cNvPicPr/>
          <p:nvPr/>
        </p:nvPicPr>
        <p:blipFill>
          <a:blip r:embed="rId8"/>
          <a:srcRect l="8072" t="2646" r="14039" b="16550"/>
          <a:stretch/>
        </p:blipFill>
        <p:spPr>
          <a:xfrm>
            <a:off x="5003640" y="3519360"/>
            <a:ext cx="3467160" cy="27673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276720" y="1484280"/>
            <a:ext cx="45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Courier New"/>
                <a:ea typeface="仿宋_GB2312"/>
              </a:rPr>
              <a:t>种子在风儿的帮助下，繁殖后代，让明年的春天更美丽</a:t>
            </a:r>
            <a:r>
              <a:rPr b="1" lang="en-US" sz="3200" spc="-1" strike="noStrike">
                <a:solidFill>
                  <a:srgbClr val="008000"/>
                </a:solidFill>
                <a:latin typeface="Courier New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Courier New"/>
                <a:ea typeface="仿宋_GB2312"/>
              </a:rPr>
              <a:t>他对风儿一定非常感谢，对未来又充满期待，谁能读出这份感恩、这份期待。</a:t>
            </a:r>
            <a:r>
              <a:rPr b="1" lang="zh-CN" sz="2800" spc="-1" strike="noStrike">
                <a:solidFill>
                  <a:srgbClr val="008000"/>
                </a:solidFill>
                <a:latin typeface="Courier New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小女孩"/>
          <p:cNvPicPr/>
          <p:nvPr/>
        </p:nvPicPr>
        <p:blipFill>
          <a:blip r:embed="rId1"/>
          <a:stretch/>
        </p:blipFill>
        <p:spPr>
          <a:xfrm>
            <a:off x="1042920" y="2997360"/>
            <a:ext cx="1967040" cy="3279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33280" cy="5443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826920" y="2276640"/>
            <a:ext cx="79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冰冷的世纪，土层的压力，冰雪的妒忌，象三座大山一样压在种子的头上，这么多的困难，实现自己的梦想的难度是可想而知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258920" y="206064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到底是一颗怎样的种子呀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258920" y="299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坚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404720" y="364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勇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548720" y="4437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知难而进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546920" y="508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伟大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细读感悟"/>
          <p:cNvPicPr/>
          <p:nvPr/>
        </p:nvPicPr>
        <p:blipFill>
          <a:blip r:embed="rId1"/>
          <a:stretch/>
        </p:blipFill>
        <p:spPr>
          <a:xfrm>
            <a:off x="684360" y="1052640"/>
            <a:ext cx="2033280" cy="5443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识提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冰冷冰冷的世纪有几层含义？谈一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你认为文中还有哪些词语有双层含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本文在写作上最大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84360" y="20228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建议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，找到你最有感触的小节；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细读，读出鲜活的画面。读出你最独特的感受；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诵读，传达你的情感给同桌听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孩子们带着这些学习建议，认真学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-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问题指向预习先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吮吸    积攒    酿造    憩睡    躯壳    絮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倾心    滋润    娇嫩    缓缓     融化    盟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许诺    褐色    腰肢    辽阔    妒忌    稚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suctio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词语意思我知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憩睡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躯壳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孕育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吮吸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积攒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絮语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盟誓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倾心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滋润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妒忌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词语意思我知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憩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休息，睡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躯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身体表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孕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意怀胎生育，也指蕴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吮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聚拢嘴唇来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积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积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絮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语小声的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盟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立下誓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倾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全身心的全部付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滋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增添水分，使不干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妒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别人比自己好而憎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857680" y="1125360"/>
            <a:ext cx="581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柯岩，女，满族，当代儿童文学作家，女诗人。原名冯恺，原籍广东南海，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29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生于河南郑州。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49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起，先后在中国青年艺术剧院、中国儿童艺术剧院任专职编剧，曾任中国作家协会书记处书记，现为中国作家协会专职驻会作家，兼任多种刊物编委或顾问及一些高校的客座教授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7c9ca3fe9c0e9d17d1e71cc"/>
          <p:cNvPicPr/>
          <p:nvPr/>
        </p:nvPicPr>
        <p:blipFill>
          <a:blip r:embed="rId1"/>
          <a:stretch/>
        </p:blipFill>
        <p:spPr>
          <a:xfrm>
            <a:off x="1044720" y="1341360"/>
            <a:ext cx="1904760" cy="280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创设情境"/>
          <p:cNvPicPr/>
          <p:nvPr/>
        </p:nvPicPr>
        <p:blipFill>
          <a:blip r:embed="rId2"/>
          <a:stretch/>
        </p:blipFill>
        <p:spPr>
          <a:xfrm>
            <a:off x="324000" y="476280"/>
            <a:ext cx="2074680" cy="569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14200" y="3085200"/>
            <a:ext cx="84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97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中华大地上经历了一场浩劫，历史上称为“文化大革命”。在那个黑白颠倒的年代，那些丧失理智的人以“破四旧”的名义肆意地破坏文物、焚烧图书。看，清华大学牌坊上的“清华园”的题字被砸；故宫被改名为“血泪宫”；刘少奇、邓小平等国家领导人被诬蔑、被打倒。知识分子也不能幸免遇难。不少文化名人被凌辱迫害致死。其中就有我们熟悉的作家老舍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95280" y="476280"/>
            <a:ext cx="820908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时诗人柯岩与同为作家的丈夫贺敬之一起被关入“牛棚”，不仅被迫停止了写作，还撇下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的女儿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的儿子。一家人都被无情的推入生活的惊涛骇浪之中。在那些黑暗的岁月里，柯岩一家住在小小的黑房子里，但是他们心里的希望，像朝阳一样越升越高。他们彼此支持着、搀扶着、鼓励着，跋涉过苦难的、没有真理的日子，终于看到了黎明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子的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反映了作者那个时期的生活现状和精神状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403280" y="3213000"/>
            <a:ext cx="6265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种子的梦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请大家阅读课文并思考这个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阅读质疑"/>
          <p:cNvPicPr/>
          <p:nvPr/>
        </p:nvPicPr>
        <p:blipFill>
          <a:blip r:embed="rId1"/>
          <a:stretch/>
        </p:blipFill>
        <p:spPr>
          <a:xfrm>
            <a:off x="468360" y="189000"/>
            <a:ext cx="2962080" cy="168588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3276720" y="2060640"/>
            <a:ext cx="2589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种子的梦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呈现目标任务导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26920" y="206064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种子的梦是长出两片绿油油的叶子，是开出鲜艳的花朵，是长出累累果实，是让明年的春天更美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创设情境"/>
          <p:cNvPicPr/>
          <p:nvPr/>
        </p:nvPicPr>
        <p:blipFill>
          <a:blip r:embed="rId1"/>
          <a:stretch/>
        </p:blipFill>
        <p:spPr>
          <a:xfrm>
            <a:off x="324000" y="476280"/>
            <a:ext cx="2074680" cy="56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20071023112843445_2"/>
          <p:cNvPicPr/>
          <p:nvPr/>
        </p:nvPicPr>
        <p:blipFill>
          <a:blip r:embed="rId2"/>
          <a:stretch/>
        </p:blipFill>
        <p:spPr>
          <a:xfrm>
            <a:off x="3635280" y="765000"/>
            <a:ext cx="5094360" cy="54007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8:12:56Z</dcterms:created>
  <dc:creator>Administrator</dc:creator>
  <dc:description/>
  <dc:language>en-US</dc:language>
  <cp:lastModifiedBy/>
  <dcterms:modified xsi:type="dcterms:W3CDTF">2015-07-28T01:42:37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